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8854-6BD3-432E-A57F-0BE4DCE9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DA9-181C-4E1F-BA06-E17E0B43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2CE-C29E-4BC0-B2BF-B774F88E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878-D214-49D3-8B73-92AAC0A3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3442-14CA-433C-BFA6-0736657A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E58-07F1-437F-94BD-984FEFE1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9757-01F7-403B-B08B-B7EBF1F1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510-180B-4727-9627-53672352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309-B84E-4207-8921-7130052F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908-4837-4074-AEC2-0CE25EC1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8974-1868-4947-B948-D501A53D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427-AB5E-4D1D-82EC-C921B537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4B2B-AB7B-4275-9E17-77FACC00B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laves para la demost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l monopolista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nunca operará de manera voluntaria donde el IMg es negativo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, porque tiene la posibilidad de reducir la producción, aumentando sus ingresos y gananci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n la ecuación vista arriba, esto significa que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el monopolista nunca operará en la parte inelástica de la curva de demand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rva de oferta del monopolio: con una curva de mercado fija, la ‘curva’ de oferta del monopolio será sólo un punto, el correspondiente a la cantidad en que IMg = CM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uede darse que dos curvas de demanda den origen a distintas cantidades ofrecidas y un solo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or lo anterior, se dice qu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 monopolio no tiene curva de ofert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, definida como el precio mínimo al cual se ofrecerá una cantidad determi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upondremos que el objetivo del monopolista es la maximización de gana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 diferencia del caso perfectamente competitivo, el monopolista debe decidir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a combinación de precio y cantidad que maximiza las gana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Igual que en CP, hay dos formas de encontrar el nivel de producción que maximiza ganancias: (i) maximizar la difirencia entre ingresos y costos totales y (ii) IMg = CM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Si la empresa produce más que lo establecido por la relación (ii), las ganancias totales disminuyen, porque por cada unidad adicional vendida, los costos aumentan más que los ingres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 preci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que cobra el monopolio viene dado por la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posición a pagar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de los consumidores por las unidades produc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resumen: (i) encontrar el q donde IMg = CMg; (ii) curva de demanda determina el precio a cobrar por esas un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4. Comparación M-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bien existen otras dimensiones en que se pueden comparar M-CP, lo haremos en términos de cantidad producida y precio cobr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eteris paribus,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 monopolización de una industria perfectamente competitiva restringe la producción y aumenta el preci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4. Comparación M-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16765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5181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133720"/>
            <a:ext cx="35053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2133720"/>
            <a:ext cx="198108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3809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2895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3657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5683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27432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5181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52261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Q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3657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219320"/>
            <a:ext cx="83818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Temas: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Definición y Orige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Curva de demanda que enfrenta y oferta del monopolio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4. Comparación M-C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Otro caso extremo de estructura de mercado corresponde al monopolio p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finiremos monopolio como un único  vendedor de un bien determinado para el cual no existen buenos sustitu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 este punto surge una diferencia importante respecto a la CP: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 monopolio enfrenta la curva de demanda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 razón para la existencia de los mercados monopolísticos es que las demás empresas encuentran poco rentable o imposible entrar al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rreras a la entrad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constituyen la fuente de todo poder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las demás empresas pudieran entrar al mercado, por definición, ya no habría monopol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xisten dos tipos de barreras a la entrada: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s barreras técnicas y las barreras leg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a de las principales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rreras técnic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a la entrada es que la producción del bien presente un costo medio decreciente (Por ej. por elevado CF en empresas de telecomunicaciones, luz, agu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o anterior implica que las empresas que operan a mayor escala son más eficientes que las de menor tamañ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o este monopolio surge naturalmente de la tecnología de producción, se denomina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polio na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tras bases técnicas del monopolio son el conocimiento de un método de producción de bajo costo o la propiedad de recursos únicos (depósitos minerales o terren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uchos monopolios se crean por razones legales, como por ejemplo las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ent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fundamento del sistema de patentes es que hace más rentable la innovación y con ello estimula el progreso téc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n embargo, se debe evaluar si los beneficios de la innovación superan el costo de la creación del monopol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segundo ejemplo de monopolio creado legalmente es el otorgamiento de una franquicia o licencia exclusiva para atender a un mercado. (Ver Documento Entreg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algunos casos se plantea que estas restricciones son necesarias para garantizar normas de calidad o para evitar el dañ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abitualmente se dice que un monopolio enfrenta una curva inelástica, pero esto no se desprende de la definición de monopol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e acuerdo a la ley de la demanda, el monopolista enfrenta una curva de demanda tiene una elasticidad variable que va desde (-) infinito a c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666880" y="17524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9528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133720"/>
            <a:ext cx="289584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2133720"/>
            <a:ext cx="16002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114800" y="3581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191120" y="3276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029200" y="39621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429000" y="25905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20574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–inf y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2819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35654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–1 y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4967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5257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1523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 posible demostrar la siguiente relación entre la elasticidad precio de la demanda y el ingreso margi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Mg = P(1 + 1/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el caso de CP, veíamos que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 inf. Por lo que el IMg es igual a 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0:03:43Z</dcterms:created>
  <dc:creator> </dc:creator>
  <dc:description/>
  <dc:language>en-US</dc:language>
  <cp:lastModifiedBy> </cp:lastModifiedBy>
  <dcterms:modified xsi:type="dcterms:W3CDTF">2006-05-15T01:48:31Z</dcterms:modified>
  <cp:revision>12</cp:revision>
  <dc:subject/>
  <dc:title>Microeconomía Clase 21</dc:title>
</cp:coreProperties>
</file>