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A85-9DC5-44FD-B4DF-7EFD7CE3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667-D65C-4757-89EF-46962AF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F16-6628-499C-A712-CA01FFA7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4A6-A81E-4007-B028-53494E8A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7CD-5357-4874-9238-378212DB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40B-8D35-416E-86DD-16D49EB4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05C-1649-49E4-AB9C-CF6CCDF1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18F-3D3A-42BB-98B9-C8ADCF02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4E0-878B-4AF0-B219-FBAB3BC6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7A3-090D-4C0B-B759-1BD6A4EF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952-2336-4AC5-BB2D-B366846E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0C2-44BC-47FC-A4A2-DFB9F62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2D85-9592-4F3F-AE3E-2C12FE5EB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laves para la demo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l monopolist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nca operará de manera voluntaria donde el IMg es negativ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, porque tiene la posibilidad de reducir la producción, aumentando sus ingresos y gananc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n la ecuación vista arriba, esto significa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sta nunca operará en la parte inelástica de la curva de deman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rva de oferta del monopolio: con una curva de mercado fija, la ‘curva’ de oferta del monopolio será sólo un punto, el correspondiente a la cantidad en que IMg = C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ede darse que dos curvas de demanda den origen a distintas cantidades ofrecidas y un solo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r lo anterior, se dice qu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no tiene curva de ofer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ida como el precio mínimo al cual se ofrecerá una cant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ondremos que el objetivo del monopolista es la maximización de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diferencia del caso perfectamente competitivo, el monopolista debe decidir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a combinación de precio y cantidad que maximiza las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gual que en CP, hay dos formas de encontrar el nivel de producción que maximiza ganancias: (i) maximizar la difirencia entre ingresos y costos totales y (ii) IMg = CM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 la empresa produce más que lo establecido por la relación (ii), las ganancias totales disminuyen, porque por cada unidad adicional vendida, los costos aumentan más que los ingres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que cobra el monopolio viene dado por l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posición a pag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consumidores por las unidades produ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resumen: (i) encontrar el q donde IMg = CMg; (ii) curva de demanda determina el precio a cobrar por es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xisten otras dimensiones en que se pueden comparar M-CP, lo haremos en términos de cantidad producida y precio cob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eteris paribus,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monopolización de una industria perfectamente competitiva restringe la producción y aumenta 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8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133720"/>
            <a:ext cx="35053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133720"/>
            <a:ext cx="19810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743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81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226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381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Definición y Ori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Curva de demanda que enfrenta y oferta del monopoli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tro caso extremo de estructura de mercado corresponde al monopolio p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emos monopolio como un único  vendedor de un bien determinado para el cual no existen buenos sustit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 este punto surge una diferencia importante respecto a la CP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enfrenta la curva de demanda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razón para la existencia de los mercados monopolísticos es que las demás empresas encuentran poco rentable o imposible entrar a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reras a la entrad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onstituyen la fuente de todo pode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demás empresas pudieran entrar al mercado, por definición, ya no habría monop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isten dos tipos de barreras a la entrada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 barreras técnicas y las barreras leg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de las principale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 técn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la entrada es que la producción del bien presente un costo medio decreciente (Por ej. por elevado CF en empresas de telecomunicaciones, luz,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anterior implica que las empresas que operan a mayor escala son más eficientes que las de menor tam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este monopolio surge naturalmente de la tecnología de producción, se denomin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poli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tras bases técnicas del monopolio son el conocimiento de un método de producción de bajo costo o la propiedad de recursos únicos (depósitos minerales o terren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chos monopolios se crean por razones legales, como por ejemplo la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fundamento del sistema de patentes es que hace más rentable la innovación y con ello estimula el progreso téc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n embargo, se debe evaluar si los beneficios de la innovación superan el costo de la creación del monopo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egundo ejemplo de monopolio creado legalmente es el otorgamiento de una franquicia o licencia exclusiva para atender a un mercado. (Ver Documento Entreg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lgunos casos se plantea que estas restricciones son necesarias para garantizar normas de calidad o para evitar el dañ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abitualmente se dice que un monopolio enfrenta una curva inelástica, pero esto no se desprende de la definición de monop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 acuerdo a la ley de la demanda, el monopolista enfrenta una curva de demanda tiene una elasticidad variable que va desde (-) infinito a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133720"/>
            <a:ext cx="289584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13372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3276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962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590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057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inf 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565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1 y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9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posible demostrar la siguiente relación entre la elasticidad precio de la demanda y el ingreso mar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g = P(1 + 1/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caso de CP, veíamos qu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inf. Por lo que el IMg es igual a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0:03:43Z</dcterms:created>
  <dc:creator> </dc:creator>
  <dc:description/>
  <dc:language>en-US</dc:language>
  <cp:lastModifiedBy> </cp:lastModifiedBy>
  <dcterms:modified xsi:type="dcterms:W3CDTF">2006-05-15T01:48:31Z</dcterms:modified>
  <cp:revision>12</cp:revision>
  <dc:subject/>
  <dc:title>Microeconomía Clase 21</dc:title>
</cp:coreProperties>
</file>