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2168-EF6D-42A1-8C63-F99ECCB4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0189-927D-4042-91E5-B65712E9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A154-E14B-4D08-B23C-1C9CFAAA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F87A-AF7A-4CEB-ACAC-BC19648D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8ECC-0345-46D9-9B2C-3423B8D2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E1C3-0544-4DC7-B8EE-37CFF88B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FA3-6A0D-4026-9D85-0F867DDA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6320-1747-4A6B-AAF5-258429AC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9D9F-D6DA-4586-B2D0-359C78D5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624-648A-4DAA-808C-5A18C7B1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CB2E-5171-445F-A631-DA00A291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60F-0C88-4DEE-8BDE-AEA3BEE7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6698-F6C1-43EA-9841-0B9C6BBB8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laves para la demost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l monopolista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Times New Roman"/>
              </a:rPr>
              <a:t>nunca operará de manera voluntaria donde el IMg es negativo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, porque tiene la posibilidad de reducir la producción, aumentando sus ingresos y gananci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n la ecuación vista arriba, esto significa que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Times New Roman"/>
              </a:rPr>
              <a:t>el monopolista nunca operará en la parte inelástica de la curva de demand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Curva de oferta del monopolio: con una curva de mercado fija, la ‘curva’ de oferta del monopolio será sólo un punto, el correspondiente a la cantidad en que IMg = CM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uede darse que dos curvas de demanda den origen a distintas cantidades ofrecidas y un solo pre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Por lo anterior, se dice que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 monopolio no tiene curva de ofert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, definida como el precio mínimo al cual se ofrecerá una cantidad determin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upondremos que el objetivo del monopolista es la maximización de gana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A diferencia del caso perfectamente competitivo, el monopolista debe decidir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una combinación de precio y cantidad que maximiza las gananc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Igual que en CP, hay dos formas de encontrar el nivel de producción que maximiza ganancias: (i) maximizar la difirencia entre ingresos y costos totales y (ii) IMg = CM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Si la empresa produce más que lo establecido por la relación (ii), las ganancias totales disminuyen, porque por cada unidad adicional vendida, los costos aumentan más que los ingres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 preci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que cobra el monopolio viene dado por la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posición a pagar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de los consumidores por las unidades produci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resumen: (i) encontrar el q donde IMg = CMg; (ii) curva de demanda determina el precio a cobrar por esas un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4. Comparación M-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 bien existen otras dimensiones en que se pueden comparar M-CP, lo haremos en términos de cantidad producida y precio cobr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eteris paribus,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 monopolización de una industria perfectamente competitiva restringe la producción y aumenta el preci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4. Comparación M-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743200" y="1676520"/>
            <a:ext cx="0" cy="35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51814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133720"/>
            <a:ext cx="350532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2133720"/>
            <a:ext cx="1981080" cy="35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3809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28954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3809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3657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56833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27432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5181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Q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24280" y="52261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Q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3657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219320"/>
            <a:ext cx="83818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Temas: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Definición y Orige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Curva de demanda que enfrenta y oferta del monopolio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3. Equilibrio de corto plazo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imes New Roman"/>
              </a:rPr>
              <a:t>4. Comparación M-CP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5000"/>
              </a:lnSpc>
              <a:spcBef>
                <a:spcPts val="1899"/>
              </a:spcBef>
              <a:spcAft>
                <a:spcPts val="18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Otro caso extremo de estructura de mercado corresponde al monopolio p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efiniremos monopolio como un único  vendedor de un bien determinado para el cual no existen buenos sustitu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De este punto surge una diferencia importante respecto a la CP: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el monopolio enfrenta la curva de demanda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 razón para la existencia de los mercados monopolísticos es que las demás empresas encuentran poco rentable o imposible entrar al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rreras a la entrada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constituyen la fuente de todo poder de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Si las demás empresas pudieran entrar al mercado, por definición, ya no habría monopol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xisten dos tipos de barreras a la entrada: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s barreras técnicas y las barreras leg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a de las principales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rreras técnica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a la entrada es que la producción del bien presente un costo medio decreciente (Por ej. por elevado CF en empresas de telecomunicaciones, luz, agu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o anterior implica que las empresas que operan a mayor escala son más eficientes que las de menor tamañ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mo este monopolio surge naturalmente de la tecnología de producción, se denomina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opolio na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tras bases técnicas del monopolio son el conocimiento de un método de producción de bajo costo o la propiedad de recursos únicos (depósitos minerales o terren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1. Monopol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uchos monopolios se crean por razones legales, como por ejemplo las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ent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 fundamento del sistema de patentes es que hace más rentable la innovación y con ello estimula el progreso téc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n embargo, se debe evaluar si los beneficios de la innovación superan el costo de la creación del monopol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n segundo ejemplo de monopolio creado legalmente es el otorgamiento de una franquicia o licencia exclusiva para atender a un mercado. (Ver Documento Entreg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algunos casos se plantea que estas restricciones son necesarias para garantizar normas de calidad o para evitar el dañ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Habitualmente se dice que un monopolio enfrenta una curva inelástica, pero esto no se desprende de la definición de monopol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e acuerdo a la ley de la demanda, el monopolista enfrenta una curva de demanda tiene una elasticidad variable que va desde (-) infinito a ce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666880" y="17524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49528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133720"/>
            <a:ext cx="2895840" cy="281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2133720"/>
            <a:ext cx="160020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114800" y="3581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191120" y="32763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029200" y="39621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429000" y="259056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52680" y="20574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–inf y 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91120" y="28195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35654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 –1 y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05720" y="4967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52578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1523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2. Curva de dem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 posible demostrar la siguiente relación entre la elasticidad precio de la demanda y el ingreso margi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IMg = P(1 + 1/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el caso de CP, veíamos que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 inf. Por lo que el IMg es igual a 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0:03:43Z</dcterms:created>
  <dc:creator> </dc:creator>
  <dc:description/>
  <dc:language>en-US</dc:language>
  <cp:lastModifiedBy> </cp:lastModifiedBy>
  <dcterms:modified xsi:type="dcterms:W3CDTF">2006-05-15T01:48:31Z</dcterms:modified>
  <cp:revision>12</cp:revision>
  <dc:subject/>
  <dc:title>Microeconomía Clase 21</dc:title>
</cp:coreProperties>
</file>