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08AA-A2CE-4F99-A873-02F4D47F8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8188-EB84-47CE-B874-0B0EB93DC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EC10-BF87-461C-AD37-981F10A4C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9854-DC7B-4390-B8F3-BB7453B11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D587-7E0C-4892-AB58-68C2FA364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3A39-9460-48BD-AB97-665F73881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CD29-68C4-462C-945E-64534C69C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D66A-15AE-47BA-B077-527608193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F907-681D-46A9-B65A-7B976E6A2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D69D-D3B7-44C0-AB60-E5A326C04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4C4E-250E-4479-8866-4CFA61196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047E-0336-4291-B342-D386F6586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43276-38C1-422A-9EF9-4065CB06A0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Microeconomía</a:t>
            </a:r>
            <a:br>
              <a:rPr sz="4400"/>
            </a:b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Clase 1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2. Curva de deman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Claves para la demostr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2. Curva de deman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El monopolista </a:t>
            </a:r>
            <a:r>
              <a:rPr b="0" lang="es-MX" sz="3600" spc="-1" strike="noStrike" u="sng">
                <a:solidFill>
                  <a:srgbClr val="000000"/>
                </a:solidFill>
                <a:uFillTx/>
                <a:latin typeface="Times New Roman"/>
              </a:rPr>
              <a:t>nunca operará de manera voluntaria donde el IMg es negativo</a:t>
            </a: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, porque tiene la posibilidad de reducir la producción, aumentando sus ingresos y ganancia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En la ecuación vista arriba, esto significa que </a:t>
            </a:r>
            <a:r>
              <a:rPr b="0" lang="es-MX" sz="3600" spc="-1" strike="noStrike" u="sng">
                <a:solidFill>
                  <a:srgbClr val="000000"/>
                </a:solidFill>
                <a:uFillTx/>
                <a:latin typeface="Times New Roman"/>
              </a:rPr>
              <a:t>el monopolista nunca operará en la parte inelástica de la curva de demanda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2. Curva de deman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51920" y="137160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Curva de oferta del monopolio: con una curva de mercado fija, la ‘curva’ de oferta del monopolio será sólo un punto, el correspondiente a la cantidad en que IMg = CM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Puede darse que dos curvas de demanda den origen a distintas cantidades ofrecidas y un solo prec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Por lo anterior, se dice que </a:t>
            </a:r>
            <a:r>
              <a:rPr b="0" lang="es-MX" sz="2800" spc="-1" strike="noStrike" u="sng">
                <a:solidFill>
                  <a:srgbClr val="000000"/>
                </a:solidFill>
                <a:uFillTx/>
                <a:latin typeface="Times New Roman"/>
              </a:rPr>
              <a:t>el monopolio no tiene curva de oferta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, definida como el precio mínimo al cual se ofrecerá una cantidad determina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3. Equilibrio de Corto Plaz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Supondremos que el objetivo del monopolista es la maximización de gananci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A diferencia del caso perfectamente competitivo, el monopolista debe decidir </a:t>
            </a:r>
            <a:r>
              <a:rPr b="0" lang="es-MX" sz="3200" spc="-1" strike="noStrike" u="sng">
                <a:solidFill>
                  <a:srgbClr val="000000"/>
                </a:solidFill>
                <a:uFillTx/>
                <a:latin typeface="Times New Roman"/>
              </a:rPr>
              <a:t>una combinación de precio y cantidad que maximiza las gananci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3. Equilibrio de Corto Plaz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1920" y="10666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3000" spc="-1" strike="noStrike">
                <a:solidFill>
                  <a:srgbClr val="000000"/>
                </a:solidFill>
                <a:latin typeface="Times New Roman"/>
              </a:rPr>
              <a:t>Igual que en CP, hay dos formas de encontrar el nivel de producción que maximiza ganancias: (i) maximizar la difirencia entre ingresos y costos totales y (ii) IMg = CMg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3000" spc="-1" strike="noStrike">
                <a:solidFill>
                  <a:srgbClr val="000000"/>
                </a:solidFill>
                <a:latin typeface="Times New Roman"/>
              </a:rPr>
              <a:t>Si la empresa produce más que lo establecido por la relación (ii), las ganancias totales disminuyen, porque por cada unidad adicional vendida, los costos aumentan más que los ingreso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3. Equilibrio de Corto Plaz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3200" spc="-1" strike="noStrike" u="sng">
                <a:solidFill>
                  <a:srgbClr val="000000"/>
                </a:solidFill>
                <a:uFillTx/>
                <a:latin typeface="Times New Roman"/>
              </a:rPr>
              <a:t>El precio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que cobra el monopolio viene dado por la </a:t>
            </a:r>
            <a:r>
              <a:rPr b="0" lang="es-MX" sz="3200" spc="-1" strike="noStrike" u="sng">
                <a:solidFill>
                  <a:srgbClr val="000000"/>
                </a:solidFill>
                <a:uFillTx/>
                <a:latin typeface="Times New Roman"/>
              </a:rPr>
              <a:t>disposición a pagar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de los consumidores por las unidades producid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En resumen: (i) encontrar el q donde IMg = CMg; (ii) curva de demanda determina el precio a cobrar por esas unida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4. Comparación M-C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Si bien existen otras dimensiones en que se pueden comparar M-CP, lo haremos en términos de cantidad producida y precio cobra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Ceteris paribus, </a:t>
            </a:r>
            <a:r>
              <a:rPr b="0" lang="es-MX" sz="3200" spc="-1" strike="noStrike" u="sng">
                <a:solidFill>
                  <a:srgbClr val="000000"/>
                </a:solidFill>
                <a:uFillTx/>
                <a:latin typeface="Times New Roman"/>
              </a:rPr>
              <a:t>la monopolización de una industria perfectamente competitiva restringe la producción y aumenta el precio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4. Comparación M-C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2743200" y="1676520"/>
            <a:ext cx="0" cy="3504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743200" y="518148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743200" y="2133720"/>
            <a:ext cx="350532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743200" y="2133720"/>
            <a:ext cx="1981080" cy="3504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743200" y="380988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657600" y="289548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76920" y="38098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629400" y="36576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648320" y="56833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IM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133720" y="274320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P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429000" y="518148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Q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724280" y="522612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Q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09680" y="36576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743200" y="28954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Monopol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1219320"/>
            <a:ext cx="838188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75000"/>
              </a:lnSpc>
              <a:spcBef>
                <a:spcPts val="1899"/>
              </a:spcBef>
              <a:spcAft>
                <a:spcPts val="18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Times New Roman"/>
              </a:rPr>
              <a:t>Temas: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5000"/>
              </a:lnSpc>
              <a:spcBef>
                <a:spcPts val="1899"/>
              </a:spcBef>
              <a:spcAft>
                <a:spcPts val="1899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Times New Roman"/>
              </a:rPr>
              <a:t>Definición y Origen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5000"/>
              </a:lnSpc>
              <a:spcBef>
                <a:spcPts val="1899"/>
              </a:spcBef>
              <a:spcAft>
                <a:spcPts val="1899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Times New Roman"/>
              </a:rPr>
              <a:t>Curva de demanda que enfrenta y oferta del monopolio.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5000"/>
              </a:lnSpc>
              <a:spcBef>
                <a:spcPts val="1899"/>
              </a:spcBef>
              <a:spcAft>
                <a:spcPts val="18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Times New Roman"/>
              </a:rPr>
              <a:t>3. Equilibrio de corto plazo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5000"/>
              </a:lnSpc>
              <a:spcBef>
                <a:spcPts val="1899"/>
              </a:spcBef>
              <a:spcAft>
                <a:spcPts val="18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Times New Roman"/>
              </a:rPr>
              <a:t>4. Comparación M-CP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5000"/>
              </a:lnSpc>
              <a:spcBef>
                <a:spcPts val="1899"/>
              </a:spcBef>
              <a:spcAft>
                <a:spcPts val="18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1. Monopol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Otro caso extremo de estructura de mercado corresponde al monopolio pur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Definiremos monopolio como un único  vendedor de un bien determinado para el cual no existen buenos sustitut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De este punto surge una diferencia importante respecto a la CP: </a:t>
            </a:r>
            <a:r>
              <a:rPr b="0" lang="es-MX" sz="2800" spc="-1" strike="noStrike" u="sng">
                <a:solidFill>
                  <a:srgbClr val="000000"/>
                </a:solidFill>
                <a:uFillTx/>
                <a:latin typeface="Times New Roman"/>
              </a:rPr>
              <a:t>el monopolio enfrenta la curva de demanda de merc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1. Monopol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La razón para la existencia de los mercados monopolísticos es que las demás empresas encuentran poco rentable o imposible entrar al merc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Las </a:t>
            </a:r>
            <a:r>
              <a:rPr b="0" lang="es-MX" sz="2800" spc="-1" strike="noStrike" u="sng">
                <a:solidFill>
                  <a:srgbClr val="000000"/>
                </a:solidFill>
                <a:uFillTx/>
                <a:latin typeface="Times New Roman"/>
              </a:rPr>
              <a:t>barreras a la entrada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 constituyen la fuente de todo poder de merc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Si las demás empresas pudieran entrar al mercado, por definición, ya no habría monopol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Existen dos tipos de barreras a la entrada: </a:t>
            </a:r>
            <a:r>
              <a:rPr b="0" lang="es-MX" sz="2800" spc="-1" strike="noStrike" u="sng">
                <a:solidFill>
                  <a:srgbClr val="000000"/>
                </a:solidFill>
                <a:uFillTx/>
                <a:latin typeface="Times New Roman"/>
              </a:rPr>
              <a:t>las barreras técnicas y las barreras lega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1. Monopol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Una de las principales </a:t>
            </a:r>
            <a:r>
              <a:rPr b="0" lang="es-MX" sz="2400" spc="-1" strike="noStrike" u="sng">
                <a:solidFill>
                  <a:srgbClr val="000000"/>
                </a:solidFill>
                <a:uFillTx/>
                <a:latin typeface="Times New Roman"/>
              </a:rPr>
              <a:t>barreras técnicas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a la entrada es que la producción del bien presente un costo medio decreciente (Por ej. por elevado CF en empresas de telecomunicaciones, luz, agu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Lo anterior implica que las empresas que operan a mayor escala son más eficientes que las de menor tamañ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omo este monopolio surge naturalmente de la tecnología de producción, se denomina </a:t>
            </a:r>
            <a:r>
              <a:rPr b="0" lang="es-MX" sz="2400" spc="-1" strike="noStrike" u="sng">
                <a:solidFill>
                  <a:srgbClr val="000000"/>
                </a:solidFill>
                <a:uFillTx/>
                <a:latin typeface="Times New Roman"/>
              </a:rPr>
              <a:t>monopolio natur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Otras bases técnicas del monopolio son el conocimiento de un método de producción de bajo costo o la propiedad de recursos únicos (depósitos minerales o terrenos especia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1. Monopol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Muchos monopolios se crean por razones legales, como por ejemplo las </a:t>
            </a:r>
            <a:r>
              <a:rPr b="0" lang="es-MX" sz="2400" spc="-1" strike="noStrike" u="sng">
                <a:solidFill>
                  <a:srgbClr val="000000"/>
                </a:solidFill>
                <a:uFillTx/>
                <a:latin typeface="Times New Roman"/>
              </a:rPr>
              <a:t>patentes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l fundamento del sistema de patentes es que hace más rentable la innovación y con ello estimula el progreso técnic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Sin embargo, se debe evaluar si los beneficios de la innovación superan el costo de la creación del monopol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Un segundo ejemplo de monopolio creado legalmente es el otorgamiento de una franquicia o licencia exclusiva para atender a un mercado. (Ver Documento Entregad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n algunos casos se plantea que estas restricciones son necesarias para garantizar normas de calidad o para evitar el daño ambient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2. Curva de deman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Habitualmente se dice que un monopolio enfrenta una curva inelástica, pero esto no se desprende de la definición de monopol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De acuerdo a la ley de la demanda, el monopolista enfrenta una curva de demanda tiene una elasticidad variable que va desde (-) infinito a cer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2. Curva de deman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2666880" y="175248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666880" y="4952880"/>
            <a:ext cx="4114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666880" y="2133720"/>
            <a:ext cx="2895840" cy="2819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666880" y="2133720"/>
            <a:ext cx="1600200" cy="320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4114800" y="35812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4191120" y="327636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5029200" y="396216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3429000" y="259056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352680" y="205740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η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tre –inf y 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191120" y="281952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η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876920" y="356544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η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tre –1 y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705720" y="49672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191120" y="52578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IM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15238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2. Curva de deman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Es posible demostrar la siguiente relación entre la elasticidad precio de la demanda y el ingreso margina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IMg = P(1 + 1/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η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En el caso de CP, veíamos que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η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- inf. Por lo que el IMg es igual a 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5T00:03:43Z</dcterms:created>
  <dc:creator> </dc:creator>
  <dc:description/>
  <dc:language>en-US</dc:language>
  <cp:lastModifiedBy> </cp:lastModifiedBy>
  <dcterms:modified xsi:type="dcterms:W3CDTF">2006-05-15T01:48:31Z</dcterms:modified>
  <cp:revision>12</cp:revision>
  <dc:subject/>
  <dc:title>Microeconomía Clase 21</dc:title>
</cp:coreProperties>
</file>