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2DF-B0EC-4A8E-A4EF-B5A9DBB5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BC8-9250-4530-9C55-C4031DFE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9A3-E586-49DE-917C-E1CC536A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0B9-4A70-4F7B-84A9-44F04DE9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CA1-3EFA-4F9A-8BBD-2F48413B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8B1-BC7F-49A5-B1B9-0AD366AE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B67-B07E-4D5D-B910-4558EC37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E2D-89E6-43B1-960C-B0EF174B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C47-EAD2-43B6-A230-044DB57E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2B8-A6A4-4BFA-9361-C0207240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6C4-D3A1-4857-9F18-618A229E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ACC-01BF-4AD6-A6F3-507C10B7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485B-1CCA-4167-8C3D-3C1C2301D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laves para la demost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l monopolist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nca operará de manera voluntaria donde el IMg es negativ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, porque tiene la posibilidad de reducir la producción, aumentando sus ingresos y gananc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n la ecuación vista arriba, esto significa que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sta nunca operará en la parte inelástica de la curva de deman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rva de oferta del monopolio: con una curva de mercado fija, la ‘curva’ de oferta del monopolio será sólo un punto, el correspondiente a la cantidad en que IMg = CM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uede darse que dos curvas de demanda den origen a distintas cantidades ofrecidas y un solo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or lo anterior, se dice qu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no tiene curva de ofert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ida como el precio mínimo al cual se ofrecerá una cantidad deter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ondremos que el objetivo del monopolista es la maximización de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 diferencia del caso perfectamente competitivo, el monopolista debe decidir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a combinación de precio y cantidad que maximiza las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Igual que en CP, hay dos formas de encontrar el nivel de producción que maximiza ganancias: (i) maximizar la difirencia entre ingresos y costos totales y (ii) IMg = CM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i la empresa produce más que lo establecido por la relación (ii), las ganancias totales disminuyen, porque por cada unidad adicional vendida, los costos aumentan más que los ingres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que cobra el monopolio viene dado por la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posición a paga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de los consumidores por las unidades produ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resumen: (i) encontrar el q donde IMg = CMg; (ii) curva de demanda determina el precio a cobrar por es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existen otras dimensiones en que se pueden comparar M-CP, lo haremos en términos de cantidad producida y precio cob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eteris paribus,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monopolización de una industria perfectamente competitiva restringe la producción y aumenta 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5181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133720"/>
            <a:ext cx="35053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133720"/>
            <a:ext cx="198108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3809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5683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7432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5181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226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19320"/>
            <a:ext cx="83818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Temas: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Definición y Orig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Curva de demanda que enfrenta y oferta del monopolio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tro caso extremo de estructura de mercado corresponde al monopolio p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finiremos monopolio como un único  vendedor de un bien determinado para el cual no existen buenos sustitu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 este punto surge una diferencia importante respecto a la CP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enfrenta la curva de demanda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 razón para la existencia de los mercados monopolísticos es que las demás empresas encuentran poco rentable o imposible entrar a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rreras a la entrad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constituyen la fuente de todo pode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s demás empresas pudieran entrar al mercado, por definición, ya no habría monopol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xisten dos tipos de barreras a la entrada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 barreras técnicas y las barreras leg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a de las principale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eras técn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a la entrada es que la producción del bien presente un costo medio decreciente (Por ej. por elevado CF en empresas de telecomunicaciones, luz,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 anterior implica que las empresas que operan a mayor escala son más eficientes que las de menor tam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o este monopolio surge naturalmente de la tecnología de producción, se denomin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polio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tras bases técnicas del monopolio son el conocimiento de un método de producción de bajo costo o la propiedad de recursos únicos (depósitos minerales o terren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chos monopolios se crean por razones legales, como por ejemplo la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fundamento del sistema de patentes es que hace más rentable la innovación y con ello estimula el progreso téc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n embargo, se debe evaluar si los beneficios de la innovación superan el costo de la creación del monopol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segundo ejemplo de monopolio creado legalmente es el otorgamiento de una franquicia o licencia exclusiva para atender a un mercado. (Ver Documento Entreg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algunos casos se plantea que estas restricciones son necesarias para garantizar normas de calidad o para evitar el dañ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abitualmente se dice que un monopolio enfrenta una curva inelástica, pero esto no se desprende de la definición de monop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 acuerdo a la ley de la demanda, el monopolista enfrenta una curva de demanda tiene una elasticidad variable que va desde (-) infinito a c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1752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133720"/>
            <a:ext cx="289584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133720"/>
            <a:ext cx="16002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114800" y="3581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91120" y="3276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39621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29000" y="2590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0574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inf y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819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565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1 y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4967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1523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posible demostrar la siguiente relación entre la elasticidad precio de la demanda y el ingreso marg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Mg = P(1 + 1/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l caso de CP, veíamos que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inf. Por lo que el IMg es igual a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0:03:43Z</dcterms:created>
  <dc:creator> </dc:creator>
  <dc:description/>
  <dc:language>en-US</dc:language>
  <cp:lastModifiedBy> </cp:lastModifiedBy>
  <dcterms:modified xsi:type="dcterms:W3CDTF">2006-05-15T01:48:31Z</dcterms:modified>
  <cp:revision>12</cp:revision>
  <dc:subject/>
  <dc:title>Microeconomía Clase 21</dc:title>
</cp:coreProperties>
</file>