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3085-1F99-4711-BEF9-AFC1EDE0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C847-AB94-4CA3-B94D-895305C6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40E0-780D-4B6A-BCDE-18229C27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87A9-D1D2-4766-A67B-FBB672CA3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53AB-8DD4-41B7-B187-0EFA3097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366A-194B-45AA-BA45-C3433C4E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FF4E-FC6B-4E4E-9802-1EB1132F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A184-9A00-411A-8797-CE1184EA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B96B-0D51-4F4F-8A86-763A6468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492E-3A78-46AE-AF4B-E978F1BD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5FEC-1DE0-498F-843F-C17A792A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8085-AF75-4B1C-827E-AFEDEF68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9D4A-1263-426D-B111-96EC9C616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se 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laves para la demost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l monopolista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Times New Roman"/>
              </a:rPr>
              <a:t>nunca operará de manera voluntaria donde el IMg es negativo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, porque tiene la posibilidad de reducir la producción, aumentando sus ingresos y gananci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n la ecuación vista arriba, esto significa que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Times New Roman"/>
              </a:rPr>
              <a:t>el monopolista nunca operará en la parte inelástica de la curva de demand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urva de oferta del monopolio: con una curva de mercado fija, la ‘curva’ de oferta del monopolio será sólo un punto, el correspondiente a la cantidad en que IMg = CM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uede darse que dos curvas de demanda den origen a distintas cantidades ofrecidas y un solo pre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or lo anterior, se dice que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Times New Roman"/>
              </a:rPr>
              <a:t>el monopolio no tiene curva de oferta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, definida como el precio mínimo al cual se ofrecerá una cantidad determin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3. Equilibrio de Corto Plaz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upondremos que el objetivo del monopolista es la maximización de gananc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 diferencia del caso perfectamente competitivo, el monopolista debe decidir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a combinación de precio y cantidad que maximiza las gananc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3. Equilibrio de Corto Plaz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Igual que en CP, hay dos formas de encontrar el nivel de producción que maximiza ganancias: (i) maximizar la difirencia entre ingresos y costos totales y (ii) IMg = CM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Si la empresa produce más que lo establecido por la relación (ii), las ganancias totales disminuyen, porque por cada unidad adicional vendida, los costos aumentan más que los ingres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3. Equilibrio de Corto Plaz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Times New Roman"/>
              </a:rPr>
              <a:t>El precio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que cobra el monopolio viene dado por la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posición a pagar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de los consumidores por las unidades produci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n resumen: (i) encontrar el q donde IMg = CMg; (ii) curva de demanda determina el precio a cobrar por esas un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4. Comparación M-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 bien existen otras dimensiones en que se pueden comparar M-CP, lo haremos en términos de cantidad producida y precio cobr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eteris paribus,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 monopolización de una industria perfectamente competitiva restringe la producción y aumenta el precio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4. Comparación M-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743200" y="16765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51814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2133720"/>
            <a:ext cx="350532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2133720"/>
            <a:ext cx="198108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3809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28954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3809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629400" y="36576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5683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IM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27432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51814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24280" y="522612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Q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36576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onopol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219320"/>
            <a:ext cx="83818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5000"/>
              </a:lnSpc>
              <a:spcBef>
                <a:spcPts val="1899"/>
              </a:spcBef>
              <a:spcAft>
                <a:spcPts val="18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Temas: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899"/>
              </a:spcBef>
              <a:spcAft>
                <a:spcPts val="18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Definición y Orige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899"/>
              </a:spcBef>
              <a:spcAft>
                <a:spcPts val="18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Curva de demanda que enfrenta y oferta del monopolio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899"/>
              </a:spcBef>
              <a:spcAft>
                <a:spcPts val="18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3. Equilibrio de corto plazo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899"/>
              </a:spcBef>
              <a:spcAft>
                <a:spcPts val="18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4. Comparación M-CP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899"/>
              </a:spcBef>
              <a:spcAft>
                <a:spcPts val="18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1. Monopol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Otro caso extremo de estructura de mercado corresponde al monopolio p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efiniremos monopolio como un único  vendedor de un bien determinado para el cual no existen buenos sustitu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e este punto surge una diferencia importante respecto a la CP: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Times New Roman"/>
              </a:rPr>
              <a:t>el monopolio enfrenta la curva de demanda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1. Monopol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La razón para la existencia de los mercados monopolísticos es que las demás empresas encuentran poco rentable o imposible entrar al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Las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rreras a la entrada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constituyen la fuente de todo poder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 las demás empresas pudieran entrar al mercado, por definición, ya no habría monopol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xisten dos tipos de barreras a la entrada: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s barreras técnicas y las barreras leg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1. Monopol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na de las principales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rreras técnic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a la entrada es que la producción del bien presente un costo medio decreciente (Por ej. por elevado CF en empresas de telecomunicaciones, luz, agu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o anterior implica que las empresas que operan a mayor escala son más eficientes que las de menor tamañ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o este monopolio surge naturalmente de la tecnología de producción, se denomina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nopolio nat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tras bases técnicas del monopolio son el conocimiento de un método de producción de bajo costo o la propiedad de recursos únicos (depósitos minerales o terren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1. Monopol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uchos monopolios se crean por razones legales, como por ejemplo las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tent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 fundamento del sistema de patentes es que hace más rentable la innovación y con ello estimula el progreso técn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n embargo, se debe evaluar si los beneficios de la innovación superan el costo de la creación del monopol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n segundo ejemplo de monopolio creado legalmente es el otorgamiento de una franquicia o licencia exclusiva para atender a un mercado. (Ver Documento Entrega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 algunos casos se plantea que estas restricciones son necesarias para garantizar normas de calidad o para evitar el dañ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Habitualmente se dice que un monopolio enfrenta una curva inelástica, pero esto no se desprende de la definición de monopol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De acuerdo a la ley de la demanda, el monopolista enfrenta una curva de demanda tiene una elasticidad variable que va desde (-) infinito a c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666880" y="17524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49528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2133720"/>
            <a:ext cx="289584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2133720"/>
            <a:ext cx="160020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114800" y="3581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191120" y="32763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029200" y="39621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429000" y="25905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20574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 –inf y 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91120" y="2819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35654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 –1 y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05720" y="4967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5257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1523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 posible demostrar la siguiente relación entre la elasticidad precio de la demanda y el ingreso margin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IMg = P(1 + 1/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n el caso de CP, veíamos que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 inf. Por lo que el IMg es igual a 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00:03:43Z</dcterms:created>
  <dc:creator> </dc:creator>
  <dc:description/>
  <dc:language>en-US</dc:language>
  <cp:lastModifiedBy> </cp:lastModifiedBy>
  <dcterms:modified xsi:type="dcterms:W3CDTF">2006-05-15T01:48:31Z</dcterms:modified>
  <cp:revision>12</cp:revision>
  <dc:subject/>
  <dc:title>Microeconomía Clase 21</dc:title>
</cp:coreProperties>
</file>