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99F-6342-4A65-AD88-D2CE0908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593-8FF6-410B-8EA1-B9B8AA43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75A-D679-4C16-BEDD-8F7DFC2D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BF7-9E4E-49ED-9AF0-64F96761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7C3-8DFF-4254-B42F-005F68E7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4C9-9AD3-4F59-91F4-EF90E264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7A0-4ACB-4420-9933-197D6BF2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B6F-C238-4678-B540-98CE1E98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A66-8DF3-4904-A924-DE6465A3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E3A-6645-4572-ADE5-6755AA3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67B-7691-47D4-AF7A-8DEDBDB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0F0-6378-4301-B49D-B7BB2769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22ED-E602-4081-A98C-F45AC5295A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T = 100+2X^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 =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Mg = IMg </a:t>
            </a:r>
            <a:r>
              <a:rPr b="0" lang="es-MX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4X = 50 </a:t>
            </a:r>
            <a:r>
              <a:rPr b="0" lang="es-MX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X = 1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Gráficament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124080" y="23619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57150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24080" y="2590920"/>
            <a:ext cx="327672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200400"/>
            <a:ext cx="3124440" cy="2057400"/>
          </a:xfrm>
          <a:custGeom>
            <a:avLst/>
            <a:gdLst/>
            <a:ahLst/>
            <a:rect l="l" t="t" r="r" b="b"/>
            <a:pathLst>
              <a:path w="1968" h="1296">
                <a:moveTo>
                  <a:pt x="0" y="1296"/>
                </a:moveTo>
                <a:cubicBezTo>
                  <a:pt x="604" y="1140"/>
                  <a:pt x="1208" y="984"/>
                  <a:pt x="1536" y="768"/>
                </a:cubicBezTo>
                <a:cubicBezTo>
                  <a:pt x="1864" y="552"/>
                  <a:pt x="1896" y="128"/>
                  <a:pt x="19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63868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32680" y="572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720" y="22096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T,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Otra forma de ver la maximización de ganancias es a partir de un enfoque margi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 diferencia entre IT y CT se maximiza cuando el IMg = CM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el caso de CP, el IMg =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Oferta de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 curva de oferta de la empresa en el corto plazo corresponde a su curva de CMg por sobre los costos variables medi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e llam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punto de cierr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a la intersección entre CMg y CV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Notar que lo relevante no son los CT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Oferta de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 el precio es menor que los CTMe, la empresa no necesariamente cier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o importante es que el precio sea mayor que los CVMe, los costos de permanecer en oper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 la firma cierra debe cubrir sus CF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Oferta de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 oferta de la </a:t>
            </a:r>
            <a:r>
              <a:rPr b="0" lang="es-MX" sz="4000" spc="-1" strike="noStrike" u="sng">
                <a:solidFill>
                  <a:srgbClr val="000000"/>
                </a:solidFill>
                <a:uFillTx/>
                <a:latin typeface="Arial"/>
              </a:rPr>
              <a:t>industria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en el CP corresponde a la suma </a:t>
            </a:r>
            <a:r>
              <a:rPr b="0" lang="es-MX" sz="4000" spc="-1" strike="noStrike" u="sng">
                <a:solidFill>
                  <a:srgbClr val="000000"/>
                </a:solidFill>
                <a:uFillTx/>
                <a:latin typeface="Arial"/>
              </a:rPr>
              <a:t>horizontal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de las curvas de oferta individu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49200"/>
            <a:ext cx="838188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Temas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1. Significado de compe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4. Curva de oferta de corto plaz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saber cuánto produce y vende una firma y a qué precio, debemos especificar la estructura de mercado en la que ope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esta clase veremos una de las posibilidades: un mercado perfectamente competiti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términos generales, diremos que un mercado caracterizado por la CP es aquel en que ningún comprador o vendedor individual puede ejercer influencia sobre el precio mediante sus compras o ve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isten 4 condiciones bajo las cuales surge un mercado perfectamente competi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ducto homogéne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vilidad de recursos sin restri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Gran número de compradores y vendedo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Información perfec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a empresa en CP no puede ejercer influencia sobre el precio del bien que vende </a:t>
            </a:r>
            <a:r>
              <a:rPr b="0" lang="es-MX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toma el precio como da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o se representa por un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curva de demanda perfectamente elástica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al precio determinado por la interacción de la oferta y la demand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de mercad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(P*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 idea de una curva de demanda de este tipo es que un competidor perfecto venderá cero si decide cobrar un precio marginalmente superior a P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ampoco venderá a un precio menor porque pude vender todo lo que quiera a P* </a:t>
            </a:r>
            <a:r>
              <a:rPr b="0" lang="es-MX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no maximiza gana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Que la elasticidad de la demanda que enfrenta un productor en una industria competitiva sea (-) infinito significa que un pequeño cambio en el precio genera un gran efecto en la cantidad demanda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Maximización de Gana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finiremos ganancia como la diferencia entre los ingresos totales y los costos totales de produc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a empresa que maximiza ganancias, producirá en el nivel en que se maximiza la diferencia entre IT y 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45:53Z</dcterms:created>
  <dc:creator>Gerencia Informática</dc:creator>
  <dc:description/>
  <dc:language>en-US</dc:language>
  <cp:lastModifiedBy>Gerencia Informática</cp:lastModifiedBy>
  <dcterms:modified xsi:type="dcterms:W3CDTF">2006-05-12T15:46:36Z</dcterms:modified>
  <cp:revision>3</cp:revision>
  <dc:subject/>
  <dc:title>Microeconomía Clase 20</dc:title>
</cp:coreProperties>
</file>