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DE57-481A-468E-A0B4-0D76F9354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C8A4-E030-49B1-92A8-17E30B5F4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B2B1-3C45-4B11-8EFA-BF4F7DDDA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0310-ED52-4667-9CD6-263221AE1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5A56-44DF-4DFB-B513-34B1A3281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D0ED-7BE3-48E4-9016-4A422F4BF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F48F-6EAF-44EA-B7A8-8EC8FCE54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9BC3-2367-4050-A22F-C6C3C4D30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CD1F-3F6F-4C07-ABCF-402E55A92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3D25-FBEB-4453-95F9-16E82D51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9A5C-B828-431C-A30D-BED090C35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1E55-E3B6-46CC-BE12-7D7BF945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BBCA6-76EA-4E17-B4AF-D51FAC59715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Microeconomía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lase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3. Relación entre Producción e Insum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7640" y="133020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En el análisis que sigue, supondremos que la empresa es </a:t>
            </a:r>
            <a:r>
              <a:rPr b="0" lang="es-MX" sz="3600" spc="-1" strike="noStrike" u="sng">
                <a:solidFill>
                  <a:srgbClr val="000000"/>
                </a:solidFill>
                <a:uFillTx/>
                <a:latin typeface="Arial"/>
              </a:rPr>
              <a:t>tecnológicamente eficiente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(no desperdicia recursos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Definiremos </a:t>
            </a:r>
            <a:r>
              <a:rPr b="0" lang="es-MX" sz="3600" spc="-1" strike="noStrike" u="sng">
                <a:solidFill>
                  <a:srgbClr val="000000"/>
                </a:solidFill>
                <a:uFillTx/>
                <a:latin typeface="Arial"/>
              </a:rPr>
              <a:t>la FDP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como la relación tec. eficiente existente entre el producto físico y los insumos físic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75920" y="1185840"/>
            <a:ext cx="848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Esta relación se define como una ecuación que establece la máxima cantidad de producto que se puede obtener a partir de un conjunto de insumos (</a:t>
            </a:r>
            <a:r>
              <a:rPr b="0" i="1" lang="es-MX" sz="3600" spc="-1" strike="noStrike">
                <a:solidFill>
                  <a:srgbClr val="000000"/>
                </a:solidFill>
                <a:latin typeface="Arial"/>
              </a:rPr>
              <a:t>CP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Una FDP se describe mediante la ecuación: Q = f(K, 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3. Relación entre Producción e Insum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51920" y="133020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Las FDP son descripciones eficientes desde el punto de vista técnico y buscaremos determinar la eficiencia desde el punto de vista económico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3. Relación entre Producción e Insum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Teoría de la Fir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914400"/>
            <a:ext cx="8381880" cy="46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Tema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1. La Empresa y sus Objetivo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2. Insumos de Pro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3. Relación entre Producción e Insumos: la Función de Producció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1. Objetivos de la Empre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1920" y="12589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En la teoría de la demanda, la base del análisis está en la maximización de la utilidad o nivel de satisfacción del individu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En forma equivalente, en la teoría de la empresa, supondremos que </a:t>
            </a:r>
            <a:r>
              <a:rPr b="0" lang="es-MX" sz="3600" spc="-1" strike="noStrike" u="sng">
                <a:solidFill>
                  <a:srgbClr val="000000"/>
                </a:solidFill>
                <a:uFillTx/>
                <a:latin typeface="Arial"/>
              </a:rPr>
              <a:t>las firmas maximizan sus beneficios o ganancia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1. Objetivos de la Empre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2589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Si bien tomaremos como un hecho el que las empresas maximizan sus beneficio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las firmas pueden tener otros objetivos: maximización de ventas, de la tasa de crecimiento de los ingresos, et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2. Insumos de P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584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Para producir un bien o servicio, la empresa necesita insum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También llamados factores de producción o recursos productiv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Estos consideran diversas clases de mano de obra, maquinarias, servicios financieros, talento empresarial, et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2. Insumos de P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18584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Para simplificar, clasificaremos todos los insumos en dos categorías: </a:t>
            </a:r>
            <a:r>
              <a:rPr b="0" lang="es-MX" sz="3600" spc="-1" strike="noStrike" u="sng">
                <a:solidFill>
                  <a:srgbClr val="000000"/>
                </a:solidFill>
                <a:uFillTx/>
                <a:latin typeface="Arial"/>
              </a:rPr>
              <a:t>trabajo (o mano de obra) y capita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Los insumos también se pueden clasificar en </a:t>
            </a:r>
            <a:r>
              <a:rPr b="0" lang="es-MX" sz="3600" spc="-1" strike="noStrike" u="sng">
                <a:solidFill>
                  <a:srgbClr val="000000"/>
                </a:solidFill>
                <a:uFillTx/>
                <a:latin typeface="Arial"/>
              </a:rPr>
              <a:t>fijos y variabl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2. Insumos de P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3302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Un factor de producción fijo es un insumo que </a:t>
            </a:r>
            <a:r>
              <a:rPr b="0" i="1" lang="es-MX" sz="3600" spc="-1" strike="noStrike">
                <a:solidFill>
                  <a:srgbClr val="000000"/>
                </a:solidFill>
                <a:latin typeface="Arial"/>
              </a:rPr>
              <a:t>no puede ser modificado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en el </a:t>
            </a:r>
            <a:r>
              <a:rPr b="0" i="1" lang="es-MX" sz="3600" spc="-1" strike="noStrike">
                <a:solidFill>
                  <a:srgbClr val="000000"/>
                </a:solidFill>
                <a:latin typeface="Arial"/>
              </a:rPr>
              <a:t>corto plazo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Sin embargo, esta es una definición muy subjetiv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2. Insumos de P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7640" y="125892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Diremos que un factor de producción fijo es aquel cuya cantidad no puede aumentar </a:t>
            </a:r>
            <a:r>
              <a:rPr b="0" lang="es-MX" sz="3600" spc="-1" strike="noStrike" u="sng">
                <a:solidFill>
                  <a:srgbClr val="000000"/>
                </a:solidFill>
                <a:uFillTx/>
                <a:latin typeface="Arial"/>
              </a:rPr>
              <a:t>sin producir un aumento sustancial en el costo del factor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3. Relación entre Producción e Insum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320" y="1143000"/>
            <a:ext cx="899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400" spc="-1" strike="noStrike">
                <a:solidFill>
                  <a:srgbClr val="000000"/>
                </a:solidFill>
                <a:latin typeface="Arial"/>
              </a:rPr>
              <a:t>La empresa combina ciertos insumos para obtener como resultado un producto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400" spc="-1" strike="noStrike">
                <a:solidFill>
                  <a:srgbClr val="000000"/>
                </a:solidFill>
                <a:latin typeface="Arial"/>
              </a:rPr>
              <a:t>La producción es </a:t>
            </a:r>
            <a:r>
              <a:rPr b="0" lang="es-MX" sz="3400" spc="-1" strike="noStrike" u="sng">
                <a:solidFill>
                  <a:srgbClr val="000000"/>
                </a:solidFill>
                <a:uFillTx/>
                <a:latin typeface="Arial"/>
              </a:rPr>
              <a:t>económicamente eficiente</a:t>
            </a:r>
            <a:r>
              <a:rPr b="0" lang="es-MX" sz="3400" spc="-1" strike="noStrike">
                <a:solidFill>
                  <a:srgbClr val="000000"/>
                </a:solidFill>
                <a:latin typeface="Arial"/>
              </a:rPr>
              <a:t> sii, se emplean los recursos en una proporción tal que </a:t>
            </a:r>
            <a:r>
              <a:rPr b="0" lang="es-MX" sz="3400" spc="-1" strike="noStrike" u="sng">
                <a:solidFill>
                  <a:srgbClr val="000000"/>
                </a:solidFill>
                <a:uFillTx/>
                <a:latin typeface="Arial"/>
              </a:rPr>
              <a:t>el costo por unidad de producción es el mínimo posible</a:t>
            </a:r>
            <a:r>
              <a:rPr b="0" lang="es-MX" sz="3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9T15:06:34Z</dcterms:created>
  <dc:creator>BCCH</dc:creator>
  <dc:description/>
  <dc:language>en-US</dc:language>
  <cp:lastModifiedBy>Gerencia Informática</cp:lastModifiedBy>
  <dcterms:modified xsi:type="dcterms:W3CDTF">2006-04-19T16:10:58Z</dcterms:modified>
  <cp:revision>1</cp:revision>
  <dc:subject/>
  <dc:title>Microeconomía Clase 12</dc:title>
</cp:coreProperties>
</file>