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2B3-AECE-48BC-B2E7-0AF0E87E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379-2007-4A89-A395-04B0A6AE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243-2A0B-4DBA-B588-FF3C065B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A67-D975-4260-8494-C1346646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A8E1-AE89-4C2E-BCD2-4D063295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424-1D89-4F84-9FA2-B637759E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425-677E-4896-87E8-B37E73A4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B96-6408-43E3-BAD3-BD7C968C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267-4BA6-46FA-BC14-A2A450A3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39E-A862-4729-9580-B66D6A7B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3DF-E1C4-4009-B862-9EC420E4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57F-E600-48CF-AB38-37F4BA7D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2B92-2A1A-482A-A05C-BCC2256DBB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640" y="133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el análisis que sigue, supondremos que la empresa es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tecnológicamente eficiente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(no desperdicia recurso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efiniremos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la FDP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como la relación tec. eficiente existente entre el producto físico y los insumos físic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5920" y="1185840"/>
            <a:ext cx="848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sta relación se define como una ecuación que establece la máxima cantidad de producto que se puede obtener a partir de un conjunto de insumos (</a:t>
            </a: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Una FDP se describe mediante la ecuación: Q = f(K, 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1920" y="133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as FDP son descripciones eficientes desde el punto de vista técnico y buscaremos determinar la eficiencia desde el punto de vista económico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eoría de la Fi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914400"/>
            <a:ext cx="838188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Tem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1. La Empresa y sus Objetiv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: la Función de Produc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Objetivos de la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12589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la teoría de la demanda, la base del análisis está en la maximización de la utilidad o nivel de satisfacción del individu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forma equivalente, en la teoría de la empresa, supondremos que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las firmas maximizan sus beneficios o gananci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Objetivos de la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58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i bien tomaremos como un hecho el que las empresas maximizan sus beneficio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as firmas pueden tener otros objetivos: maximización de ventas, de la tasa de crecimiento de los ingresos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584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ara producir un bien o servicio, la empresa necesita insum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También llamados factores de producción o recursos productiv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stos consideran diversas clases de mano de obra, maquinarias, servicios financieros, talento empresarial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8584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ara simplificar, clasificaremos todos los insumos en dos categorías: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trabajo (o mano de obra) y capi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os insumos también se pueden clasificar en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fijos y vari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3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Un factor de producción fijo es un insumo que </a:t>
            </a: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no puede ser modificado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en el </a:t>
            </a: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corto plazo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in embargo, esta es una definición muy subjetiv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7640" y="12589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iremos que un factor de producción fijo es aquel cuya cantidad no puede aumentar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sin producir un aumento sustancial en el costo del factor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La empresa combina ciertos insumos para obtener como resultado un producto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La producción es </a:t>
            </a:r>
            <a:r>
              <a:rPr b="0" lang="es-MX" sz="3400" spc="-1" strike="noStrike" u="sng">
                <a:solidFill>
                  <a:srgbClr val="000000"/>
                </a:solidFill>
                <a:uFillTx/>
                <a:latin typeface="Arial"/>
              </a:rPr>
              <a:t>económicamente eficiente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 sii, se emplean los recursos en una proporción tal que </a:t>
            </a:r>
            <a:r>
              <a:rPr b="0" lang="es-MX" sz="3400" spc="-1" strike="noStrike" u="sng">
                <a:solidFill>
                  <a:srgbClr val="000000"/>
                </a:solidFill>
                <a:uFillTx/>
                <a:latin typeface="Arial"/>
              </a:rPr>
              <a:t>el costo por unidad de producción es el mínimo posible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5:06:34Z</dcterms:created>
  <dc:creator>BCCH</dc:creator>
  <dc:description/>
  <dc:language>en-US</dc:language>
  <cp:lastModifiedBy>Gerencia Informática</cp:lastModifiedBy>
  <dcterms:modified xsi:type="dcterms:W3CDTF">2006-04-19T16:10:58Z</dcterms:modified>
  <cp:revision>1</cp:revision>
  <dc:subject/>
  <dc:title>Microeconomía Clase 12</dc:title>
</cp:coreProperties>
</file>