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F273-7E24-4F35-A2C3-ECE1D75C4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A957-A0D7-4B18-BB19-8541DDB7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0E29-59A0-4EE5-A855-64D7D05D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4D68-9277-44BF-9BC3-5BCF2B6E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46C4-886E-4CD2-BE72-0D18909B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1FE8-E7F3-4F39-ACF2-B7BF7B3E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E521-432E-4A1A-9496-A0B30C0B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C7D1-E8AF-4442-91AC-4B7A7FB0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1573-0A86-4383-8212-0ACC5553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76B7-BBC8-4535-82A9-30B979DF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6B83-6D92-4896-B1CC-C2A07A81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462C-F026-4357-A31D-76731210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E851-E500-4E81-9CAF-724CEDB532F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3. Relación entre Producción e Insu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7640" y="133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n el análisis que sigue, supondremos que la empresa es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tecnológicamente eficiente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(no desperdicia recursos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Definiremos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la FDP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como la relación tec. eficiente existente entre el producto físico y los insumos físic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75920" y="1185840"/>
            <a:ext cx="848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sta relación se define como una ecuación que establece la máxima cantidad de producto que se puede obtener a partir de un conjunto de insumos (</a:t>
            </a:r>
            <a:r>
              <a:rPr b="0" i="1" lang="es-MX" sz="36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Una FDP se describe mediante la ecuación: Q = f(K, 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3. Relación entre Producción e Insu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51920" y="133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Las FDP son descripciones eficientes desde el punto de vista técnico y buscaremos determinar la eficiencia desde el punto de vista económico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3. Relación entre Producción e Insu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eoría de la Fir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914400"/>
            <a:ext cx="838188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Tem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1. La Empresa y sus Objetiv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2. Insumos de P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3. Relación entre Producción e Insumos: la Función de Producció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Objetivos de la Em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1920" y="12589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n la teoría de la demanda, la base del análisis está en la maximización de la utilidad o nivel de satisfacción del individu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n forma equivalente, en la teoría de la empresa, supondremos que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las firmas maximizan sus beneficios o gananci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Objetivos de la Em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258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Si bien tomaremos como un hecho el que las empresas maximizan sus beneficio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las firmas pueden tener otros objetivos: maximización de ventas, de la tasa de crecimiento de los ingresos, 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Insumos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584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Para producir un bien o servicio, la empresa necesita insum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También llamados factores de producción o recursos productiv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stos consideran diversas clases de mano de obra, maquinarias, servicios financieros, talento empresarial, 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Insumos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8584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Para simplificar, clasificaremos todos los insumos en dos categorías: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trabajo (o mano de obra) y capit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Los insumos también se pueden clasificar en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fijos y variab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Insumos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33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Un factor de producción fijo es un insumo que </a:t>
            </a:r>
            <a:r>
              <a:rPr b="0" i="1" lang="es-MX" sz="3600" spc="-1" strike="noStrike">
                <a:solidFill>
                  <a:srgbClr val="000000"/>
                </a:solidFill>
                <a:latin typeface="Arial"/>
              </a:rPr>
              <a:t>no puede ser modificado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en el </a:t>
            </a:r>
            <a:r>
              <a:rPr b="0" i="1" lang="es-MX" sz="3600" spc="-1" strike="noStrike">
                <a:solidFill>
                  <a:srgbClr val="000000"/>
                </a:solidFill>
                <a:latin typeface="Arial"/>
              </a:rPr>
              <a:t>corto plazo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Sin embargo, esta es una definición muy subjetiv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Insumos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7640" y="12589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Diremos que un factor de producción fijo es aquel cuya cantidad no puede aumentar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sin producir un aumento sustancial en el costo del factor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3. Relación entre Producción e Insu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320" y="114300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La empresa combina ciertos insumos para obtener como resultado un producto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La producción es </a:t>
            </a:r>
            <a:r>
              <a:rPr b="0" lang="es-MX" sz="3400" spc="-1" strike="noStrike" u="sng">
                <a:solidFill>
                  <a:srgbClr val="000000"/>
                </a:solidFill>
                <a:uFillTx/>
                <a:latin typeface="Arial"/>
              </a:rPr>
              <a:t>económicamente eficiente</a:t>
            </a: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 sii, se emplean los recursos en una proporción tal que </a:t>
            </a:r>
            <a:r>
              <a:rPr b="0" lang="es-MX" sz="3400" spc="-1" strike="noStrike" u="sng">
                <a:solidFill>
                  <a:srgbClr val="000000"/>
                </a:solidFill>
                <a:uFillTx/>
                <a:latin typeface="Arial"/>
              </a:rPr>
              <a:t>el costo por unidad de producción es el mínimo posible</a:t>
            </a: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15:06:34Z</dcterms:created>
  <dc:creator>BCCH</dc:creator>
  <dc:description/>
  <dc:language>en-US</dc:language>
  <cp:lastModifiedBy>Gerencia Informática</cp:lastModifiedBy>
  <dcterms:modified xsi:type="dcterms:W3CDTF">2006-04-19T16:10:58Z</dcterms:modified>
  <cp:revision>1</cp:revision>
  <dc:subject/>
  <dc:title>Microeconomía Clase 12</dc:title>
</cp:coreProperties>
</file>