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1F1-AF8C-43B6-BA34-D3F2209B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D85-9759-4AB6-86EC-BD680F44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7D0-E563-488B-AAE7-09817F41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2F0-0084-4C21-88A0-D6EC01FB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996-40A7-4C69-91C6-C0648B29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CE2-0FFB-40AF-BC7A-71E83E58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DB3-2F7B-44C3-8B5B-3BA726AF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2F2-EA45-4AFB-A04F-2C0D38D8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F12-839A-4889-8AC5-EA6A70E1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38E-3F01-4174-A32C-EF5E910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733-84CD-4694-A279-24B4E86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7A3-F45F-437F-98D3-E58CF31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2543-7482-4DE8-A594-A007F02E5B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33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l análisis que sigue, supondremos que la empresa es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tecnológicamente eficient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(no desperdicia recurso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finiremos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la FDP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como la relación tec. eficiente existente entre el producto físico y los insumos físic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5920" y="1185840"/>
            <a:ext cx="848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a relación se define como una ecuación que establece la máxima cantidad de producto que se puede obtener a partir de un conjunto de insumos (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a FDP se describe mediante la ecuación: Q = f(K, 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1920" y="133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s FDP son descripciones eficientes desde el punto de vista técnico y buscaremos determinar la eficiencia desde el punto de vista económic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ía de la Fi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914400"/>
            <a:ext cx="83818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em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1. La Empresa y sus Objetiv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: la Función de Produc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Objetivos de l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258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la teoría de la demanda, la base del análisis está en la maximización de la utilidad o nivel de satisfacción del individu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forma equivalente, en la teoría de la empresa, supondremos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las firmas maximizan sus beneficios o gana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Objetivos de l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58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 bien tomaremos como un hecho el que las empresas maximizan sus beneficio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s firmas pueden tener otros objetivos: maximización de ventas, de la tasa de crecimiento de los ingreso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5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producir un bien o servicio, la empresa necesita insum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ambién llamados factores de producción o recursos productiv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os consideran diversas clases de mano de obra, maquinarias, servicios financieros, talento empresarial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85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simplificar, clasificaremos todos los insumos en dos categorías: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trabajo (o mano de obra) y capi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os insumos también se pueden clasificar e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fijos y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3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 factor de producción fijo es un insumo que 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no puede ser modificad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en el 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orto plaz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n embargo, esta es una definición muy subjetiv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1258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iremos que un factor de producción fijo es aquel cuya cantidad no puede aumentar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sin producir un aumento sustancial en el costo del factor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empresa combina ciertos insumos para obtener como resultado un product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producción es </a:t>
            </a:r>
            <a:r>
              <a:rPr b="0" lang="es-MX" sz="3400" spc="-1" strike="noStrike" u="sng">
                <a:solidFill>
                  <a:srgbClr val="000000"/>
                </a:solidFill>
                <a:uFillTx/>
                <a:latin typeface="Arial"/>
              </a:rPr>
              <a:t>económicamente eficiente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sii, se emplean los recursos en una proporción tal que </a:t>
            </a:r>
            <a:r>
              <a:rPr b="0" lang="es-MX" sz="3400" spc="-1" strike="noStrike" u="sng">
                <a:solidFill>
                  <a:srgbClr val="000000"/>
                </a:solidFill>
                <a:uFillTx/>
                <a:latin typeface="Arial"/>
              </a:rPr>
              <a:t>el costo por unidad de producción es el mínimo posible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06:34Z</dcterms:created>
  <dc:creator>BCCH</dc:creator>
  <dc:description/>
  <dc:language>en-US</dc:language>
  <cp:lastModifiedBy>Gerencia Informática</cp:lastModifiedBy>
  <dcterms:modified xsi:type="dcterms:W3CDTF">2006-04-19T16:10:58Z</dcterms:modified>
  <cp:revision>1</cp:revision>
  <dc:subject/>
  <dc:title>Microeconomía Clase 12</dc:title>
</cp:coreProperties>
</file>