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C51-B3DA-4F4C-B13E-BDC8C22E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D06-EF7A-4F8D-8C8A-5B20FD18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F1C-97F1-40D7-A953-1973819C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2C6-6F92-4A0D-B8C3-E8EFD5F6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5CD-9998-4CD2-BCB7-211DAC0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1D8-084F-4E8D-9207-D0E8DA4B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009-A395-4DB1-9AD4-A28F052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746-ED71-4E16-A4D3-D480F8F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EFF-0C5A-4817-9E14-D77D97C4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A67-8ECA-4424-A545-89C505D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1D5-8579-4FD6-9B54-8066CD6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D80-31E0-413E-8AD6-29E14000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5EB9-D578-4E19-B78C-9C8E4771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jemplo: aumento esperado del precio de un bien o servicio </a:t>
            </a:r>
            <a:r>
              <a:rPr b="0" lang="es-MX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 efectos sobre precio hoy y cantidad de equilibrio de mercad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000000"/>
                </a:solidFill>
                <a:uFillTx/>
                <a:latin typeface="Arial"/>
              </a:rPr>
              <a:t>Ejercicio: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 suponga que la curva de oferta de un producto está dada por P = 2 + 3Q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a demanda es: P = 10 – Q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ncontrar precio y cantidad de equilibrio. Grafic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de u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uest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en el equilibrio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Dos formas de análisis: (1) el impuesto es pagado por el vendedor, (2) el impuesto es pagado por el consumido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1) La curva de oferta representa el mínimo precio al cual las empresas están dispuestas ofrecer una determinada cantidad del bien o servicio que vend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Si se aplica un impuesto de t por unidad de producción, el precio de mercado debe ser Po + t para que la empresa ofrezca lo mismo que antes del impuest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Es decir, el mínimo precio al cual está dispuesto a ofrecer Qo es Po + t. (Ver gráfic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de u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uest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en el equilibrio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Efectos sobre el equilibrio de mercado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a) Disminuye la cantidad trans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b) El precio que paga el consumidor sube de Po a P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c) El precio que percibe el productor es P1 – 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d) Aunque el impuesto sea pagado por el vendedor,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Arial"/>
              </a:rPr>
              <a:t>la carga se distribuye entre ambos participantes del mercado</a:t>
            </a: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e) Esto, porque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Arial"/>
              </a:rPr>
              <a:t>sube el precio que pagan los consumidores</a:t>
            </a: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 y el precio que reciben los oferentes es inferior en menos de t unidad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de u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uest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en el equilibrio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impuesto tiende a recaer en la parte del mercado que tiene menos posibilidades de eludi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í, si existen pocos sustitutos de un determinado bien, los oferentes traspasaran una mayor parte del impuesto a los consum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2) Una segunda forma de analizar es suponer que el impuesto lo paga el consumidor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fectos sobre la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clusión: el efecto del impuesto sobre el equilibrio del mercado es el mismo si lo pagan los consumidores o produ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Utilidad, Preferencias y 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nálisis de 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llam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tilidad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la satisfacción que obtiene un individuo por el consumo de un bien o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utilidad es un concepto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subjetiv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que no puede ser med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 lo tanto, se utiliza un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análisis de utilidad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e análisis permite ordenar las preferencias, pero no se puede decir nada respecto al tamaño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el análisis posterior de las decisiones de los consumidores, haremos una serie de supuestos sobre el comportamiento de los individuos. Estos supuest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tegridad o completitud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capacidad de decidir entre combinaciones de bie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onsistencia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(o transi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saciabilidad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más es preferido a me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2:35:49Z</dcterms:created>
  <dc:creator>Felipe Jaque</dc:creator>
  <dc:description/>
  <dc:language>en-US</dc:language>
  <cp:lastModifiedBy>Gerencia Informática</cp:lastModifiedBy>
  <dcterms:modified xsi:type="dcterms:W3CDTF">2006-03-20T13:59:04Z</dcterms:modified>
  <cp:revision>2</cp:revision>
  <dc:subject/>
  <dc:title>Microeconomía Clase 4</dc:title>
</cp:coreProperties>
</file>