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CC5-BB53-4885-915E-45219816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772-81A8-4FE7-A69B-44F8AAFE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52B-3CC9-44F0-A89A-FBB363F7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408A-D2AF-4DE7-8742-F1AF3C3D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427-ADC4-411B-B7BC-3C1B6784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618-6816-44F2-AA4B-6F850D31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17E1-0579-43BE-B062-82750F0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479-B536-439D-A06E-857ABC1C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DC72-0C98-4AA2-B289-8B49CCEE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563-71C3-4A1F-AA55-BCF76DA7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9EF-A97F-4F7D-B247-6EF544FE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4A1-5DB1-4D1B-AC08-E80A4F10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2AAC-2A39-4DBA-BED3-CE87D5255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Equilibrio de M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jemplo: aumento esperado del precio de un bien o servicio </a:t>
            </a:r>
            <a:r>
              <a:rPr b="0" lang="es-MX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 efectos sobre precio hoy y cantidad de equilibrio de mercad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 u="sng">
                <a:solidFill>
                  <a:srgbClr val="000000"/>
                </a:solidFill>
                <a:uFillTx/>
                <a:latin typeface="Arial"/>
              </a:rPr>
              <a:t>Ejercicio: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 suponga que la curva de oferta de un producto está dada por P = 2 + 3Q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La demanda es: P = 10 – Q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ncontrar precio y cantidad de equilibrio. Grafic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de un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uest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en el equilibrio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Dos formas de análisis: (1) el impuesto es pagado por el vendedor, (2) el impuesto es pagado por el consumidor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1) La curva de oferta representa el mínimo precio al cual las empresas están dispuestas ofrecer una determinada cantidad del bien o servicio que vende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Si se aplica un impuesto de t por unidad de producción, el precio de mercado debe ser Po + t para que la empresa ofrezca lo mismo que antes del impuesto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Es decir, el mínimo precio al cual está dispuesto a ofrecer Qo es Po + t. (Ver gráfic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de un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uest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en el equilibrio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Efectos sobre el equilibrio de mercado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a) Disminuye la cantidad transa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b) El precio que paga el consumidor sube de Po a P1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c) El precio que percibe el productor es P1 – 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d) Aunque el impuesto sea pagado por el vendedor, </a:t>
            </a:r>
            <a:r>
              <a:rPr b="0" lang="es-MX" sz="2300" spc="-1" strike="noStrike" u="sng">
                <a:solidFill>
                  <a:srgbClr val="000000"/>
                </a:solidFill>
                <a:uFillTx/>
                <a:latin typeface="Arial"/>
              </a:rPr>
              <a:t>la carga se distribuye entre ambos participantes del mercado</a:t>
            </a: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(e) Esto, porque </a:t>
            </a:r>
            <a:r>
              <a:rPr b="0" lang="es-MX" sz="2300" spc="-1" strike="noStrike" u="sng">
                <a:solidFill>
                  <a:srgbClr val="000000"/>
                </a:solidFill>
                <a:uFillTx/>
                <a:latin typeface="Arial"/>
              </a:rPr>
              <a:t>sube el precio que pagan los consumidores</a:t>
            </a:r>
            <a:r>
              <a:rPr b="0" lang="es-MX" sz="2300" spc="-1" strike="noStrike">
                <a:solidFill>
                  <a:srgbClr val="000000"/>
                </a:solidFill>
                <a:latin typeface="Arial"/>
              </a:rPr>
              <a:t> y el precio que reciben los oferentes es inferior en menos de t unidade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fectos de un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impuest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en el equilibrio de mer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impuesto tiende a recaer en la parte del mercado que tiene menos posibilidades de eludi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sí, si existen pocos sustitutos de un determinado bien, los oferentes traspasaran una mayor parte del impuesto a los consum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2) Una segunda forma de analizar es suponer que el impuesto lo paga el consumidor </a:t>
            </a:r>
            <a:r>
              <a:rPr b="0" lang="es-MX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fectos sobre la dema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clusión: el efecto del impuesto sobre el equilibrio del mercado es el mismo si lo pagan los consumidores o produc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Utilidad, Preferencias y 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Análisis de U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llama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utilidad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 la satisfacción que obtiene un individuo por el consumo de un bien o serv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utilidad es un concepto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subjetiv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que no puede ser medi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r lo tanto, se utiliza un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análisis de utilidad ord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e análisis permite ordenar las preferencias, pero no se puede decir nada respecto al tamaño d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el análisis posterior de las decisiones de los consumidores, haremos una serie de supuestos sobre el comportamiento de los individuos. Estos supuest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ntegridad o completitud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capacidad de decidir entre combinaciones de bie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Consistencia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(o transitiv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nsaciabilidad: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más es preferido a me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2:35:49Z</dcterms:created>
  <dc:creator>Felipe Jaque</dc:creator>
  <dc:description/>
  <dc:language>en-US</dc:language>
  <cp:lastModifiedBy>Gerencia Informática</cp:lastModifiedBy>
  <dcterms:modified xsi:type="dcterms:W3CDTF">2006-03-20T13:59:04Z</dcterms:modified>
  <cp:revision>2</cp:revision>
  <dc:subject/>
  <dc:title>Microeconomía Clase 4</dc:title>
</cp:coreProperties>
</file>