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E19-8FEC-4C08-B60F-CB94A364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91E-5014-44A2-8BC1-41551E2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225-2E78-4EF7-8D07-5DDC355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106-7273-430C-8466-CDABE834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78B-C376-4EC3-AAB9-E727991E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EC8-C403-46C7-8818-F97E7A6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DF5-ACDB-448C-8AB1-25AE029F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B17-BD69-4040-AEEE-0E056BA8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727-080F-46AD-843F-1ADC79D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564-4517-4B73-92B0-7D8C6D7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1A3-4029-48B7-851A-0E9BEBE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5A1-281F-49F0-9E6A-BCB4276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9D2A-5452-4A5F-B1BE-15B687A16E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manda y Oferta (Repas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Ley de la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curva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eterminantes de la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Ley de la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curva de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eterminantes de la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Ley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uando aumenta el precio de un bien o servicio (todo lo demás constante), disminuye la </a:t>
            </a: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cantidad demandada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urva de demanda de M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urva de demanda de merca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unión de los puntos que señalan las distintas combinaciones de precios y cantidades compradas de un bien o serv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jempl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 Graficar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56000" y="3429000"/>
          <a:ext cx="4343400" cy="322740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manz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mand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rminantes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mportante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splazamientos de la cu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 Ingreso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bienes normales e inf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. Gustos y Pre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 Precios de bienes relacionados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bienes sustitutos y comple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Expectativas de ingreso y precios relativ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.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Ley de la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uando aumenta el precio de un bien o servicio (todo lo demás constante), aumenta la </a:t>
            </a: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cantidad ofrecida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urva de oferta de M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urva de oferta de merca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unión de los puntos que señalan las distintas combinaciones de precios y cantidades ofrecidas de un bien o serv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jempl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 Graficar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40000" y="3429000"/>
          <a:ext cx="4343400" cy="29527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manz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ofrec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rminantes de la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mportante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splazamientos de la cu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 Precios de insu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.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 Impuestos y subsi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Expectativas de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. Número de o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58:11Z</dcterms:created>
  <dc:creator>Felipe Jaque</dc:creator>
  <dc:description/>
  <dc:language>en-US</dc:language>
  <cp:lastModifiedBy>Gerencia Informática</cp:lastModifiedBy>
  <dcterms:modified xsi:type="dcterms:W3CDTF">2006-03-08T15:02:45Z</dcterms:modified>
  <cp:revision>1</cp:revision>
  <dc:subject/>
  <dc:title>Microeconomía Clase 3</dc:title>
</cp:coreProperties>
</file>