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7C0-98D3-4C01-9D5E-5992D31D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D81-E5EB-470B-A175-6C3BE05D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481-21B7-41AB-BE9F-D11824DD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55A-30D2-4278-830F-A36C7F33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8D1-9766-4B0D-B597-5A88A63C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36E-A310-4AE3-B744-308C1951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88F-E8E2-4AA1-98C5-06CC3F92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EDB-C124-4EC2-81A5-5721D5EB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C0A-F2C3-416C-B1DE-1FBBA7E2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EDD-34E9-44AC-9885-8E42B96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C23-9316-4F3B-902B-156B26E6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C8A-BBC0-4F1C-8DE2-28A3038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71B0-F8EA-40F1-856B-B54055A686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manda y Oferta (Repas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 Ley de la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 curva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eterminantes de la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 Ley de la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 curva de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eterminantes de la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Ley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uando aumenta el precio de un bien o servicio (todo lo demás constante), disminuye la </a:t>
            </a:r>
            <a:r>
              <a:rPr b="0" i="1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cantidad demandada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curva de demanda de M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urva de demanda de merca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unión de los puntos que señalan las distintas combinaciones de precios y cantidades compradas de un bien o servi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jempl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 Graficar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56000" y="3429000"/>
          <a:ext cx="4343400" cy="322740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manz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demand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terminantes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mportante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splazamientos de la cur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 Ingreso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bienes normales e inf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. Gustos y Pre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 Precios de bienes relacionados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bienes sustitutos y comple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Expectativas de ingreso y precios relativ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5.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Ley de la 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uando aumenta el precio de un bien o servicio (todo lo demás constante), aumenta la </a:t>
            </a:r>
            <a:r>
              <a:rPr b="0" i="1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cantidad ofrecida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curva de oferta de M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urva de oferta de merca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unión de los puntos que señalan las distintas combinaciones de precios y cantidades ofrecidas de un bien o servi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jempl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 Graficar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40000" y="3429000"/>
          <a:ext cx="4343400" cy="29527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manz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ofrec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terminantes de la 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mportante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splazamientos de la cur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 Precios de insu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.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 Impuestos y subsi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Expectativas de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5. Número de o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58:11Z</dcterms:created>
  <dc:creator>Felipe Jaque</dc:creator>
  <dc:description/>
  <dc:language>en-US</dc:language>
  <cp:lastModifiedBy>Gerencia Informática</cp:lastModifiedBy>
  <dcterms:modified xsi:type="dcterms:W3CDTF">2006-03-08T15:02:45Z</dcterms:modified>
  <cp:revision>1</cp:revision>
  <dc:subject/>
  <dc:title>Microeconomía Clase 3</dc:title>
</cp:coreProperties>
</file>