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0B3D-A382-4868-A641-CFC2D966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63F3-0DCF-4D3E-B8A7-24AD00D5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1EE1-86A0-42A4-8770-673FD150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2AF9-2109-4B2E-B0AE-DD5ABA2D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E51F-CC1F-420E-B311-B625EE4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E87B-8FA9-4CE2-A000-BBF5F75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4550-B0F2-4A6A-A9C4-66B55401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9DB-5B3D-47A4-9992-8ED2FDE7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5DD5-FBE7-403A-92A3-9A91800F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5CDF-18D2-49F9-95A2-48A4F22B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0625-491C-46FD-92B3-8D45E7F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81C3-9F14-4024-A302-0DE062CA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9E60-C402-4AB9-9D88-2B4A3AFB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86E7-FBF9-418E-806C-0E1F721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C779-CA72-49DE-B7E1-4F326DC0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60DF-96D8-4449-89AD-8FFF26C9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A506-B983-45A3-8757-97BDADB9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1979-3E57-4C95-A1D4-8BBD68A6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7E3E-E2F2-4FF5-8AA9-F7038A76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C465-5DE8-4704-A091-A2DF186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267D-8F87-444E-9BB1-301BFC6A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DF73-8907-4CB1-B789-DB29DF95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4EA4-3404-4DE1-B30F-61249A4B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C848-99DB-449D-9D5A-1E28C6B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2621-4C07-4521-95DD-07F6761968E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966-EF33-472D-8FFF-A176C755056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recho Procesal I</a:t>
            </a:r>
            <a:br>
              <a:rPr sz="2000"/>
            </a:b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 Raúl Montero López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200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1268280"/>
            <a:ext cx="237636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acultad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376360" cy="5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A06D-0B75-430F-8053-8093D6FBC1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537200"/>
            <a:ext cx="8353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 conflicto y sus formas de solución civil y pe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, contenido y evolución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uentes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1. Fuentes directas: La Constitución Política, la Ley procesal, los Tratados internacionales y los Auto Acord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2. Fuentes indirectas: La Jurisprudencia y la doctr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ey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1. 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2. Natural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3. Eficacia en el tiempo y en el espa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4. Interpretación e integ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5. Objetivos de estas leyes y análisis de los principales textos que las contie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Unidad o diversidad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476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PROGRAMA DERECHO PROCESAL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S INSTITUCIONES DEL DERECHO PROCESAL</a:t>
            </a:r>
            <a:r>
              <a:rPr b="1" lang="es-ES_tradnl" sz="1200" spc="-1" strike="noStrike">
                <a:solidFill>
                  <a:srgbClr val="9999c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19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6680" y="3933360"/>
            <a:ext cx="1200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JURISDI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365000"/>
            <a:ext cx="8353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, acepciones del vocab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urisdicción de derecho y jurisprudencia de equ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urisdicción, legislación y administ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ím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aracterís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Momentos Jurisdic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flictos Jurisdic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as inmunidades jurisdiccionales en gene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equivalentes jurisdic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 contenciosos administr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k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ctos judiciales no contencios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tribuciones con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922D-9D4E-492A-AA39-9CCBF5FB1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196640"/>
            <a:ext cx="8280360" cy="18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 que la determin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gener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que determinan la competencia absolu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que determinan la competencia rela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sobre distribución de cau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Subrogación e integ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uestiones y contien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mplicancias y recus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620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 COMPE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18248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y 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ases de su organización y sistemas de nomb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tribu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studio en particular de los tribunales 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auxiliares de la administración de justicia y los abogados. Concepto y fun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Nociones de los principales tribunale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0200" y="3519720"/>
            <a:ext cx="28278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DE LOS ÓRGANOS JURISDIC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D54C-C093-4B93-9AF6-037FCEA194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1920"/>
            <a:ext cx="60278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y evolución histórica de las acciones civil y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flicto, acción, pretensión y deman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tensiones múlt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rrespondencia entre la acción y la excep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rrespondencia entre la pretensión y la contrapreten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de defen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xcepciones y alegaciones o defen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conve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5040" y="475920"/>
            <a:ext cx="1983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 ACCION Y LA DEFE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2480" y="3068280"/>
            <a:ext cx="2094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EL PROCESO CIVIL Y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571200"/>
            <a:ext cx="418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Naturaleza juríd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 subjetivos y objetivos del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13400" y="4507920"/>
            <a:ext cx="159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941360"/>
            <a:ext cx="7128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incipios forma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mpulso proce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Plazos y la Rebeld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Suspensión, Paralización y extinción del Procedimiento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0091-61D1-451A-BA08-9A3E1427B7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49800" y="475920"/>
            <a:ext cx="2511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OS PRESUPUES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013760"/>
            <a:ext cx="313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exis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vali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efic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8120" y="2133360"/>
            <a:ext cx="26769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OS ACTOS JURIDIC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780640"/>
            <a:ext cx="6381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Hechos y actos proce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oncepto, y caracterís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le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ctos del tribunal. 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ctos de partes y terceros. Representación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ficacia y efectos de los actos proce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fectos de las resoluciones judi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Nociones generales sobre los medios de impu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160" y="4868640"/>
            <a:ext cx="5287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982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9999cc"/>
                </a:solidFill>
                <a:uFillTx/>
                <a:latin typeface="Tahoma"/>
              </a:rPr>
              <a:t>CAPITULO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9999cc"/>
                </a:solidFill>
                <a:latin typeface="Tahoma"/>
              </a:rPr>
              <a:t>     </a:t>
            </a:r>
            <a:r>
              <a:rPr b="1" i="1" lang="es-CL" sz="1200" spc="-1" strike="noStrike" u="sng">
                <a:solidFill>
                  <a:srgbClr val="9999cc"/>
                </a:solidFill>
                <a:uFillTx/>
                <a:latin typeface="Tahoma"/>
              </a:rPr>
              <a:t>REGLAS COMUNES A TODO PROCEDIMIENTO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4798-A2D6-475C-9787-6A2323648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nws</cp:lastModifiedBy>
  <dcterms:modified xsi:type="dcterms:W3CDTF">2006-04-03T22:13:20Z</dcterms:modified>
  <cp:revision>122</cp:revision>
  <dc:subject/>
  <dc:title>PowerPoint Presentation</dc:title>
</cp:coreProperties>
</file>