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38AE4-F1DF-4F66-9576-51D33496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CC05-1D45-479C-B5ED-41FE0FC60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B1CA2-1816-4548-9514-745C5444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FDC74-8C17-4FFE-A6FB-FE938658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05AC-A769-4932-AAD4-2757739A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BF131-1590-4E4C-83A9-709D1104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1BDA-5FF0-4F57-ABC9-7EFCA8F1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7911-BD49-4971-A2EF-CE8CA1F4D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A7002-963C-4824-997A-24E65D3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CDCEA-3CB6-4ACF-A267-B99D6749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10A2-A4AF-41F6-A988-F93327C2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E6647-0314-4606-BB2E-31F1F9D7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3F28-FA05-4323-971A-23624505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A7AEE-5ABE-4FAD-BF6F-33283E89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A30F-869A-4B61-8C87-94197728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8F86-EA65-4BC3-9FE0-57FAA8EA0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FE62-ED70-4D4A-B466-AF97F9409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4CA1D-4257-4F0C-8AE5-519D97F6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740A9-D5CE-490B-8E25-C0186DD3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EA11A-B60C-4418-B038-84BB7FF1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DBD04-8C24-404B-A86A-B410AC5A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2A65-2F70-4B42-BD7F-99FE0B8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E834B-AF4A-4327-BFF8-CDD893BF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E4ED-F80B-46A6-B742-FA3FCF0C0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DD39-5EF0-4F25-8F2D-92CBCD0DF16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7A2-1782-4346-9473-FB60370AC4B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recho Procesal I</a:t>
            </a:r>
            <a:br>
              <a:rPr sz="2000"/>
            </a:b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 Raúl Montero López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2006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1268280"/>
            <a:ext cx="2376360" cy="144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Facultad" descr=""/>
          <p:cNvPicPr/>
          <p:nvPr/>
        </p:nvPicPr>
        <p:blipFill>
          <a:blip r:embed="rId1"/>
          <a:stretch/>
        </p:blipFill>
        <p:spPr>
          <a:xfrm>
            <a:off x="3348000" y="692280"/>
            <a:ext cx="2376360" cy="55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F46EB-0A63-4906-81DA-7CC8694BDD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9640" y="1537200"/>
            <a:ext cx="835344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 conflicto y sus formas de solución civil y pen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contenido y evolución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uentes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1. Fuentes directas: La Constitución Política, la Ley procesal, los Tratados internacionales y los Auto Acordad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2. Fuentes indirectas: La Jurisprudencia y la doctrin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ey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1. 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2. Naturale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3. Eficacia en el tiempo y en el espac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4. Interpret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5. Objetivos de estas leyes y análisis de los principales textos que las contien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Unidad o diversidad del Derecho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95640" y="476280"/>
            <a:ext cx="4572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PROGRAMA DERECHO PROCESAL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S INSTITUCIONES DEL DERECHO PROCESAL</a:t>
            </a:r>
            <a:r>
              <a:rPr b="1" lang="es-ES_tradnl" sz="1200" spc="-1" strike="noStrike">
                <a:solidFill>
                  <a:srgbClr val="9999cc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5640" y="1197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INTRODU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56680" y="3933360"/>
            <a:ext cx="12002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JURISDIC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4365000"/>
            <a:ext cx="83534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, acepciones del vocab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 de derecho y jurisprudencia de equid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urisdicción, legislación y administ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ími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Momento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as inmunidades jurisdiccionales en gener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equivalentes jurisdiccion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 contenciosos administrativ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k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ctos judiciales no contencios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 conex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F56E-26FC-4381-B2E1-DB1D5E80A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9640" y="1196640"/>
            <a:ext cx="8280360" cy="18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que la determin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gener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absolu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que determinan la competencia relativ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glas sobre distribución de cau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brogación e integ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uestiones y contiend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licancias y recus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62064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COMPE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18248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ases de su organización y sistemas de nombra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tribu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studio en particular de los tribunales ordina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auxiliares de la administración de justicia y los abogados. Concepto y f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ociones de los principales tribunales espe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árbi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130200" y="3519720"/>
            <a:ext cx="282780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DE LOS ÓRGANOS JURISDICC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E6C4B-9ED5-4EE2-9EE8-515521304D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1051920"/>
            <a:ext cx="60278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y evolución histórica de las acciones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flicto, acción, pretensión y dema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tensiones múlti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acción y la excep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rrespondencia entre la pretensión y la contrapreten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 de defens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xcepciones y alegaciones o defens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Reconven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5040" y="475920"/>
            <a:ext cx="19836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A ACCION Y LA DEFEN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62480" y="3068280"/>
            <a:ext cx="209484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SO CIVIL Y PE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571200"/>
            <a:ext cx="4181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Naturaleza jurídi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 subjetivos y objetivos del proce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13400" y="4507920"/>
            <a:ext cx="159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941360"/>
            <a:ext cx="712800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oncep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lem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incipios formativ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Impulso proce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f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Los Plazos y la Rebeld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Suspensión, Paralización y extinción del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266D9-2C59-48D3-B95A-9FDAED2F40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349800" y="475920"/>
            <a:ext cx="2511000" cy="4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V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PRESUPUEST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013760"/>
            <a:ext cx="313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a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xis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b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valid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c.- 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9999cc"/>
                </a:solidFill>
                <a:latin typeface="Tahoma"/>
              </a:rPr>
              <a:t>Presupuestos procesales de efic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28120" y="2133360"/>
            <a:ext cx="267696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CAPITULO 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200" spc="-1" strike="noStrike" u="sng">
                <a:solidFill>
                  <a:srgbClr val="9999cc"/>
                </a:solidFill>
                <a:uFillTx/>
                <a:latin typeface="Tahoma"/>
              </a:rPr>
              <a:t>LOS ACTOS JURIDICOS PROCE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2780640"/>
            <a:ext cx="63817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echos y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b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oncepto, y caracterís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le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d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Clasifica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l tribunal.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g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Actos de partes y terceros. Representación proces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h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icacia y efectos de los actos proce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Efectos de las resoluciones judici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j.-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9999cc"/>
                </a:solidFill>
                <a:latin typeface="Tahoma"/>
              </a:rPr>
              <a:t>Nociones generales sobre los medios de impugn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28160" y="4868640"/>
            <a:ext cx="52873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982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9999cc"/>
                </a:solidFill>
                <a:uFillTx/>
                <a:latin typeface="Tahoma"/>
              </a:rPr>
              <a:t>CAPITULO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200" spc="-1" strike="noStrike">
                <a:solidFill>
                  <a:srgbClr val="9999cc"/>
                </a:solidFill>
                <a:latin typeface="Tahoma"/>
              </a:rPr>
              <a:t>     </a:t>
            </a:r>
            <a:r>
              <a:rPr b="1" i="1" lang="es-CL" sz="1200" spc="-1" strike="noStrike" u="sng">
                <a:solidFill>
                  <a:srgbClr val="9999cc"/>
                </a:solidFill>
                <a:uFillTx/>
                <a:latin typeface="Tahoma"/>
              </a:rPr>
              <a:t>REGLAS COMUNES A TODO PROCEDIMIENTO</a:t>
            </a:r>
            <a:r>
              <a:rPr b="0" lang="en-US" sz="1800" spc="-1" strike="noStrike">
                <a:solidFill>
                  <a:srgbClr val="99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Facultad" descr=""/>
          <p:cNvPicPr/>
          <p:nvPr/>
        </p:nvPicPr>
        <p:blipFill>
          <a:blip r:embed="rId1"/>
          <a:stretch/>
        </p:blipFill>
        <p:spPr>
          <a:xfrm>
            <a:off x="7524720" y="333360"/>
            <a:ext cx="1192320" cy="289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451640" y="620640"/>
            <a:ext cx="1335240" cy="1652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DEPARTAMENTO DE DERECHO</a:t>
            </a:r>
            <a:r>
              <a:rPr b="1" lang="es-CL" sz="600" spc="-1" strike="noStrike">
                <a:solidFill>
                  <a:srgbClr val="9999cc"/>
                </a:solidFill>
                <a:latin typeface="Arial Narrow"/>
              </a:rPr>
              <a:t> </a:t>
            </a:r>
            <a:r>
              <a:rPr b="1" lang="es-CL" sz="500" spc="-1" strike="noStrike">
                <a:solidFill>
                  <a:srgbClr val="9999cc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0B2CB-9DD0-48D7-9E2B-BE44A96058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4-03T22:13:20Z</dcterms:modified>
  <cp:revision>122</cp:revision>
  <dc:subject/>
  <dc:title>PowerPoint Presentation</dc:title>
</cp:coreProperties>
</file>