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4F3C-8F10-4DF3-9877-3E512DFD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7680-CC9E-49B7-8AC4-4A5C0CC1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4F187-C645-424A-B55C-27872789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D2185-9EA7-4F3D-A18A-62A30E3E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639C-6D1C-42DB-957B-D093E3E7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B9B2-2F87-4B7F-AD2D-BC4C1E64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FAC8-FE94-4AC3-AB5A-8A75A926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FA77-05D6-4900-AF68-C4EE07F2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168D-31ED-46FE-85C8-90F0E85F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EE74-8D65-46B5-9CCF-14E60FF3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6BE5-3E71-47DA-A854-C042D9AC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53A8-E569-4FC3-8B67-142A142B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EF3C-798F-4749-A479-4C4EB7DA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2427-852B-4A0D-AE88-7D27C3BE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92B6-99C2-47CF-901A-9A6BAC9D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B43A-49F7-442C-8B28-3AD293E8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0B58-81D6-4AE5-95C5-95035DD6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F66C1-9EF5-4CE7-A4B8-08955046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24F4-096B-49AE-B27B-62BF0FE6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14FCB-5D03-4D4C-9542-6B166B45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6CC6-003B-49DA-B05D-5CAA5D7A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89B80-939D-4F5A-B46B-DA0F3381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DB35-C68D-4DE8-98F1-11655534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655B-0BE6-4059-9C95-76910BE5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E0B3-F8FE-4836-8F39-88AC2B4E52C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D1F7-52B6-4746-B2DC-89558FE42E5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recho Procesal I</a:t>
            </a:r>
            <a:br>
              <a:rPr sz="2000"/>
            </a:b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 Raúl Montero López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2006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1268280"/>
            <a:ext cx="237636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DEPARTAMENTO DE DERECHO</a:t>
            </a:r>
            <a:r>
              <a:rPr b="1" lang="es-CL" sz="600" spc="-1" strike="noStrike">
                <a:solidFill>
                  <a:srgbClr val="9999cc"/>
                </a:solidFill>
                <a:latin typeface="Arial Narrow"/>
              </a:rPr>
              <a:t> </a:t>
            </a: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Facultad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2376360" cy="5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9F158-8C20-4D02-AD3D-84797405F2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1537200"/>
            <a:ext cx="835344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l conflicto y sus formas de solución civil y pe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, contenido y evolución del Derecho Proce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uentes del Derecho Proce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1. Fuentes directas: La Constitución Política, la Ley procesal, los Tratados internacionales y los Auto Acord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2. Fuentes indirectas: La Jurisprudencia y la doctri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ey proce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1. Concep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2. Natural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3. Eficacia en el tiempo y en el espac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4. Interpretación e integ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5. Objetivos de estas leyes y análisis de los principales textos que las contie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Unidad o diversidad del Derecho Proce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47628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PROGRAMA DERECHO PROCESAL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LAS INSTITUCIONES DEL DERECHO PROCESAL</a:t>
            </a:r>
            <a:r>
              <a:rPr b="1" lang="es-ES_tradnl" sz="1200" spc="-1" strike="noStrike">
                <a:solidFill>
                  <a:srgbClr val="9999cc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1197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INTRODU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56680" y="3933360"/>
            <a:ext cx="1200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JURISDI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4365000"/>
            <a:ext cx="8353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, acepciones del vocab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Jurisdicción de derecho y jurisprudencia de equid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Jurisdicción, legislación y administ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ím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aracteríst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Momentos Jurisdic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flictos Jurisdicc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h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as inmunidades jurisdiccionales en gene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i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os equivalentes jurisdic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j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o contenciosos administr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k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ctos judiciales no contencios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tribuciones conex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Facultad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92320" cy="289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451640" y="620640"/>
            <a:ext cx="1335240" cy="165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DEPARTAMENTO DE DERECHO</a:t>
            </a:r>
            <a:r>
              <a:rPr b="1" lang="es-CL" sz="600" spc="-1" strike="noStrike">
                <a:solidFill>
                  <a:srgbClr val="9999cc"/>
                </a:solidFill>
                <a:latin typeface="Arial Narrow"/>
              </a:rPr>
              <a:t> </a:t>
            </a: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D0C88-FCC1-4D9D-9E19-56C9B16323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9640" y="1196640"/>
            <a:ext cx="8280360" cy="18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lementos que la determin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lasific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Reglas gener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Reglas que determinan la competencia absolu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Reglas que determinan la competencia rela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Reglas sobre distribución de cau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h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Subrogación e integ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i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uestiones y contien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J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Implicancias y recus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620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LA COMPE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418248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 y Clasific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ases de su organización y sistemas de nomb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tribu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studio en particular de los tribunales ord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os auxiliares de la administración de justicia y los abogados. Concepto y fun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Nociones de los principales tribunales 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os árbi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0200" y="3519720"/>
            <a:ext cx="28278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DE LOS ÓRGANOS JURISDICC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Facultad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92320" cy="289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451640" y="620640"/>
            <a:ext cx="1335240" cy="165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DEPARTAMENTO DE DERECHO</a:t>
            </a:r>
            <a:r>
              <a:rPr b="1" lang="es-CL" sz="600" spc="-1" strike="noStrike">
                <a:solidFill>
                  <a:srgbClr val="9999cc"/>
                </a:solidFill>
                <a:latin typeface="Arial Narrow"/>
              </a:rPr>
              <a:t> </a:t>
            </a: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F051-45A2-47C5-BCC3-DF12E6E2D9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1920"/>
            <a:ext cx="60278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 y evolución histórica de las acciones civil y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flicto, acción, pretensión y deman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lasific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Pretensiones múlti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rrespondencia entre la acción y la excep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rrespondencia entre la pretensión y la contrapreten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 de defen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h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lasific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i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xcepciones y alegaciones o defen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j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Reconven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15040" y="475920"/>
            <a:ext cx="19836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LA ACCION Y LA DEFEN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62480" y="3068280"/>
            <a:ext cx="20948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EL PROCESO CIVIL Y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3571200"/>
            <a:ext cx="418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Naturaleza juríd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lementos subjetivos y objetivos del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13400" y="4507920"/>
            <a:ext cx="159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V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EL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941360"/>
            <a:ext cx="7128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le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Principios formativ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Impulso proce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os Plazos y la Rebeld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Suspensión, Paralización y extinción del Procedimiento</a:t>
            </a: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Facultad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92320" cy="289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451640" y="620640"/>
            <a:ext cx="1335240" cy="165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DEPARTAMENTO DE DERECHO</a:t>
            </a:r>
            <a:r>
              <a:rPr b="1" lang="es-CL" sz="600" spc="-1" strike="noStrike">
                <a:solidFill>
                  <a:srgbClr val="9999cc"/>
                </a:solidFill>
                <a:latin typeface="Arial Narrow"/>
              </a:rPr>
              <a:t> </a:t>
            </a: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BB17F-B7B0-454F-892C-33401A246C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349800" y="475920"/>
            <a:ext cx="25110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V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LOS PRESUPUESTOS PROCE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013760"/>
            <a:ext cx="3133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 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Presupuestos procesales de exis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 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Presupuestos procesales de valid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 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Presupuestos procesales de efic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28120" y="2133360"/>
            <a:ext cx="267696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LOS ACTOS JURIDICOS PROCE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2780640"/>
            <a:ext cx="6381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Hechos y actos proces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Concepto, y característ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Ele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Clasific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Actos del tribunal. Resoluciones judi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Actos de partes y terceros. Representación proce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h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Eficacia y efectos de los actos proces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Efectos de las resoluciones judici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j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Nociones generales sobre los medios de impu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8160" y="4868640"/>
            <a:ext cx="5287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982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9999cc"/>
                </a:solidFill>
                <a:uFillTx/>
                <a:latin typeface="Tahoma"/>
              </a:rPr>
              <a:t>CAPITULO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9999cc"/>
                </a:solidFill>
                <a:latin typeface="Tahoma"/>
              </a:rPr>
              <a:t>     </a:t>
            </a:r>
            <a:r>
              <a:rPr b="1" i="1" lang="es-CL" sz="1200" spc="-1" strike="noStrike" u="sng">
                <a:solidFill>
                  <a:srgbClr val="9999cc"/>
                </a:solidFill>
                <a:uFillTx/>
                <a:latin typeface="Tahoma"/>
              </a:rPr>
              <a:t>REGLAS COMUNES A TODO PROCEDIMIENTO</a:t>
            </a: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Facultad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92320" cy="289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451640" y="620640"/>
            <a:ext cx="1335240" cy="165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DEPARTAMENTO DE DERECHO</a:t>
            </a:r>
            <a:r>
              <a:rPr b="1" lang="es-CL" sz="600" spc="-1" strike="noStrike">
                <a:solidFill>
                  <a:srgbClr val="9999cc"/>
                </a:solidFill>
                <a:latin typeface="Arial Narrow"/>
              </a:rPr>
              <a:t> </a:t>
            </a: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1C1B-F0B7-4745-89F1-8C9EDD4D14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rtenws</cp:lastModifiedBy>
  <dcterms:modified xsi:type="dcterms:W3CDTF">2006-04-03T22:13:20Z</dcterms:modified>
  <cp:revision>122</cp:revision>
  <dc:subject/>
  <dc:title>PowerPoint Presentation</dc:title>
</cp:coreProperties>
</file>