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408-B9A0-420A-AD66-BEC59C37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123-8A43-4C44-B278-5636BAD9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D06-80DE-4F35-85DA-1D07B440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4D8-E017-41A2-9BAC-ABE8EE8A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A8FA-9157-4B13-A1AB-503D01B3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9970-F27A-48B1-A685-2314529B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3085-108B-4AA1-8571-C8B64307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093B-8975-49A1-8991-62D2AA43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B139-E85D-4809-8830-776A943E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74CB-B983-4B45-9CD1-1EDC6259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5469-150A-4D08-91F5-F9E712F2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2D1-4447-4D29-AAD3-47680C48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37BA-D7B1-4217-998C-2115B841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B99F-734A-4D4F-B29F-E3998F84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DCE5-97F7-43F0-A53C-3831CF89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6DAC-BCAD-4A11-99D2-D7D4015E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0123-10BA-4E27-ACA9-B0E822D6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B17-625A-4254-BE89-84B598DA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C4B-40A5-4E0D-879F-9D7CFC83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0A4-2991-40CF-AF3E-41F5F3EA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A1A-3C5C-4086-8314-A1F4D8CD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2F8-3D4F-4B3C-8524-6DA9699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7A0-BA3C-412A-AE62-8904E9B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B6E-E47C-4FCC-B50C-BF044309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3351-096C-495B-A40C-8DB667C84FB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E587-3CE1-4954-8771-C47EBFAB0FD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ENCUESTA UNIVERSITARIA</a:t>
            </a:r>
            <a:br>
              <a:rPr sz="4000"/>
            </a:b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br>
              <a:rPr sz="4000"/>
            </a:b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FACULTAD DE DERECHO</a:t>
            </a:r>
            <a:br>
              <a:rPr sz="4000"/>
            </a:b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MARZO 200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3280" y="3644640"/>
            <a:ext cx="59767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Curs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epública y comunidad en cr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fesor: Sergio Micco Aguay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umnos ayudante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Juan Pablo Navarr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laudio Pér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9. PENSANDO EN EL FUTURO, DE LAS SIGUIENTES ALTERNATIVAS ¿CUÁL ES LA QUE CONSIDERAS MÁS IMPORTANTE PARA SER FELIZ (LEA LAS ALTERNATIVAS Y MARQUE UNA SOLA)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1341360"/>
          <a:ext cx="820728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341360"/>
                    <a:ext cx="82072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10.- EN TODAS LAS SOCIEDADES SE PRODUCEN CONFLICTOS. CUANDO ESTOS SE PRODUCEN, ¿QUÉ DEBIERA HACERSE...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052640"/>
          <a:ext cx="8208720" cy="540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052640"/>
                    <a:ext cx="8208720" cy="54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11¿PARTICIPAS EN ALGUNA ORGANIZACIÓN </a:t>
            </a:r>
            <a:r>
              <a:rPr b="1" lang="es-CL" sz="1600" spc="-1" strike="noStrike" u="sng">
                <a:solidFill>
                  <a:srgbClr val="e5ffff"/>
                </a:solidFill>
                <a:uFillTx/>
                <a:latin typeface="Times New Roman"/>
              </a:rPr>
              <a:t>DENTRO</a:t>
            </a: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 DE LA UNIVERSIDAD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413000"/>
          <a:ext cx="8280360" cy="511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13000"/>
                    <a:ext cx="82803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PARTICIPAS EN ALGUNA ORGANIZACIÓN </a:t>
            </a:r>
            <a:r>
              <a:rPr b="1" lang="es-CL" sz="1600" spc="-1" strike="noStrike" u="sng">
                <a:solidFill>
                  <a:srgbClr val="e5ffff"/>
                </a:solidFill>
                <a:uFillTx/>
                <a:latin typeface="Times New Roman"/>
              </a:rPr>
              <a:t>FUERA</a:t>
            </a: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 DE LA UNIVERSIDAD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765000"/>
          <a:ext cx="8353440" cy="583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765000"/>
                    <a:ext cx="835344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ESTÁS DE ACUERDO O EN DESACUERDO CON LAS SIGUIENTES AFIRMACIONE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1341360"/>
          <a:ext cx="8351640" cy="504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341360"/>
                    <a:ext cx="8351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RESPECTO DE LA POLÍTICA TU CREES QUE....(LEA LAS ALTERNATIVAS Y MARQUE UNA SOLA)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268280"/>
          <a:ext cx="8496000" cy="532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268280"/>
                    <a:ext cx="849600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CON CUÁL DE LAS SIGUIENTES FRASES ESTÁS MÁS DE ACUERDO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136000" cy="518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341360"/>
                    <a:ext cx="8136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EN TU OPINIÓN, LA DEMOCRACIA EN NUESTRO PAÍS....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1341360"/>
          <a:ext cx="8280360" cy="511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341360"/>
                    <a:ext cx="828036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EN LA ACTUALIDAD, ¿CUÁN INTERESADO ESTAS EN LOS TEMAS POLÍTICO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1341360"/>
          <a:ext cx="8569080" cy="511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341360"/>
                    <a:ext cx="856908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ESTÁS INSCRITO EN EL REGISTRO ELECTORAL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00" y="1413000"/>
          <a:ext cx="8569080" cy="49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856908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ffff"/>
                </a:solidFill>
                <a:latin typeface="Times New Roman"/>
              </a:rPr>
              <a:t>1. EN GENERAL, ¿CUÁN SATISFECHO TE SIENTES CON TU UNIVERSIDAD?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4000" y="1268280"/>
          <a:ext cx="8351640" cy="558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268280"/>
                    <a:ext cx="83516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ESTÁS DE ACUERDO O EN DESACUERDO CON LAS SIGUIENTES AFIRMACIONE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197000"/>
          <a:ext cx="8569080" cy="532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85690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ESTAS ESTUDIANDO CON CRÉDITO UNIVERSITARIO?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341360"/>
          <a:ext cx="8353440" cy="518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341360"/>
                    <a:ext cx="83534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e5ffff"/>
                </a:solidFill>
                <a:latin typeface="Times New Roman"/>
              </a:rPr>
              <a:t>¿QUÉ EDAD TIENES?</a:t>
            </a: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s-CL" sz="2800" spc="-1" strike="noStrike">
                <a:solidFill>
                  <a:srgbClr val="e5ffff"/>
                </a:solidFill>
                <a:latin typeface="Times New Roman"/>
              </a:rPr>
              <a:t>Promedio 19.7 año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¿CUÁL ES EL NIVEL DE ESTUDIOS DE TUS PADRE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981000"/>
          <a:ext cx="8424720" cy="561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81000"/>
                    <a:ext cx="842472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e5ffff"/>
                </a:solidFill>
                <a:latin typeface="Times New Roman"/>
              </a:rPr>
              <a:t>¿En qué tipo de liceo estudiaste?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125360"/>
          <a:ext cx="8424720" cy="539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42472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e5ffff"/>
                </a:solidFill>
                <a:latin typeface="Times New Roman"/>
              </a:rPr>
              <a:t>SEXO DEL ENTREVISTADO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1341360"/>
          <a:ext cx="8424720" cy="518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341360"/>
                    <a:ext cx="84247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2. UTILIZANDO UNA ESCALA DE NOTAS DE 1 A 7, DONDE 1 ES MUY MALO Y 7 ES MUY BUENO, ¿QUÉ NOTA LE PONDRÍAS A TU UNIVERSIDAD EN CUANTO A...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3029040"/>
          <a:ext cx="4038480" cy="20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29040"/>
                    <a:ext cx="4038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68360" y="1628640"/>
          <a:ext cx="8218440" cy="4680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628640"/>
                    <a:ext cx="82184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3. CAMBIANDO UN POCO DE TEMA, ¿DIRÍAS QUE TIENES TIEMPO LIBRE DE LUNES A VIERNES, DESPUÉS DE LA UNIVERSIDAD O DE CUMPLIR CON TUS OBLIGACIONES ACADÉMICAS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557360"/>
          <a:ext cx="8424720" cy="475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842472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46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4. ¿CUÁLES SON LAS </a:t>
            </a:r>
            <a:r>
              <a:rPr b="1" lang="es-CL" sz="1600" spc="-1" strike="noStrike" u="sng">
                <a:solidFill>
                  <a:srgbClr val="e5ffff"/>
                </a:solidFill>
                <a:uFillTx/>
                <a:latin typeface="Times New Roman"/>
              </a:rPr>
              <a:t>TRES</a:t>
            </a: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 ACTIVIDADES QUÉ HACES REGULARMENTE EN TU TIEMPO LIBRES LOS FINES DE SEMANA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484280"/>
          <a:ext cx="8893080" cy="504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84280"/>
                    <a:ext cx="8893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5. ¿EN QUÉ MEDIDA DIRÍAS QUE TE SIENTES IDENTIFICADO CON...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125360"/>
          <a:ext cx="8280360" cy="539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6. TU DIRÍAS QUE EN GENERAL....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907920"/>
          <a:ext cx="8351640" cy="5689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907920"/>
                    <a:ext cx="835164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7. RESPECTO EL TEMA DE LA AMISTAD, DIRÍAS QUE....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207280" cy="48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82072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5ffff"/>
                </a:solidFill>
                <a:latin typeface="Times New Roman"/>
              </a:rPr>
              <a:t>8. EN GENERAL, ¿CUÁN SATISFECHO O INSATISFECHO TE SIENTES </a:t>
            </a:r>
            <a:r>
              <a:rPr b="1" lang="es-CL" sz="1600" spc="-1" strike="noStrike">
                <a:solidFill>
                  <a:srgbClr val="e5ffff"/>
                </a:solidFill>
                <a:latin typeface="Times New Roman"/>
              </a:rPr>
              <a:t>CON TU VIDA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1413000"/>
          <a:ext cx="8353440" cy="47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35344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8:40:49Z</dcterms:created>
  <dc:creator>referencia04</dc:creator>
  <dc:description/>
  <dc:language>en-US</dc:language>
  <cp:lastModifiedBy>referencia15</cp:lastModifiedBy>
  <dcterms:modified xsi:type="dcterms:W3CDTF">2006-04-18T23:06:32Z</dcterms:modified>
  <cp:revision>6</cp:revision>
  <dc:subject/>
  <dc:title>Diapositiva 1</dc:title>
</cp:coreProperties>
</file>