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160-4542-4F9F-8887-40F3EE83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B71-663F-40E1-AF72-B90F7E93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005-2C23-493A-9569-A565DBB7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B15-425A-4A0E-9256-20F1730F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FE2F-141E-4A86-A10F-A7224992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FECC-B35F-4324-9F83-53A93390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2051-66CB-4004-ADD5-C4DFEA87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6DD8-3E87-4CB0-A208-B9CA9B02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C4BD-0C04-4DED-B1AF-102F24BA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DD55-F297-4A14-B3D7-8BAD4BD1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FFEA-06DC-4233-8056-FF995829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A2B-026F-40F3-B837-12E82078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AAD9-0C04-4904-B2DC-AB08F0B8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EA7F-14A0-4401-8C85-911F4CC0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D48D-6CCF-4ED6-B8FE-99F0AE5F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731E-BF07-4E23-B586-8878E543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8ECB-1C0E-4CB8-B209-A107DF59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9622-20FB-4606-A09E-9AD21E61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99B-DCD2-40CF-88FF-A74104A0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919-F537-44B9-A661-80ED3473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504-BF4A-4A9C-A331-6892C524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4FEA-0A7D-4748-9246-A1F5150E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5DAC-292C-4A1A-85FF-10919854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E61-704C-4030-980F-5E395F65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A1ED-D94F-4FCB-9B79-87B3F1E33F3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5871-52A9-4462-BFB2-0FC6ADF348B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ENCUESTA UNIVERSITARIA</a:t>
            </a:r>
            <a:br>
              <a:rPr sz="4000"/>
            </a:b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UNIVERSIDAD DE CHILE</a:t>
            </a:r>
            <a:br>
              <a:rPr sz="4000"/>
            </a:b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FACULTAD DE DERECHO</a:t>
            </a:r>
            <a:br>
              <a:rPr sz="4000"/>
            </a:b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MARZO 200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43280" y="3644640"/>
            <a:ext cx="597672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Curs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República y comunidad en cr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rofesor: Sergio Micco Aguay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lumnos ayudante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Juan Pablo Navarre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laudio Pér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9. PENSANDO EN EL FUTURO, DE LAS SIGUIENTES ALTERNATIVAS ¿CUÁL ES LA QUE CONSIDERAS MÁS IMPORTANTE PARA SER FELIZ (LEA LAS ALTERNATIVAS Y MARQUE UNA SOLA)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68360" y="1341360"/>
          <a:ext cx="8207280" cy="525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341360"/>
                    <a:ext cx="820728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10.- EN TODAS LAS SOCIEDADES SE PRODUCEN CONFLICTOS. CUANDO ESTOS SE PRODUCEN, ¿QUÉ DEBIERA HACERSE...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1052640"/>
          <a:ext cx="8208720" cy="5406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052640"/>
                    <a:ext cx="8208720" cy="54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11¿PARTICIPAS EN ALGUNA ORGANIZACIÓN </a:t>
            </a:r>
            <a:r>
              <a:rPr b="1" lang="es-CL" sz="1600" spc="-1" strike="noStrike" u="sng">
                <a:solidFill>
                  <a:srgbClr val="e5ffff"/>
                </a:solidFill>
                <a:uFillTx/>
                <a:latin typeface="Times New Roman"/>
              </a:rPr>
              <a:t>DENTRO</a:t>
            </a: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 DE LA UNIVERSIDAD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413000"/>
          <a:ext cx="8280360" cy="5111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413000"/>
                    <a:ext cx="82803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¿PARTICIPAS EN ALGUNA ORGANIZACIÓN </a:t>
            </a:r>
            <a:r>
              <a:rPr b="1" lang="es-CL" sz="1600" spc="-1" strike="noStrike" u="sng">
                <a:solidFill>
                  <a:srgbClr val="e5ffff"/>
                </a:solidFill>
                <a:uFillTx/>
                <a:latin typeface="Times New Roman"/>
              </a:rPr>
              <a:t>FUERA</a:t>
            </a: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 DE LA UNIVERSIDAD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95280" y="765000"/>
          <a:ext cx="8353440" cy="583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765000"/>
                    <a:ext cx="8353440" cy="58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¿ESTÁS DE ACUERDO O EN DESACUERDO CON LAS SIGUIENTES AFIRMACIONES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24000" y="1341360"/>
          <a:ext cx="8351640" cy="504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341360"/>
                    <a:ext cx="83516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RESPECTO DE LA POLÍTICA TU CREES QUE....(LEA LAS ALTERNATIVAS Y MARQUE UNA SOLA)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1268280"/>
          <a:ext cx="8496000" cy="5329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268280"/>
                    <a:ext cx="849600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¿CON CUÁL DE LAS SIGUIENTES FRASES ESTÁS MÁS DE ACUERDO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341360"/>
          <a:ext cx="8136000" cy="518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341360"/>
                    <a:ext cx="8136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EN TU OPINIÓN, LA DEMOCRACIA EN NUESTRO PAÍS....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5280" y="1341360"/>
          <a:ext cx="8280360" cy="511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341360"/>
                    <a:ext cx="828036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EN LA ACTUALIDAD, ¿CUÁN INTERESADO ESTAS EN LOS TEMAS POLÍTICOS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0920" y="1341360"/>
          <a:ext cx="8569080" cy="511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341360"/>
                    <a:ext cx="856908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¿ESTÁS INSCRITO EN EL REGISTRO ELECTORAL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24000" y="1413000"/>
          <a:ext cx="8569080" cy="496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13000"/>
                    <a:ext cx="856908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ffff"/>
                </a:solidFill>
                <a:latin typeface="Times New Roman"/>
              </a:rPr>
              <a:t>1. EN GENERAL, ¿CUÁN SATISFECHO TE SIENTES CON TU UNIVERSIDAD?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24000" y="1268280"/>
          <a:ext cx="8351640" cy="5589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268280"/>
                    <a:ext cx="83516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¿ESTÁS DE ACUERDO O EN DESACUERDO CON LAS SIGUIENTES AFIRMACIONES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0920" y="1197000"/>
          <a:ext cx="8569080" cy="5327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197000"/>
                    <a:ext cx="856908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¿ESTAS ESTUDIANDO CON CRÉDITO UNIVERSITARIO?</a:t>
            </a: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9640" y="1341360"/>
          <a:ext cx="8353440" cy="518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341360"/>
                    <a:ext cx="835344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e5ffff"/>
                </a:solidFill>
                <a:latin typeface="Times New Roman"/>
              </a:rPr>
              <a:t>¿QUÉ EDAD TIENES?</a:t>
            </a:r>
            <a:br>
              <a:rPr sz="2000"/>
            </a:b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s-CL" sz="2800" spc="-1" strike="noStrike">
                <a:solidFill>
                  <a:srgbClr val="e5ffff"/>
                </a:solidFill>
                <a:latin typeface="Times New Roman"/>
              </a:rPr>
              <a:t>Promedio 19.7 años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¿CUÁL ES EL NIVEL DE ESTUDIOS DE TUS PADRES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24000" y="981000"/>
          <a:ext cx="8424720" cy="5614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981000"/>
                    <a:ext cx="842472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e5ffff"/>
                </a:solidFill>
                <a:latin typeface="Times New Roman"/>
              </a:rPr>
              <a:t>¿En qué tipo de liceo estudiaste?</a:t>
            </a: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95280" y="1125360"/>
          <a:ext cx="8424720" cy="5399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424720" cy="53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e5ffff"/>
                </a:solidFill>
                <a:latin typeface="Times New Roman"/>
              </a:rPr>
              <a:t>SEXO DEL ENTREVISTADO</a:t>
            </a: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24000" y="1341360"/>
          <a:ext cx="8424720" cy="518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341360"/>
                    <a:ext cx="842472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2. UTILIZANDO UNA ESCALA DE NOTAS DE 1 A 7, DONDE 1 ES MUY MALO Y 7 ES MUY BUENO, ¿QUÉ NOTA LE PONDRÍAS A TU UNIVERSIDAD EN CUANTO A...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3029040"/>
          <a:ext cx="4038480" cy="20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29040"/>
                    <a:ext cx="40384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68360" y="1628640"/>
          <a:ext cx="8218440" cy="4680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1628640"/>
                    <a:ext cx="82184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3. CAMBIANDO UN POCO DE TEMA, ¿DIRÍAS QUE TIENES TIEMPO LIBRE DE LUNES A VIERNES, DESPUÉS DE LA UNIVERSIDAD O DE CUMPLIR CON TUS OBLIGACIONES ACADÉMICAS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557360"/>
          <a:ext cx="8424720" cy="4751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557360"/>
                    <a:ext cx="842472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146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4. ¿CUÁLES SON LAS </a:t>
            </a:r>
            <a:r>
              <a:rPr b="1" lang="es-CL" sz="1600" spc="-1" strike="noStrike" u="sng">
                <a:solidFill>
                  <a:srgbClr val="e5ffff"/>
                </a:solidFill>
                <a:uFillTx/>
                <a:latin typeface="Times New Roman"/>
              </a:rPr>
              <a:t>TRES</a:t>
            </a: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 ACTIVIDADES QUÉ HACES REGULARMENTE EN TU TIEMPO LIBRES LOS FINES DE SEMANA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50920" y="1484280"/>
          <a:ext cx="8893080" cy="504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84280"/>
                    <a:ext cx="8893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5. ¿EN QUÉ MEDIDA DIRÍAS QUE TE SIENTES IDENTIFICADO CON...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5280" y="1125360"/>
          <a:ext cx="8280360" cy="5399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80360" cy="53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6. TU DIRÍAS QUE EN GENERAL....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907920"/>
          <a:ext cx="8351640" cy="5689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907920"/>
                    <a:ext cx="8351640" cy="56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7. RESPECTO EL TEMA DE LA AMISTAD, DIRÍAS QUE....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1557360"/>
          <a:ext cx="8207280" cy="482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557360"/>
                    <a:ext cx="820728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5ffff"/>
                </a:solidFill>
                <a:latin typeface="Times New Roman"/>
              </a:rPr>
              <a:t>8. EN GENERAL, ¿CUÁN SATISFECHO O INSATISFECHO TE SIENTES </a:t>
            </a: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CON TU VIDA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95280" y="1413000"/>
          <a:ext cx="8353440" cy="475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35344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8:40:49Z</dcterms:created>
  <dc:creator>referencia04</dc:creator>
  <dc:description/>
  <dc:language>en-US</dc:language>
  <cp:lastModifiedBy>referencia15</cp:lastModifiedBy>
  <dcterms:modified xsi:type="dcterms:W3CDTF">2006-04-18T23:06:32Z</dcterms:modified>
  <cp:revision>6</cp:revision>
  <dc:subject/>
  <dc:title>Diapositiva 1</dc:title>
</cp:coreProperties>
</file>