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828-96E8-4048-9257-DCF6CE14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66C-460A-4758-BBB1-A6001C32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5C0-FB57-4E68-B38E-7C502123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CC7-3576-4820-8B43-01A23114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D501-0206-4668-9FF6-94A90843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9A72-6B3B-4470-9E04-9237955A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0AF3-2756-441C-BF07-DF046EFF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C528-AF37-467D-9038-9E8AF5E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7419-180C-4B40-98BF-0DC7064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8D5C-DEE8-4EDD-BF1D-C6DF78D2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1F0E-DBB2-44FF-8890-84D3064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558-6387-4C37-8052-21D664D0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05D2-E1D6-4AA1-A5BD-7B2AC4B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5CAA-40C6-4A41-9C0E-5782788E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2917-2C44-4159-85D6-468002CD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A6E3-B453-4816-8C2E-5474871C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EE0F-971E-458D-B72C-42E9D299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C79-BCF1-46A2-9843-4904C844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2E4-2ED3-48E4-9CDA-2AD69FC2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0DA-D81B-42AD-978D-31B19B41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7D5-599C-46F6-9FCC-84774BF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0D3-FCE1-4FE4-9A9E-3797F62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AEB-B215-47ED-AD20-DA162CA5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0EF-8D08-4E98-9100-ACA27F97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259E-1462-4F56-A867-81D3A9B98EC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6E4B-1F47-4258-B88B-5CF72A20B23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989000"/>
            <a:ext cx="685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IDAD PÚBLIC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CHA ANTI-CORRU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03600" y="476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D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800" y="1773360"/>
            <a:ext cx="5316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r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ra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eci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ciudad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nsa plural e investig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ibertad de acceso de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igilancia presupues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79600" y="549360"/>
            <a:ext cx="62035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MEDIDAS INVESTIGATIVAS Y PUNI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gura del enriquecimiento ilíc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 de denunci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investigativa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di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extra-territ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www.publicacionescdh.uchile.c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921040" y="1600200"/>
          <a:ext cx="3301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1040" y="1600200"/>
                    <a:ext cx="3301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68360" y="40464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SQUEMA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341360"/>
            <a:ext cx="849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os bás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pectivas disciplin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tema como parte de la étic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logía de conductas o prácticas corrup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preventivas y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e instituciones investigativas y puni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549360"/>
            <a:ext cx="62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600" y="141300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rrupción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Uso/abuso de poder público para generación de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    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r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démica vs. esporád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generalizada vs. focaliz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ocal, nacional, internacio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3760" y="404640"/>
            <a:ext cx="50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SPECTIVAS DISCIPLIN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8200" y="1406520"/>
            <a:ext cx="577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GEST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 TEORÍA  DEMOCR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520" y="404640"/>
            <a:ext cx="71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L TEMA COMO PARTE DE LA ÉTICA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7840" y="198900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 de agente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3068640"/>
            <a:ext cx="64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monopolio de la fuer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de posición de poder para cre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la gestión públ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5800" y="47628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9120" y="155088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Patrimonio públ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Orden público econó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mo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Instituciones democráticas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(integridad, transparencia, accounta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9120" y="5295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418920" y="476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I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84280"/>
            <a:ext cx="8424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CONDUCTAS ÉTICAMENTE REPROCHABLES QUE SUELEN NO ESTAR PROHIBIDAS POR 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astos reser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potismo, cliente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rta giratori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formas de tráfico de influencia o conflicto de inter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ptura del Es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260280"/>
            <a:ext cx="76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S GENERALMENTE TIPIF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O ILÍC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484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tracción o apropiación indebida de bienes (o de su uso) de caud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úblic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ude al fisco o a otros ent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borno (inclusive soborno internac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o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olación de normas sobre incompatibilidades y conflictos de inter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cluyendo negociaciones incompati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áfico de influ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abusivo de información privilegi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s de corrupción asociadas con la administración  de just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00680" y="3571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PREVEN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7160" y="1335240"/>
            <a:ext cx="7117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líticas de recursos humanos en la fun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ación 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era funcio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stemas de adquisi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laración jurada de bi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54:45Z</dcterms:created>
  <dc:creator>carolina</dc:creator>
  <dc:description/>
  <dc:language>en-US</dc:language>
  <cp:lastModifiedBy>mjeva</cp:lastModifiedBy>
  <dcterms:modified xsi:type="dcterms:W3CDTF">2005-11-09T15:17:31Z</dcterms:modified>
  <cp:revision>17</cp:revision>
  <dc:subject/>
  <dc:title>Diapositiva 1</dc:title>
</cp:coreProperties>
</file>