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331-FA16-4B60-99BD-4C65E5AE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4F3-C7F4-49E0-8EB9-321C505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114-0C29-4A33-A37D-C31F8F8E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C12-789E-4F53-BB2B-D7F93AC4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1335-467B-491A-94BB-778C6C6F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6F4E-99E9-459C-8F09-BD7D2E24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533B-79FC-4405-BD4F-6F19E936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542D-2BEA-4054-9166-CC7C0A2C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7C35-2DBE-4176-813D-9F267D0E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DC44-1AEA-4009-BFBC-DB253D37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2A31-FC65-46C1-9EC5-56FEAABD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EBF-5410-4CB6-9E70-D6939F41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D9DD-4128-4DB3-96EB-C331F2E6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821A-4767-477F-A59D-5C54A3A7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CBAB-CC60-486A-987A-355F655A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86DE-8B27-4A44-9A42-3C85041F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ED20-4396-4672-8A45-632F7AC7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871-B47D-49FC-B428-ADCE78F2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FA3-5E8B-4E1C-9967-8E25173E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F4A-C2C2-43B5-8709-64D54A79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9AD-75FD-4291-AFF1-0BF40CDF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CDF-E7F2-4B93-9323-9816C599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162-2B3C-4BA2-BB36-0384A0A2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80C-23CD-49EE-BA35-BF98E3EF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CC9F-3B2F-463B-830B-880D721F871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EB36-8793-49FA-AFA9-7F0362FA20E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989000"/>
            <a:ext cx="685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IDAD PÚBLIC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ARENC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CHA ANTI-CORRU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03600" y="476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D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800" y="1773360"/>
            <a:ext cx="5316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er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ra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eci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ciudad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nsa plural e investig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ibertad de acceso de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igilancia presupues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79600" y="549360"/>
            <a:ext cx="62035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MEDIDAS INVESTIGATIVAS Y PUNI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gura del enriquecimiento ilíc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 de denunci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investigativa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di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extra-territo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www.publicacionescdh.uchile.c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921040" y="1600200"/>
          <a:ext cx="3301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1040" y="1600200"/>
                    <a:ext cx="3301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68360" y="40464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SQUEMA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341360"/>
            <a:ext cx="849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os bás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pectivas disciplin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tema como parte de la étic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es en ju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logía de conductas o prácticas corrup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preventivas y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e instituciones investigativas y puni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19280" y="549360"/>
            <a:ext cx="62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2600" y="141300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rrupción: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Uso/abuso de poder público para generación de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    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For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démica vs. esporád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generalizada vs. focaliz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ocal, nacional, internacio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3760" y="404640"/>
            <a:ext cx="50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ERSPECTIVAS DISCIPLIN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8200" y="1406520"/>
            <a:ext cx="577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ÍD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GEST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 TEORÍA  DEMOCRÁ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520" y="404640"/>
            <a:ext cx="71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L TEMA COMO PARTE DE LA ÉTICA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7840" y="198900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 de agente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3068640"/>
            <a:ext cx="64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monopolio de la fuerz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de posición de poder para cre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la gestión públ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5800" y="47628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LORES EN JU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9120" y="1550880"/>
            <a:ext cx="81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Patrimonio públ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Orden público econó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mo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Instituciones democráticas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(integridad, transparencia, accounta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9120" y="5295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418920" y="476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I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484280"/>
            <a:ext cx="84247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CONDUCTAS ÉTICAMENTE REPROCHABLES QUE SUELEN NO ESTAR PROHIBIDAS POR 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astos reser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potismo, cliente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rta giratori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formas de tráfico de influencia o conflicto de inter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ptura del Es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260280"/>
            <a:ext cx="76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S GENERALMENTE TIPIFIC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O ILÍC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484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tracción o apropiación indebida de bienes (o de su uso) de caud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úblic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ude al fisco o a otros ent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borno (inclusive soborno internac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o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olación de normas sobre incompatibilidades y conflictos de inter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ncluyendo negociaciones incompatib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áfico de influ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abusivo de información privilegi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s de corrupción asociadas con la administración  de justi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00680" y="3571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PREVEN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7160" y="1335240"/>
            <a:ext cx="7117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líticas de recursos humanos en la fun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ación 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era funcio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stemas de adquisi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laración jurada de bi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54:45Z</dcterms:created>
  <dc:creator>carolina</dc:creator>
  <dc:description/>
  <dc:language>en-US</dc:language>
  <cp:lastModifiedBy>mjeva</cp:lastModifiedBy>
  <dcterms:modified xsi:type="dcterms:W3CDTF">2005-11-09T15:17:31Z</dcterms:modified>
  <cp:revision>17</cp:revision>
  <dc:subject/>
  <dc:title>Diapositiva 1</dc:title>
</cp:coreProperties>
</file>