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EC2-DD1D-48C1-BA53-9438F8AD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186-0476-44A1-B353-177010F4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719-A7E8-4913-A1D3-511A46AF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CD6-B1EA-44AA-9B18-C58E2110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6291-8328-47B5-AE25-C07E0E51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C4C2-96D5-4C78-98F8-C83D8471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D6EA-B487-4C73-B7B1-7011F9D4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91FD-7E17-4916-8288-D829EC2D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0F11-2CBB-412B-8835-459CD5E9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E52C-732F-4E83-BD32-2489CE05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24D0-F63C-471B-9045-8030183F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28F-D3A8-45DD-A905-11C2C94A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07ED-551F-41AB-8A64-28FFD15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FB5A-6850-4ABA-8694-E38132B1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F03B-A461-4C1D-95F5-C32F6C96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6B68-CDDE-444B-A61D-837EFEB5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A482-07B7-43A3-A9FD-AC076B79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8D3-41ED-48A9-AF8A-D1E5E00C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D4A-1E4E-4C3E-82DF-12D10793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FB0-4E4D-492E-A753-DEACD3A3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0D5-30CC-419F-AF0B-D3692E98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23A-7426-4B24-84A3-7120444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34C-5479-444A-B115-75CFF35C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02C-7012-4B5D-90F9-EEDCC01F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AD36-C403-49CB-AD1C-B972172ECD2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4F9D-E892-4EEA-9095-C3BA2454BBE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989000"/>
            <a:ext cx="685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IDAD PÚBLIC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CHA ANTI-CORRU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03600" y="476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D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800" y="1773360"/>
            <a:ext cx="5316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r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ra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eci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ciudad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nsa plural e investig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ibertad de acceso de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igilancia presupues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79600" y="549360"/>
            <a:ext cx="62035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MEDIDAS INVESTIGATIVAS Y PUNI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gura del enriquecimiento ilíc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 de denunci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investigativa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di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extra-territ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www.publicacionescdh.uchile.c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921040" y="1600200"/>
          <a:ext cx="3301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1040" y="1600200"/>
                    <a:ext cx="3301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68360" y="40464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SQUEMA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341360"/>
            <a:ext cx="849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os bás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pectivas disciplin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tema como parte de la étic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logía de conductas o prácticas corrup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preventivas y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e instituciones investigativas y puni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549360"/>
            <a:ext cx="62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600" y="141300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rrupción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Uso/abuso de poder público para generación de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    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r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démica vs. esporád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generalizada vs. focaliz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ocal, nacional, internacio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3760" y="404640"/>
            <a:ext cx="50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SPECTIVAS DISCIPLIN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8200" y="1406520"/>
            <a:ext cx="577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GEST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 TEORÍA  DEMOCR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520" y="404640"/>
            <a:ext cx="71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L TEMA COMO PARTE DE LA ÉTICA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7840" y="198900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 de agente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3068640"/>
            <a:ext cx="64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monopolio de la fuer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de posición de poder para cre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la gestión públ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5800" y="47628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9120" y="155088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Patrimonio públ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Orden público econó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mo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Instituciones democráticas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(integridad, transparencia, accounta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9120" y="5295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418920" y="476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I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84280"/>
            <a:ext cx="8424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CONDUCTAS ÉTICAMENTE REPROCHABLES QUE SUELEN NO ESTAR PROHIBIDAS POR 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astos reser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potismo, cliente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rta giratori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formas de tráfico de influencia o conflicto de inter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ptura del Es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260280"/>
            <a:ext cx="76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S GENERALMENTE TIPIF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O ILÍC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484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tracción o apropiación indebida de bienes (o de su uso) de caud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úblic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ude al fisco o a otros ent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borno (inclusive soborno internac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o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olación de normas sobre incompatibilidades y conflictos de inter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cluyendo negociaciones incompati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áfico de influ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abusivo de información privilegi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s de corrupción asociadas con la administración  de just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00680" y="3571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PREVEN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7160" y="1335240"/>
            <a:ext cx="7117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líticas de recursos humanos en la fun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ación 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era funcio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stemas de adquisi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laración jurada de bi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54:45Z</dcterms:created>
  <dc:creator>carolina</dc:creator>
  <dc:description/>
  <dc:language>en-US</dc:language>
  <cp:lastModifiedBy>mjeva</cp:lastModifiedBy>
  <dcterms:modified xsi:type="dcterms:W3CDTF">2005-11-09T15:17:31Z</dcterms:modified>
  <cp:revision>17</cp:revision>
  <dc:subject/>
  <dc:title>Diapositiva 1</dc:title>
</cp:coreProperties>
</file>