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BF3-E547-4D4C-9049-081D47AB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619-5221-4B8D-8531-B067A1AD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8692-0308-4F7A-BA01-E597A4B8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7079-B7A8-42BA-BC42-FE27AD88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9C58-35A8-4B49-98AD-09ED42E4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3BCC-7E6C-44F6-ADB0-FDC177E3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E9BD-E87E-41C3-AAA4-FC4170C5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3CC0-FC73-45B5-9BD4-6D3E04DE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D71E-C5BB-4F34-86E5-0EBF2E13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929C-6300-44B9-8EDF-D2297BA6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74A9B-0A41-41A3-AAD7-90CBCBF8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ED0-F7E6-4237-B51D-6E445FBE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8B6B-317C-4F52-9F61-BDB0030E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31C2-171B-47FA-93B8-794370F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66EB-C62A-45FD-8FC5-953FD569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47B-75F6-41D2-A1B8-583244151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448F-A6C2-47C0-A84A-D7A87F00E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C2A9-3568-42F3-9961-ED8BE7D7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D68-C828-4189-B64F-743D8F38E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7FB-5874-47AE-AE7E-DC708A82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E89F-7FB3-4F33-A801-97388192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1FE3-E053-4B72-85D0-EE46FCD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588-17FC-4EEA-8834-0AFB95E2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412-17B4-4898-98B8-9E74DA04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75B4-4312-436F-B221-B82D9A3CADD6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6A8-E6E1-4445-A640-04FA0F93003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16000" y="1989000"/>
            <a:ext cx="685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IDAD PÚBLIC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PARENCI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UCHA ANTI-CORRUP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03600" y="476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DE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800" y="1773360"/>
            <a:ext cx="5316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er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tra-institucio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peci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Controles ciudadan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nsa plural e investigati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ibertad de acceso de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igilancia presupuest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479600" y="549360"/>
            <a:ext cx="62035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MEDIDAS INVESTIGATIVAS Y PUNI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Figura del enriquecimiento ilíci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 de denuncia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operación investigativa interna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raditabil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risdicción extra-territo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www.publicacionescdh.uchile.cl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2921040" y="1600200"/>
          <a:ext cx="3301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600200"/>
                    <a:ext cx="3301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268360" y="404640"/>
            <a:ext cx="387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SQUEMA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341360"/>
            <a:ext cx="84978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ceptos bás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pectivas disciplin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tema como parte de la ética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pología de conductas o prácticas corrup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preventivas y de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didas e instituciones investigativas y puni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19280" y="549360"/>
            <a:ext cx="62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CEPTOS BÁS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2600" y="1413000"/>
            <a:ext cx="8610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Corrupción: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Uso/abuso de poder público para generación de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    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ES" sz="2200" spc="-1" strike="noStrike">
                <a:solidFill>
                  <a:srgbClr val="ffffff"/>
                </a:solidFill>
                <a:latin typeface="Arial"/>
              </a:rPr>
              <a:t>For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démica vs. esporád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generalizada vs. focaliz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ocal, nacional, internacio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913760" y="404640"/>
            <a:ext cx="506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PERSPECTIVAS DISCIPLIN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8200" y="1406520"/>
            <a:ext cx="5779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URÍD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GEST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  TEORÍA  DEMOCRÁ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974520" y="404640"/>
            <a:ext cx="71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EL TEMA COMO PARTE DE LA ÉTICA PÚBL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77840" y="1989000"/>
            <a:ext cx="502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 de agentes públ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3068640"/>
            <a:ext cx="648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monopolio de la fuerz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buso de posición de poder para crear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queza priva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ala gestión públ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45800" y="476280"/>
            <a:ext cx="33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9120" y="155088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Patrimonio públ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Orden público econó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gul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te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mo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Instituciones democráticas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(integridad, transparencia, accounta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9120" y="52959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418920" y="4762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TIPOLOG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1484280"/>
            <a:ext cx="84247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CONDUCTAS ÉTICAMENTE REPROCHABLES QUE SUELEN NO ESTAR PROHIBIDAS POR L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astos reserv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epotismo, clientel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“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uerta giratori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as formas de tráfico de influencia o conflicto de inter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aptura del Est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260280"/>
            <a:ext cx="768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NDUCTAS GENERALMENTE TIPIF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COMO ILÍCI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48428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stracción o apropiación indebida de bienes (o de su uso) de caud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úblic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ude al fisco o a otros ent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borno (inclusive soborno internacion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o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olación de normas sobre incompatibilidades y conflictos de inter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ncluyendo negociaciones incompatib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áfico de influe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o abusivo de información privilegi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s de corrupción asociadas con la administración  de justi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00680" y="357120"/>
            <a:ext cx="38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MEDIDAS PREVEN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7160" y="1335240"/>
            <a:ext cx="7117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Políticas de recursos humanos en la fun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at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ar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ación ét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era funcion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Sistemas de adquisición públi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Declaración jurada de bie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19:54:45Z</dcterms:created>
  <dc:creator>carolina</dc:creator>
  <dc:description/>
  <dc:language>en-US</dc:language>
  <cp:lastModifiedBy>mjeva</cp:lastModifiedBy>
  <dcterms:modified xsi:type="dcterms:W3CDTF">2005-11-09T15:17:31Z</dcterms:modified>
  <cp:revision>17</cp:revision>
  <dc:subject/>
  <dc:title>Diapositiva 1</dc:title>
</cp:coreProperties>
</file>