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C478F26-B52F-48AC-AE31-A28F34502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F2DA820-DAEB-4903-9190-94BB2257E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67FA41C-8E53-49FA-849A-100D2908C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983F331-1758-4689-B4C5-C0A1AAD69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5ED18-CF24-488A-A409-B70BF73D5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AFE66-D11B-4081-B1D5-67083594A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FDD90-5DCB-4CA6-B7A3-06E3C56E8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6692A-AAE7-4C69-A1BC-0627048E9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C154C-C2FA-4518-B58D-1D73B90CC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E697E-0667-4D0D-A725-6D1BFA228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C0ED1-BCEE-4B15-B239-0FAAF7064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8E17D5A-5369-456F-946C-EB25364E1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22FFE-4BDE-47E6-8765-D66F436FC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64EF2-0949-4FF9-A916-9C4A402B8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8D3B0-103F-4257-AC6C-0699E5B08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DDFC0-B670-434B-90A0-6C708C32B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C171B-F05B-4056-9425-5BEDF4BED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EB46B0-F484-4C69-AFF9-86E4C432A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B9C4114-3F90-40D0-B039-A52F69D92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EA4A79-C331-4713-84F5-1D0C46D75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9547F1-9D9F-40BE-A9B7-710AF148E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A038F0-B2D8-4AAC-9989-09D6B4FCE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5EF08A-34E1-4748-9BC4-E1875A6B1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5678B0-33A6-4E5D-AB9B-C79C9DC55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138B-1595-4A72-A5A3-2B5336098DC3}"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0292-A47E-4426-B80B-8F1A637D751A}"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11280" y="549360"/>
            <a:ext cx="8229600" cy="568944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discriminación de mujeres casadas.</a:t>
            </a:r>
            <a:endParaRPr b="0" lang="en-US" sz="24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79 Airey v Irlanda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Aumeeruddy Cziffra v. Islas Mauricio (Comité de DDHH)</a:t>
            </a:r>
            <a:endParaRPr b="0" lang="en-US" sz="2000" spc="-1" strike="noStrike">
              <a:solidFill>
                <a:srgbClr val="ffffff"/>
              </a:solidFill>
              <a:latin typeface="Garamond"/>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Lovelace v. Canadá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4  Opinión Consultiva Nº4 “Propuesta de Modificación a la Constitución Política de Costa Rica Relacionada con la Naturalización” (Corte Interamericana de Derechos Humanos)</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5 Abdulaziz, Cabales y Balkandali v. Reino Unido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7 Broeks v. Los Países Bajos (Comité de DDHH) y Zwaan de Vries v. los Países Bajos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8 Ato del Avellanal v. Perú (Comité de DDHH)</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hombres (y mujer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1992 Pauger v. Austr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Balaguer Santacana v. Españ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Müller y Engelhardt v. Namibia (Comité de DDHH)</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minorías sexu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Toonen v. Austral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Joslin et al v. Nueva Zeland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4 Young v. Australia (Comité de DDH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Violencia contra la mujer.</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97  Aydin v. Turquía (Corte Europe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1 MZ v. Bolivia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2002 Caso María da Penha Maia Fernández v. Brasil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3 MC v Bulgaria (Corte Europea de DDHH)</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9640" y="404280"/>
            <a:ext cx="8229600" cy="5977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erechos Sexuales y Reproductivos</a:t>
            </a: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77 Bruggeman y Scheuten v. Alemania (Comisión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0 Paton v. Reino Unido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1 Baby Boy v. EEUU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Vo v. Francia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Ana Victoria Sánchez Villalobos v. Costa Rica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mjeva</cp:lastModifiedBy>
  <dcterms:modified xsi:type="dcterms:W3CDTF">2005-11-02T15:58:12Z</dcterms:modified>
  <cp:revision>7</cp:revision>
  <dc:subject/>
  <dc:title>Diapositiva 1</dc:title>
</cp:coreProperties>
</file>