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A63C452-A2F6-4792-9822-8277328E22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6CEDD31-F256-4FAA-8A6D-F59A46A05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8EF847C-33FE-4FF2-AFAA-8336D2398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E7B98E40-DA7E-4522-AD89-810EF2D30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B9B7C0-B73B-4054-892C-C2F85A045D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4EA3F-E2A4-418B-9F91-E23D5807D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CF0156-72EE-4EEB-BE84-E6A4E9FA0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66CC4-1D8F-4AD5-8F39-DEDA00E60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F8C17-F0C1-4709-93A2-26955B853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6F3BAB-09F5-4023-B47C-ED9E1E6A7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57A83-AE36-4D1F-A80A-8314E0814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1BD53B4-95D2-468C-8AA8-6D6204377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8C882-98BB-413F-82E6-C6B900A76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6372E-0B2E-4586-83AC-70961B452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FBC0A-D5A0-4454-93AF-F9735851C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F3F33E-5008-460A-9E05-A469DECD2D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877468-DEFD-417E-B768-2FBC6C8AA5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C7E9317-0857-4114-8D51-4DD493318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B0A400A-CB2D-4A5A-A23B-9F8A079B3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4824881-C445-4E35-9B2D-402F1AD89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8CF87D1-E3CB-42EF-BD2E-786D3E1CC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247F4C0-CEB4-48AD-821C-A48C5B674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B4E582E-FD16-4354-80B2-A76DFDC9C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0433119-5334-4010-8F48-8CF5218F4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DDD61-81E7-4474-8B8B-5D0348B57C38}"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84518-E81E-4882-B575-13A901D7ADA6}" type="slidenum">
              <a:rPr b="0" lang="es-E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
          <p:cNvSpPr/>
          <p:nvPr/>
        </p:nvSpPr>
        <p:spPr>
          <a:xfrm>
            <a:off x="395280" y="836640"/>
            <a:ext cx="820728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DECLARACIÓN UNIVERSAL DE DERECHOS HUMANOS (1948)</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Artículo 1</a:t>
            </a:r>
            <a:r>
              <a:rPr b="1" lang="en-US" sz="3200" spc="-1" strike="noStrike">
                <a:solidFill>
                  <a:srgbClr val="ffffff"/>
                </a:solidFill>
                <a:latin typeface="Arial"/>
              </a:rPr>
              <a:t>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dos los seres humanos nacen libres e iguales en dignidad y derechos y, dotados como están de razón y conciencia, deben comportarse fraternalmente los unos con los otros</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
          <p:cNvSpPr/>
          <p:nvPr/>
        </p:nvSpPr>
        <p:spPr>
          <a:xfrm>
            <a:off x="900000" y="0"/>
            <a:ext cx="6985080" cy="635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u="sng">
                <a:solidFill>
                  <a:srgbClr val="ffffff"/>
                </a:solidFill>
                <a:uFillTx/>
                <a:latin typeface="Arial"/>
              </a:rPr>
              <a:t>Naciones Unidas - Comité de Derechos Humano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37° período de sesiones(1989</a:t>
            </a:r>
            <a:r>
              <a:rPr b="0" lang="es-ES_tradnl" sz="2000" spc="-1" strike="noStrike">
                <a:solidFill>
                  <a:srgbClr val="ffffff"/>
                </a:solidFill>
                <a:latin typeface="Arial"/>
              </a:rPr>
              <a:t>)</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bservación general Nº 18</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ffffff"/>
                </a:solidFill>
                <a:uFillTx/>
                <a:latin typeface="Arial"/>
              </a:rPr>
              <a:t>No discriminación</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10.</a:t>
            </a:r>
            <a:r>
              <a:rPr b="0" lang="es-ES_tradnl" sz="2000" spc="-1" strike="noStrike">
                <a:solidFill>
                  <a:srgbClr val="ffffff"/>
                </a:solidFill>
                <a:latin typeface="Arial"/>
              </a:rPr>
              <a:t>	</a:t>
            </a:r>
            <a:r>
              <a:rPr b="0" lang="es-ES_tradnl" sz="2000" spc="-1" strike="noStrike">
                <a:solidFill>
                  <a:srgbClr val="ffffff"/>
                </a:solidFill>
                <a:latin typeface="Arial"/>
              </a:rPr>
              <a:t>El Comité desea también señalar que el principio de la igualdad exige algunas veces a los Estados Partes adoptar disposiciones positivas para reducir o eliminar las condiciones que originan o facilitan que se perpetúe la discriminación prohibida por el Pacto.  Por ejemplo, en un Estado en el que la situación general de un cierto sector de su población impide u obstaculiza el disfrute de los derechos humanos por parte de esa población, el Estado debería adoptar disposiciones especiales para poner remedio a esa situación.  Las medidas de ese carácter pueden llegar hasta otorgar, durante un tiempo, al sector de la población de que se trate un cierto trato preferencial en cuestiones concretas en comparación con el resto de la población.  Sin embargo, en cuanto son necesarias para corregir la discriminación de hecho, esas medidas son una diferenciación legítima con arreglo al Pac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
          <p:cNvSpPr/>
          <p:nvPr/>
        </p:nvSpPr>
        <p:spPr>
          <a:xfrm>
            <a:off x="539640" y="692280"/>
            <a:ext cx="8136000" cy="5998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DERECHOS HUMANOS DE LA MUJER</a:t>
            </a:r>
            <a:endParaRPr b="0" lang="en-US" sz="24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vención para la Eliminación de la Discriminación Contra la Mujer – Naciones Unidas 1979.</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vención Interamericana para Prevenir, Sancionar y Erradicar  la Violencia Contra la Mujer “Convención de Belem Do Pará” – Organización de Estados Americanos 1994.</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lataforma de Acción de Beijing - Naciones Unidas, 1995. </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atuto de Roma de la Corte Penal Internacional – Naciones Unidas 1998.</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tocolo a la Convención para la Eliminación de la Discriminación Contra la Mujer – Naciones Unidas 1999.</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Observación General Nº28 – Comité de Derechos Humanos, Naciones Unidas 2000.</a:t>
            </a:r>
            <a:endParaRPr b="0" lang="en-US" sz="2000" spc="-1" strike="noStrike">
              <a:solidFill>
                <a:srgbClr val="ffffff"/>
              </a:solidFill>
              <a:latin typeface="Arial"/>
            </a:endParaRPr>
          </a:p>
          <a:p>
            <a:pPr>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Beijing + 5 – Naciones Unidas, 2000.</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
          <p:cNvSpPr/>
          <p:nvPr/>
        </p:nvSpPr>
        <p:spPr>
          <a:xfrm>
            <a:off x="539640" y="549360"/>
            <a:ext cx="8209080" cy="6645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statuto de Roma de la Corte Penal Internacional</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 6 Genocidi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l presente Estatuto, se entenderá por "genocidio" cualquiera de los actos mencionados a continuación, perpetrados con la intención de destruir total o parcialmente a un grupo nacional, étnico, racial o religioso como ta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Medidas destinadas a impedir nacimientos en el seno del grup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 7 Crímenes de lesa humanidad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A los efectos del presente Estatuto, se entenderá por "crimen de lesa humanidad" cualquiera de los actos siguientes cuando se cometa como parte de un ataque generalizado o sistemático contra una población civil y con conocimiento de dicho ataqu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 Violación, esclavitud sexual, prostitución forzada, embarazo forzado, esterilización forzada u otros abusos sexuales de gravedad comparab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 Persecución de un grupo o colectividad con identidad propia fundada en motivos políticos, raciales, nacionales, étnicos, culturales, religiosos, de género definido en el párrafo 3, u otros motivos universalmente reconocidos como inaceptables con arreglo al derecho internacional, en conexión con cualquier acto mencionado en el presente párrafo o con cualquier crimen de la competencia de la Corte;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
          <p:cNvSpPr/>
          <p:nvPr/>
        </p:nvSpPr>
        <p:spPr>
          <a:xfrm>
            <a:off x="539640" y="549360"/>
            <a:ext cx="82090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39640" y="620640"/>
            <a:ext cx="8353440" cy="5894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statuto de Roma de la Corte Penal Internacional</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2.c) Por "esclavitud" se entenderá el ejercicio de los atributos del derecho de propiedad sobre una persona, o de algunos de ellos, incluido el ejercicio de esos atributos en el tráfico de personas, en particular mujeres y niño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2.f) Por "embarazo forzado" se entenderá el confinamiento ilícito de una mujer a la que se ha dejado embarazada por la fuerza, con la intención de modificar la composición étnica de una población o de cometer otras violaciones graves del derecho internacional. En modo alguno se entenderá que esta definición afecta a las normas de derecho interno relativas al embarazo;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3. A los efectos del presente Estatuto se entenderá que el término "género" se refiere a los dos sexos, masculino y femenino, en el contexto de la sociedad. El término "género" no tendrá más acepción que la que anteced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11280" y="549360"/>
            <a:ext cx="8229600" cy="5689440"/>
          </a:xfrm>
          <a:prstGeom prst="rect">
            <a:avLst/>
          </a:prstGeom>
          <a:noFill/>
          <a:ln w="0">
            <a:noFill/>
          </a:ln>
        </p:spPr>
        <p:txBody>
          <a:bodyPr lIns="90000" rIns="90000" tIns="46800" bIns="46800"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La discriminación de mujeres casadas.</a:t>
            </a:r>
            <a:endParaRPr b="0" lang="en-US" sz="2400" spc="-1" strike="noStrike">
              <a:solidFill>
                <a:srgbClr val="ffffff"/>
              </a:solidFill>
              <a:latin typeface="Garamond"/>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79 Airey v Irlanda (Corte Europea DDHH)</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1 Aumeeruddy Cziffra v. Islas Mauricio (Comité de DDHH)</a:t>
            </a:r>
            <a:endParaRPr b="0" lang="en-US" sz="2000" spc="-1" strike="noStrike">
              <a:solidFill>
                <a:srgbClr val="ffffff"/>
              </a:solidFill>
              <a:latin typeface="Garamond"/>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1 Lovelace v. Canadá (Comité de DDHH)</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4  Opinión Consultiva Nº4 “Propuesta de Modificación a la Constitución Política de Costa Rica Relacionada con la Naturalización” (Corte Interamericana de Derechos Humanos)</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5 Abdulaziz, Cabales y Balkandali v. Reino Unido (Corte Europea DDHH)</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7 Broeks v. Los Países Bajos (Comité de DDHH) y Zwaan de Vries v. los Países Bajos (Comité de DDHH)</a:t>
            </a:r>
            <a:endParaRPr b="0" lang="en-US" sz="2000" spc="-1" strike="noStrike">
              <a:solidFill>
                <a:srgbClr val="ffffff"/>
              </a:solidFill>
              <a:latin typeface="Garamond"/>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9480" indent="-3394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1988 Ato del Avellanal v. Perú (Comité de DDHH)</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La discriminación de hombres (y mujer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1992 Pauger v. Austria (Comité de DDHH)</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994 Balaguer Santacana v. España (Comité de DDHH)</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002 Müller y Engelhardt v. Namibia (Comité de DDHH)</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La discriminación de minorías sexual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1994 Toonen v. Australia (Comité de DDHH)</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002 Joslin et al v. Nueva Zelanda (Comité de DDHH)</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2004 Young v. Australia (Comité de DDHH)</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Violencia contra la mujer.</a:t>
            </a:r>
            <a:endParaRPr b="0" lang="en-US" sz="2400" spc="-1" strike="noStrike">
              <a:solidFill>
                <a:srgbClr val="ffffff"/>
              </a:solidFill>
              <a:latin typeface="Garamond"/>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97  Aydin v. Turquía (Corte Europea de DDHH)</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001 MZ v. Bolivia (Comisión Interamericana de DDHH)</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2002 Caso María da Penha Maia Fernández v. Brasil (Comisión Interamericana de DDHH)</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003 MC v Bulgaria (Corte Europea de DDHH)</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39640" y="404280"/>
            <a:ext cx="8229600" cy="5977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Derechos Sexuales y Reproductivos</a:t>
            </a:r>
            <a:endParaRPr b="0" lang="en-US" sz="2800" spc="-1" strike="noStrike">
              <a:solidFill>
                <a:srgbClr val="ffffff"/>
              </a:solidFill>
              <a:latin typeface="Garamond"/>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77 Bruggeman y Scheuten v. Alemania (Comisión Europea de DDHH)</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80 Paton v. Reino Unido (Corte Europea de DDHH)</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1981 Baby Boy v. EEUU (Comisión Interamericana de DDHH)</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004 Vo v. Francia (Corte Europea de DDHH)</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2004 Ana Victoria Sánchez Villalobos v. Costa Rica (Comisión Interamericana de DDHH)</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
          <p:cNvSpPr/>
          <p:nvPr/>
        </p:nvSpPr>
        <p:spPr>
          <a:xfrm>
            <a:off x="1619280" y="1052640"/>
            <a:ext cx="51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324000" y="260280"/>
            <a:ext cx="838836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CIVILES Y POLÍTICOS (1966)</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da uno de los Estados Partes en el presente Pacto se compromete a respetar y a garantizar a todos los individuos que se encuentren en su territorio y estén sujetos a su jurisdicción los derechos reconocidos en el presente Pacto, sin distinción alguna de raza, color, sexo, idioma, religión, opinión política o de otra índole, origen nacional o social, posición económica, nacimiento o cualquier otra condición social.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3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Estados Partes en el presente Pacto se comprometen a garantizar a hombres y mujeres la igualdad en el goce de todos los derechos civiles y políticos enunciados en el presente Pacto.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6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das las personas son iguales ante la ley y tienen derecho sin discriminación a igual protección de la ley. A este respecto, la ley prohibirá toda discriminación y garantizará a todas las personas protección igual y efectiva contra cualquier discriminación por motivos de raza, color, sexo, idioma, religión, opiniones políticas o de cualquier índole, origen nacional o social, posición económica, nacimiento o cualquier otra condición soci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
          <p:cNvSpPr/>
          <p:nvPr/>
        </p:nvSpPr>
        <p:spPr>
          <a:xfrm>
            <a:off x="468360" y="476280"/>
            <a:ext cx="8280360" cy="5854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ECONÓMICOS, SOCIALES Y CULTURALES (196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en el presente Pacto se comprometen a garantizar el ejercicio de los derechos que en él se enuncian, sin discriminación alguna por motivos de raza, color, sexo, idioma, religión, opinión política o de otra índole, origen nacional o social, posición económica, nacimiento o cualquier otra condición socia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3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Estados Partes en el presente Pacto se comprometen a asegurar a los hombres y a las mujeres igual título a gozar de todos los derechos económicos, sociales y culturales enunciados en el presente Pac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611280" y="692280"/>
            <a:ext cx="8064360" cy="565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AMERICANA SOBRE DERECHOS HUMANOS (1969)</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1. Obligación de Respetar los Derechos</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en esta Convención se comprometen a respetar los derechos y libertades reconocidos en ella y a garantizar su libre y pleno ejercicio a toda persona que esté sujeta a su jurisdicción, sin discriminación alguna por motivos de raza, color, sexo, idioma, religión, opiniones políticas o de cualquier otra índole, origen nacional o social, posición económica, nacimiento o cualquier otra condición social.</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Para los efectos de esta Convención, persona es todo ser humano.</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24. Igualdad ante la Ley</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as las personas son iguales ante la ley. En consecuencia, tienen derecho, sin discriminación, a igual protección de la le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539640" y="333360"/>
            <a:ext cx="7920000" cy="6135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RACIAL(196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la presente Convención la expresión "discriminación racial" denotará toda distinción, exclusión, restricción o preferencia basada en motivos de raza, color, linaje u origen nacional o étnico que tenga por objeto o por resultado anular o menoscabar el reconocimiento, goce o ejercicio, en condiciones de igualdad, de los derechos humanos y libertades fundamentales en las esferas política, económica, social, cultural o en cualquier otra esfera de la vida pública.</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 la presente Convención, la expresión "discriminación contra la mujer" denotará toda distinción, exclusión o restricción basada en el sexo que tenga por objeto o resultado menoscabar o anular el reconocimiento, goce o ejercicio por la mujer, independientemente de su estado civil, sobre la base de la igualdad del hombre y la mujer, de los derechos humanos y las libertades fundamentales en las esferas política, económica, social, cultural y civil o en cualquier otra esfe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
          <p:cNvSpPr/>
          <p:nvPr/>
        </p:nvSpPr>
        <p:spPr>
          <a:xfrm>
            <a:off x="684360" y="620640"/>
            <a:ext cx="7991280" cy="5831280"/>
          </a:xfrm>
          <a:prstGeom prst="rect">
            <a:avLst/>
          </a:prstGeom>
          <a:noFill/>
          <a:ln w="0">
            <a:noFill/>
          </a:ln>
        </p:spPr>
        <p:style>
          <a:lnRef idx="0"/>
          <a:fillRef idx="0"/>
          <a:effectRef idx="0"/>
          <a:fontRef idx="minor"/>
        </p:style>
        <p:txBody>
          <a:bodyPr lIns="90000" rIns="90000" tIns="46800" bIns="46800" anchor="t">
            <a:spAutoFit/>
          </a:bodyPr>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LEMENTOS DE LA DISCRIMINACIÓN</a:t>
            </a:r>
            <a:endParaRPr b="0" lang="en-US" sz="2400" spc="-1" strike="noStrike">
              <a:solidFill>
                <a:srgbClr val="ffffff"/>
              </a:solidFill>
              <a:latin typeface="Arial"/>
            </a:endParaRPr>
          </a:p>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erenciación de trato igualdad de circunstancias o identidad de trato en circunstancias diferentes.</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erio prohibido.</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sencia de justificación:</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a</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zonable</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rcionalidad.</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 legítimo según el Pacto.</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egorías sospechosas de diferenci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395280" y="404640"/>
            <a:ext cx="842472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SOBRE LA ELIMINACIÓN DE TODAS LAS FORMAS DE DISCRIMINACIÓN RACIAL(1965)</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tomarán, cuando las circunstancias lo aconsejen, medidas especiales y concretas, en las esferas social, económica, cultural y en otras esferas, para asegurar el adecuado desenvolvimiento y protección de ciertos grupos raciales o de personas pertenecientes a estos grupos, con el fin de garantizar en condiciones de igualdad el pleno disfrute por dichas personas de los derechos humanos y de las libertades fundamentales. Esas medidas en ningún caso podrán tener como consecuencia el mantenimiento de derechos desiguales o separados para los diversos grupos raciales después de alcanzados los objetivos para los cuales se tomar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
          <p:cNvSpPr/>
          <p:nvPr/>
        </p:nvSpPr>
        <p:spPr>
          <a:xfrm>
            <a:off x="539640" y="476280"/>
            <a:ext cx="8209080" cy="55209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SOBRE LA ELIMINACIÓN DE TODAS LAS FORMAS DE DISCRIMINACIÓN CONTRA LA MUJER (1979)</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4</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adopción por los Estados Partes de medidas especiales de carácter temporal encaminadas a acelerar la igualdad de facto entre el hombre y la mujer no se considerará discriminación en la forma definida en la presente Convención, pero de ningún modo entrañará, como consecuencia, el mantenimiento de normas desiguales o separadas; estas medidas cesarán cuando se hayan alcanzado los objetivos de igualdad de oportunidad y trato.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La adopción por los Estados Partes de medidas especiales, incluso las contenidas en la presente Convención, encaminadas a proteger la maternidad no se considerará discriminator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
          <p:cNvSpPr/>
          <p:nvPr/>
        </p:nvSpPr>
        <p:spPr>
          <a:xfrm>
            <a:off x="539640" y="765000"/>
            <a:ext cx="8280360" cy="55825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tomarán todas las medidas apropiadas para: </a:t>
            </a:r>
            <a:endParaRPr b="0" lang="en-US" sz="2000" spc="-1" strike="noStrike">
              <a:solidFill>
                <a:srgbClr val="ffffff"/>
              </a:solidFill>
              <a:latin typeface="Arial"/>
            </a:endParaRPr>
          </a:p>
          <a:p>
            <a:pPr marL="343080" indent="-343080">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ificar los patrones socioculturales de conducta de hombres y mujeres, con miras a alcanzar la eliminación de los prejuicios y las prácticas consuetudinarias y de cualquier otra índole que estén basados en la idea de la inferioridad o superioridad de cualquiera de los sexos o en funciones estereotipadas de hombres y mujeres; </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Garantizar que la educación familiar incluya una comprensión adecuada de la maternidad como función social y el reconocimiento de la responsabilidad común de hombres y mujeres en cuanto a la educación y al desarrollo de sus hijos, en la inteligencia de que el interés de los hijos constituirá la consideración primordial en todos los cas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9T13:51:25Z</dcterms:created>
  <dc:creator>ppalacio</dc:creator>
  <dc:description/>
  <dc:language>en-US</dc:language>
  <cp:lastModifiedBy>mjeva</cp:lastModifiedBy>
  <dcterms:modified xsi:type="dcterms:W3CDTF">2005-11-02T15:58:12Z</dcterms:modified>
  <cp:revision>7</cp:revision>
  <dc:subject/>
  <dc:title>Diapositiva 1</dc:title>
</cp:coreProperties>
</file>