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CFD7FCE-9E67-44F4-8A8B-B760A3221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757CE62-CE33-41C0-9F3D-77E47DECA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93BA71B-AB63-42E7-9757-2B2CA98DA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7292D7A-8986-4CE2-84C8-0790681D7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DD0ED-3DE2-4F0C-9704-3440DB56D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1AA8B-1A8C-467A-A2EB-78BE2E35F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DFF4A-3238-4281-A8DC-A807390ED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70BE1-33C0-46A3-ACCE-7C5C837D8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1E107-ECB9-4FE4-BBC3-8A86E5105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A0322-E52F-4603-80AA-754470ADA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60433-5D0C-41FA-819C-327D92319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CCBF11-09E4-4B7B-B9AE-1D8D3DB24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1AB8A-C820-447B-BF27-409085DE5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80D89-9763-4542-9333-DB47401D5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17EA0-58B1-4FAA-905A-7292FAC0E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F8014-9448-4A61-BA2A-7BC6526A8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C1D80-B0E2-4DDD-BAF7-E59CB2FEC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12B184-3A74-48E9-9D81-D61BDE671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185C64-7F11-4A61-B8E6-CB294464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8B8681-1D00-47E4-A8B6-1B6CA4D2E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10BB22-97D5-4E13-9ABB-CD737FC0B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E070E4-D42D-4976-BC33-7149FE500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F5A5AF-DB52-4E91-A00C-46996052E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BFD914-8368-4D51-8FAD-DF342DE7B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7518-4523-4B69-B231-6D338C06B02A}"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FDA4-A5BF-42DA-B64E-B036EC660754}"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1280" y="549360"/>
            <a:ext cx="8229600" cy="568944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discriminación de mujeres casadas.</a:t>
            </a:r>
            <a:endParaRPr b="0" lang="en-US" sz="24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79 Airey v Irlanda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Aumeeruddy Cziffra v. Islas Mauricio (Comité de DDHH)</a:t>
            </a:r>
            <a:endParaRPr b="0" lang="en-US" sz="2000" spc="-1" strike="noStrike">
              <a:solidFill>
                <a:srgbClr val="ffffff"/>
              </a:solidFill>
              <a:latin typeface="Garamond"/>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Lovelace v. Canadá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4  Opinión Consultiva Nº4 “Propuesta de Modificación a la Constitución Política de Costa Rica Relacionada con la Naturalización” (Corte Interamericana de Derechos Humanos)</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5 Abdulaziz, Cabales y Balkandali v. Reino Unido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7 Broeks v. Los Países Bajos (Comité de DDHH) y Zwaan de Vries v. los Países Bajos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8 Ato del Avellanal v. Perú (Comité de DDHH)</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hombres (y mujer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1992 Pauger v. Austr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Balaguer Santacana v. Españ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Müller y Engelhardt v. Namibia (Comité de DDHH)</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minorías sexu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Toonen v. Austral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Joslin et al v. Nueva Zeland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4 Young v. Australia (Comité de DDH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Violencia contra la mujer.</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97  Aydin v. Turquía (Corte Europe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1 MZ v. Bolivia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002 Caso María da Penha Maia Fernández v. Brasil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3 MC v Bulgaria (Corte Europea de DDHH)</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9640" y="404280"/>
            <a:ext cx="8229600" cy="5977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erechos Sexuales y Reproductivos</a:t>
            </a: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77 Bruggeman y Scheuten v. Alemania (Comisión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0 Paton v. Reino Unido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1 Baby Boy v. EEUU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Vo v. Francia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Ana Victoria Sánchez Villalobos v. Costa Rica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mjeva</cp:lastModifiedBy>
  <dcterms:modified xsi:type="dcterms:W3CDTF">2005-11-02T15:58:12Z</dcterms:modified>
  <cp:revision>7</cp:revision>
  <dc:subject/>
  <dc:title>Diapositiva 1</dc:title>
</cp:coreProperties>
</file>