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BF4915D-E999-4935-A75E-84A6DACED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5F7C19-9BAB-4320-89D5-EBCAD90CA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2DF6E3-D787-4C61-B73A-F12782A9E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8D2638B-045D-4509-AAD7-928092E0A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382C6-6D69-418A-BAA8-EBF200D24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5D419-587A-445A-B773-2F45FC59E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5B39F-00F3-40A7-B692-94B12E3E0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9C3D6-B958-45B9-A222-A553A31DF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C238B-AF16-4993-B4C0-B3A9E4B26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B4388-FE03-4BA3-A3A4-E14133F2E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F53E5-91B3-43BD-9753-EDD0BACC8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0EE44F-A045-4B63-95A1-DDB8A2535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5521A-8121-4A0B-A28B-9105D09E5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48697-18FB-4753-AC03-782350466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5746E-CB1F-423C-88C5-C1425C670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370CA-331C-4CB9-BE56-CEA11911D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7B60B-7DD2-4740-BFE8-99AA6D3B1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256D99-5205-4370-A38D-7D73004BD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02AF5A-7350-4515-B7F7-6304E7002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1B85E1-F29A-4D34-932C-E65CE9AD7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AAED246-F896-46AC-AA93-710DC6CD0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3D28A0-8B5A-4445-985D-2FDEC90AD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398753-D382-475B-8D28-7F28B5A7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E20C2E-F684-495F-9D8D-B587E37F0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5EE5-40D3-45C8-B5AB-54475BDB45FF}"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4DE0-AF01-4A35-94E5-83B287C620F5}"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1280" y="549360"/>
            <a:ext cx="8229600" cy="568944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discriminación de mujeres casadas.</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79 Airey v Irlanda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Aumeeruddy Cziffra v. Islas Mauricio (Comité de DDHH)</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Lovelace v. Canadá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4  Opinión Consultiva Nº4 “Propuesta de Modificación a la Constitución Política de Costa Rica Relacionada con la Naturalización” (Corte Interamericana de Derechos Humano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5 Abdulaziz, Cabales y Balkandali v. Reino Unido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7 Broeks v. Los Países Bajos (Comité de DDHH) y Zwaan de Vries v. los Países Bajos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8 Ato del Avellanal v. Perú (Comité de DDH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hombres (y mujer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992 Pauger v. Austr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Balaguer Santacana v. Españ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Müller y Engelhardt v. Namibia (Comité de DDHH)</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minorías sexu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Toonen v. Austral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Joslin et al v. Nueva Zeland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4 Young v. Australia (Comité de DDH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Violencia contra la mujer.</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7  Aydin v. Turquía (Corte Europe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1 MZ v. Bolivia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002 Caso María da Penha Maia Fernández v. Brasil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3 MC v Bulgaria (Corte Europea de DDH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640" y="404280"/>
            <a:ext cx="8229600" cy="5977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erechos Sexuales y Reproductivos</a:t>
            </a: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77 Bruggeman y Scheuten v. Alemania (Comisión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0 Paton v. Reino Unido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1 Baby Boy v. EEUU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Vo v. Francia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Ana Victoria Sánchez Villalobos v. Costa Rica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mjeva</cp:lastModifiedBy>
  <dcterms:modified xsi:type="dcterms:W3CDTF">2005-11-02T15:58:12Z</dcterms:modified>
  <cp:revision>7</cp:revision>
  <dc:subject/>
  <dc:title>Diapositiva 1</dc:title>
</cp:coreProperties>
</file>