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BF5-3274-4996-8FA9-DC04FB66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2BA-2301-4DBB-AC20-B299474F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B49-708D-4CC1-A12E-9D65103F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6B5-0C7C-46B3-AFBC-EABE735A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3442-FA4D-4608-AD15-BC731632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9352-15B5-4FFF-8E4F-6D8C889A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6729-E713-4175-8575-731E93E3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7328-EE5E-4FA3-B422-34A377C7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A174-EC6F-4EF0-974E-A912E82D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C317-DC2F-49F8-A0C9-3078A9CC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1F08-001A-423C-A327-D6B4E917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F28-5095-43C0-9645-6BD2F2A7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1EDB-D6EE-4E4F-A775-DC826364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871D-150C-4CE1-900B-35B17796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DCEC-8345-4E2B-B4B5-D4894F81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EEDC-591B-4002-85F3-73E379BA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F88A-6762-409F-A7DC-A042CF58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13E-1E53-4946-810C-302E0402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99C-8E4C-41D3-9044-C5F638B7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390-8F05-4F31-9D47-D8D6CC45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0A5-6C0A-415F-9284-7F467D24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F26-EBEF-4238-88D2-7B607409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584-5852-4B61-877B-DBB10B3B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2F3-D77D-43B0-ACBC-B43568F6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DDF0-5F63-455C-B383-93FF46C2517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408D-85B4-42AB-BF45-B670E04BAB6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828800" y="650880"/>
          <a:ext cx="5486400" cy="5253120"/>
        </p:xfrm>
        <a:graphic>
          <a:graphicData uri="http://schemas.openxmlformats.org/drawingml/2006/table">
            <a:tbl>
              <a:tblPr/>
              <a:tblGrid>
                <a:gridCol w="1096920"/>
                <a:gridCol w="1096920"/>
                <a:gridCol w="1096920"/>
                <a:gridCol w="1254240"/>
                <a:gridCol w="9414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s y Estim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58.208 (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0.000 (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.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8.385 (c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00.000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76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789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82.347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010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.2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772 (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835280" y="2509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blación indígena America Latina, Cepal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900000" y="260280"/>
          <a:ext cx="7993080" cy="616608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16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ción comunidades, pueblos y naciones indígena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s que tienen continuidad histórica con las sociedades anteriores a la invasión y precoloniales que se desarrollaron en sus territo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 consideran distintos de otros sectores de las sociedades que ahora prevalecen en esos territorios, o en parte de ell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ituyen ahora sectores no dominantes de la socie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tienen la determinación de preservar, desarrollar y transmitir a futuras generaciones sus territorios ancestrales y su identidad étnica como base de su existencia continuada como pueblo. (Martínez Cobo 1986/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6633"/>
                </a:solidFill>
                <a:latin typeface="Arial"/>
              </a:rPr>
              <a:t>Los “estados-nación” y los pueblos indígenas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gación y asimilación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oj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indige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ormas agr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828800" y="2806560"/>
          <a:ext cx="5486400" cy="1704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835280" y="836640"/>
            <a:ext cx="532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OBREZA INDÍG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N AMÉRICA L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(Porcentaje de la población por debajo de la línea de pobreza) Cepal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Arial"/>
              </a:rPr>
              <a:t>Movimientos y demandas indígen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mergen a contar de los 60 y 70 del siglo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mandas centrales de los pueblos indíge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derecho a la autodefinición  y a un status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El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 a la tierra y a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El derecho a la identidad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El derecho a la organización social y costumbre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El derecho a la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icipación política (Stavenhagen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strategias de movimientos indígena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uncias y movilizaciones a ni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uncias ante instancia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s de desobediencia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33"/>
                </a:solidFill>
                <a:latin typeface="Garamond"/>
              </a:rPr>
              <a:t>Derecho internacional de derechos humanos y pueblos indígena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621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Carta y Declaración Universal de DH ON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- Foco en derechos individu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- No se refieren a los pueblos indígen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PIDCP y PIDESC (ONU, 196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Derecho a la libre determinación (Art 1 comú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Derechos de quienes integran minorías (art. 27 PIDC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Comité de Derechos Humanos (PIDCP) recibe comunicaciones individuales en virtud del Protocolo Faculta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Creación del Grupo de Trabajo sobre Poblaciones Indígenas (198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Examen de acontecimientos relativos a derechos de poblaciones indígen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- Elaborar standards internacionales sobre derechos indígenas (en 1993 aprobó Proyecto de Declaración de Derechos de las Poblaciones Indígenas: en 1994 la Subcomisión Prevención Discriminaciones y Protección Minorí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947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upervisión de asuntos indígenas derivados de la Carta de Naciones Unid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Comisión de Derechos Humanos ONU y la Sub Comisión Protección y Promoción de Derechos Humanos (analizan asuntos de derechos indígenas en sesiones anuales y reciben alegaciones de violac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Relatoría Especial para derechos humanos y libertades fundamentales de los indígenas (2000, la CDH nombra a Rodolfo Stavenhag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Informes temáticos (General, justicia, desarrollo, educac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 Informes de país (Colombia, Guatemala, México, Chile,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ilipinas, Canadá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Sistema Interamericano de Derechos Humano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ta OEA, Declaración (1948) y Convención Americana sobre DHs (196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yecto de Declaración de la OEA sobre los Derechos de los Pueblos Indígenas (1997-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trina y jurisprudencia de la Comisión y la Corte Interamericana de Derechos Humanos relativa a pueblos indíg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46:14Z</dcterms:created>
  <dc:creator>Cliente</dc:creator>
  <dc:description/>
  <dc:language>en-US</dc:language>
  <cp:lastModifiedBy>mjeva</cp:lastModifiedBy>
  <dcterms:modified xsi:type="dcterms:W3CDTF">2005-11-02T15:41:15Z</dcterms:modified>
  <cp:revision>44</cp:revision>
  <dc:subject/>
  <dc:title>INDIGENOUS PEOPLES´ RIGHTS IN CHILE: PROGRESS AND CONTRADICTION IN A CONTEXT OF GLOBALIZATION</dc:title>
</cp:coreProperties>
</file>