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E54-F52D-473C-B94A-17F94046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AA9-47FA-4169-8B21-0A5AFBDC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2EC-601D-4318-98CD-BCD0E803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8E2-1092-45AF-A373-3DA9FB3E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91C-F2A4-4102-A104-47EE04A6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F034-6EEA-41F9-845E-7569B119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788-19F3-4A99-82C2-5F0DBE9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832A-E009-41A8-848E-779B207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5E7C-B9BC-4151-B4ED-707CA7CD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0EAF-991C-4407-8B39-EEC4110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0DBA-A91D-4762-8857-F50740E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6BD-31DA-476E-A0EA-BCC72ADA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CF8-83D4-432C-9334-C7A0450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21B4-9C7D-479A-8D34-EC4251E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E9A-F47B-4DD9-A121-6B87183E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20C8-EF5B-4DA6-9AEF-2A6DC1DE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0565-D5CC-4E26-AD74-5249D490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6E8-BC49-4302-B519-527C21C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1FE-611B-4B0D-ABB4-19C8C725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F5-5E69-4017-BBF0-126BF5A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07F-4716-4DF1-8BD5-DD5B80A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E85-D58E-4CDD-8A46-3B33A90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B94-F7D3-4300-AD8F-555017B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E21-E213-4C00-A114-1BF7A32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7925-647C-470F-83F4-5118DB22846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7A1-4953-4C00-8819-7C2048165DB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00000" y="260280"/>
          <a:ext cx="7993080" cy="6166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16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ción comunidades, pueblos y naciones indígen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que tienen continuidad histórica con las sociedades anteriores a la invasión y precoloniales que se desarrollaron en sus territo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ituyen ahora sectores no dominantes de la socie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33"/>
                </a:solidFill>
                <a:latin typeface="Arial"/>
              </a:rPr>
              <a:t>Los “estados-nación” y los pueblos indígena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Arial"/>
              </a:rPr>
              <a:t>Movimientos y demandas indígen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ergen a contar de los 60 y 70 del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mandas centrales de los pueblos indíge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recho a la autodefinición  y a un statu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a la tierra y a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identidad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organización social y costumbre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l derecho a l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política (Stavenhage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strategias de movimientos indígena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y movilizaciones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ante instancia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desobedienc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Derecho internacional de derechos humanos y pueblos indígena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21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arta y Declaración Universal de DH ON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Foco en derechos individu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No se refieren a los pueblos indígen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PIDCP y PIDESC (ONU, 196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 a la libre determinación (Art 1 comú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s de quienes integran minorías (art. 27 PIDC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Comité de Derechos Humanos (PIDCP) recibe comunicaciones individuales en virtud del Protocolo Facult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ción del Grupo de Trabajo sobre Poblaciones Indígenas (198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xamen de acontecimientos relativos a derechos de poblaciones indíg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94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upervisión de asuntos indígenas derivados de la Carta de Naciones Unid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Relatoría Especial para derechos humanos y libertades fundamentales de los indígenas (2000, la CDH nombra a Rodolfo Stavenhag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temáticos (General, justicia, desarrollo, educ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de país (Colombia, Guatemala, México, Chile,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lipinas, Canadá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Sistema Interamericano de Derechos Humano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a OEA, Declaración (1948) y Convención Americana sobre DHs (196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yecto de Declaración de la OEA sobre los Derechos de los Pueblos Indígenas (1997-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trina y jurisprudencia de la Comisión y la Corte Interamericana de Derechos Humanos relativa a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mjeva</cp:lastModifiedBy>
  <dcterms:modified xsi:type="dcterms:W3CDTF">2005-11-02T15:41:15Z</dcterms:modified>
  <cp:revision>44</cp:revision>
  <dc:subject/>
  <dc:title>INDIGENOUS PEOPLES´ RIGHTS IN CHILE: PROGRESS AND CONTRADICTION IN A CONTEXT OF GLOBALIZATION</dc:title>
</cp:coreProperties>
</file>