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1AC-4E75-4744-B5C6-130C3AA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E29-BBEF-4DB0-BC6F-F983CF9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422-14F8-4990-9248-1E114D8B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AC8-CC0F-41BE-9AA4-837413D3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5F6-5E09-456D-BD58-6F8EC115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B10-38F0-46F6-9119-D5F831B7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E9E-C41F-4035-BD93-80F3D80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175A-35B8-47D4-82DF-CEFAA6A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58B-8A5B-4E20-AF1E-B8423CE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9FA-1B09-43D2-8F90-5F7C84A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4F64-986F-4C64-8843-D5F0D08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B70-CC4C-4F92-AE96-06201D7C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289C-4CAC-4D6B-B496-87ED275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4BBF-879B-4D53-BCC3-BBF35AF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72DA-3620-477A-B2E5-479D645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CE7D-360C-4A1A-A22C-79F3D08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9A51-61BE-4A20-AD8C-CA6B8905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D91-E54A-4FFF-9575-4C21135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8F3-14D1-42E7-80B4-E51DBED9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AE1-1730-4184-90C9-C7923FF6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38B-8E53-4A8C-B437-AFA3BDB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7C5-66C8-43F0-8963-8245011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CBB-6792-493A-863D-52079FD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592-618E-4420-9BCF-DE79C11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A57-1E6A-4D89-9C38-208E59F9963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CA5-09DB-4B7C-AEC0-F300EEE94F0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00000" y="260280"/>
          <a:ext cx="7993080" cy="6166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16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ción comunidades, pueblos y naciones indígen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que tienen continuidad histórica con las sociedades anteriores a la invasión y precoloniales que se desarrollaron en sus territo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ituyen ahora sectores no dominantes de la socie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33"/>
                </a:solidFill>
                <a:latin typeface="Arial"/>
              </a:rPr>
              <a:t>Los “estados-nación” y los pueblos indígena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Arial"/>
              </a:rPr>
              <a:t>Movimientos y demandas indígen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ergen a contar de los 60 y 70 del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mandas centrales de los pueblos indíge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recho a la autodefinición  y a un statu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a la tierra y a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identidad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organización social y costumbre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l derecho a l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política (Stavenhage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strategias de movimientos indígena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y movilizaciones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ante instancia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desobedienc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Derecho internacional de derechos humanos y pueblos indígena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21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arta y Declaración Universal de DH ON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Foco en derechos individu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No se refieren a los pueblos indígen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PIDCP y PIDESC (ONU, 196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 a la libre determinación (Art 1 comú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s de quienes integran minorías (art. 27 PIDC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Comité de Derechos Humanos (PIDCP) recibe comunicaciones individuales en virtud del Protocolo Facult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ción del Grupo de Trabajo sobre Poblaciones Indígenas (198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xamen de acontecimientos relativos a derechos de poblaciones indíg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94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upervisión de asuntos indígenas derivados de la Carta de Naciones Unid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Relatoría Especial para derechos humanos y libertades fundamentales de los indígenas (2000, la CDH nombra a Rodolfo Stavenhag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temáticos (General, justicia, desarrollo, educ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de país (Colombia, Guatemala, México, Chile,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lipinas, Canadá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Sistema Interamericano de Derechos Humano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a OEA, Declaración (1948) y Convención Americana sobre DHs (196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yecto de Declaración de la OEA sobre los Derechos de los Pueblos Indígenas (1997-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trina y jurisprudencia de la Comisión y la Corte Interamericana de Derechos Humanos relativa a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mjeva</cp:lastModifiedBy>
  <dcterms:modified xsi:type="dcterms:W3CDTF">2005-11-02T15:41:15Z</dcterms:modified>
  <cp:revision>44</cp:revision>
  <dc:subject/>
  <dc:title>INDIGENOUS PEOPLES´ RIGHTS IN CHILE: PROGRESS AND CONTRADICTION IN A CONTEXT OF GLOBALIZATION</dc:title>
</cp:coreProperties>
</file>