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920-1413-4E1C-8741-D7773776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C0E-1BBF-4685-85B3-3BEB46B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32A-06B7-4A03-BF16-CDCA87E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099-7C7C-4EE4-9BDC-DD60D1B3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57A0-4A93-4DC6-899B-3B3791DB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75BF-9384-44CC-9EF0-9BFE7B8A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49EC-D335-4337-A512-66D7EE84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3A61-5779-4F01-AE50-3046FAF1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1775-BCB1-4C5D-B0AB-48FB2C5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E16-AC07-4B9B-A35B-BC695BA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04E8-940D-4151-B0CE-3B07E5E6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844-6587-4BC5-8289-BF3B936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A31-9B27-4CF8-B2B1-2B85688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2374-451E-40C3-B7AB-179D2A07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C79C-0CE5-4D43-A294-D3B3FAE4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87AF-A36C-47E3-B30F-09044F96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A49-0DD7-4CD7-B96D-B6049FB9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D1C-A324-4880-9922-2D19F417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518-2A37-409B-A228-B11348A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9F4-3D5B-4944-85BF-4E5B1329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A54-BE85-4C52-9A8B-84F9CC7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8C7-B856-4683-8E35-3BA12AA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D1A-EF63-456D-AA2A-5A1E0F6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1BF-631C-42EA-82ED-7002635B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FD9-DB61-44BD-83F2-09BFAE051F97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F12B-800D-4E10-870D-E48F3C9E0783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usiones y Adquisicion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consideraciones a la luz del Derecho de la Libre Compe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ajas y desventajas de las PM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La internacionalización de las fusiones y las PMN loc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Chi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ia Fidedigna de la ley 19.9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t. 35 bis D.F.L Nº 3 Ley General de Ban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ólo se podrá proceder a la fusión de bancos, 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dquisición de la totalidad del activo y pasivo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banco por otro o de una parte  sustancial de ell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egún la definición del artículo 138; o a la toma de control de dos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más bancos por una misma persona o grupo controlador, o bi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umentar sustancialmente el control ya existente, en término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banco adquirente o el grupo de bancos resultante alcancen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articipación significativa en el mercado,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si los 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uentan con la autorización de la Superintendenci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 qu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efiere este artícul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ndencia Actual en Ch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de Ley art. 3 bis para el DL 2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in perjuicio de lo establecido en esta ley, todo proyecto u operación de concentración de empresas deberá obtener un pronunciamiento previo y favorable del Tribunal de Defensa de la Libre Competencia cuando (…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¿Qué ha pasado actu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rt. 18 DL 211 (Actual Artículo 31) y Auto Acordado Nº 5 (Telefónica-Bellsouth y VTR-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xiste obligación legal de consulta previa en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es una Fusión o Adquisición (M&amp;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sus diferencias desde un punto de vista jurí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tamiento en la Legislación Chilena (Por absorción, por cre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Econ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ptualmente pueden entenderse como toda estructura cuyo objeto o resultado sea concentrar participación de mercado -i.e integraciones, adquisiciones de participaciones accionarias. (Profesores Lizana &amp; Pavi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ntraciones Horizon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economías de escala, especialización, disminución de costos, mejoramiento de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les podrían ser los efectos pernicio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hacer? (L y D vs. Resto del Mun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ha sugerido realizar exámenes preventivos a una fusió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“Pre-Merger Notification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200" spc="-1" strike="noStrike">
                <a:solidFill>
                  <a:srgbClr val="006633"/>
                </a:solidFill>
                <a:latin typeface="Garamond"/>
              </a:rPr>
              <a:t>Pre-Merger Notifications (P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rge en EE.UU. con la Hart-Scott-Rodino Act que introdujo una sección 7 (a) a la Clayton Act en 1976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Except as exempted pursuant to subsection (c),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 shall acquire, directly or indirectly, any vo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ecurities or assets of any other person,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nless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 (or in the case of a tender offer, the acqui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)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file notification pursuant to rules u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d)(1) and the waiting period describ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b)(1) has expired, if (…)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U.S HORIZONTAL MERGER GUIDELINES</a:t>
            </a:r>
            <a:r>
              <a:rPr b="0" lang="es-CL" sz="4000" spc="-1" strike="noStrike">
                <a:solidFill>
                  <a:srgbClr val="006633"/>
                </a:solidFill>
                <a:latin typeface="Garamond"/>
              </a:rPr>
              <a:t> (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1992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de la aplicación de las PMN (DOJ y FT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otros aportes, está la determinación del mercado relev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embargo, el criterio más famoso de estructura de la industria, es el denominado “Herfindahl-Hirschman Index” (HH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HI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→ Características del mercado relevante: Consiste en la suma de la participación de mercado (al cuadrado) de cada una de las entidades que participan en 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stánda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1.- HHI posterior a fusión inferior a 1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2.- HHI posterior a fusión entre 1000 y 1800; depende de la variación 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10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- HHI posterior a fusión superior a 1800; depende de la variación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5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: 10%, B: 20%, C: 10%, D: 20%, E: 10%, F: 5%, G: 5%, H: 10%, I: 10% (=¿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sión A+H (absorción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 A: 20%, B: 20%, C: 10%, D: 20%, E: 10%, F: 5%, G: 5%, I: 10% (=¿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determinada la estructura del mercado, se pasa a una revisión general de éste (MR, BE, etc.), junto con las procompetitividades y eficiencias posibles de esta o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25:01Z</dcterms:created>
  <dc:creator>Benny Mordoj</dc:creator>
  <dc:description/>
  <dc:language>en-US</dc:language>
  <cp:lastModifiedBy>Benny Mordoj</cp:lastModifiedBy>
  <dcterms:modified xsi:type="dcterms:W3CDTF">2005-05-07T03:20:28Z</dcterms:modified>
  <cp:revision>12</cp:revision>
  <dc:subject/>
  <dc:title>Diapositiva 1</dc:title>
</cp:coreProperties>
</file>