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884-F91A-495A-A850-BEFCC276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940-766D-4F37-91CD-6B13ED1A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BDC-561C-4BFC-9FFC-8E44CDD4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E3A-AA32-4FFF-9D2C-0E7F7132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15A2-6CC7-4725-A610-0A00DB12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22F8-D33F-4F81-8CAC-6A22B18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966-0459-40C5-834B-4E8E9B54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545B-E35A-408C-923B-176EA26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EC8-F582-40E5-91BA-570AED8F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1D64-A711-4021-A180-FA0F02D6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741E-E25F-4D71-9EFB-DBABEE2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6B7-DA95-4A93-8EBE-B53BF86B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E8F6-B062-4B9C-97BD-3DEA9B1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870-81F1-491E-A4D4-091D511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77AE-5329-471D-9ED1-028CA03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500-0C9F-4AED-8FD7-EAF8CFC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9F8-2D49-41CA-9AD0-66D9E7F1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4E3-70BC-472E-8572-5389993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665-8957-4A32-9B72-BF626FB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1FC-D19E-4EF3-B84F-AE049EC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A47-0873-4C09-86FA-E44978A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8CE-BCF5-46AA-90C4-90892B8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BB8-E922-4571-977A-0C1E6EA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9DC-DA78-4F08-9DE1-48E6773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A9E-D6FF-4649-BE64-FBC501C50CEC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2DBE-2F5A-43A7-B18B-E801E56F06C6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siones y Adquisicion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consideraciones a la luz del Derecho de la Libre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ajas y desventajas de las PM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La internacionalización de las fusiones y las PMN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Ch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ia Fidedigna de la ley 19.9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t. 35 bis D.F.L Nº 3 Ley General de Ban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ólo se podrá proceder a la fusión de bancos, 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dquisición de la totalidad del activo y pasivo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banco por otro o de una parte  sustancial de ell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egún la definición del artículo 138; o a la toma de control de do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más bancos por una misma persona o grupo controlador, o bi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umentar sustancialmente el control ya existente, en término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banco adquirente o el grupo de bancos resultante alcancen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articipación significativa en el mercado,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i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uentan con la autorización de la Superintendenci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 qu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efiere este artícul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ndencia Actual en Ch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de Ley art. 3 bis para el DL 2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in perjuicio de lo establecido en esta ley, todo proyecto u operación de concentración de empresas deberá obtener un pronunciamiento previo y favorable del Tribunal de Defensa de la Libre Competencia cuando (…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¿Qué ha pasado actu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rt. 18 DL 211 (Actual Artículo 31) y Auto Acordado Nº 5 (Telefónica-Bellsouth y VTR-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xiste obligación legal de consulta previa en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es una Fusión o Adquisición (M&amp;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sus diferencias desde un punto de vista jurí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tamiento en la Legislación Chilena (Por absorción, por cre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Econ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ptualmente pueden entenderse como toda estructura cuyo objeto o resultado sea concentrar participación de mercado -i.e integraciones, adquisiciones de participaciones accionarias. (Profesores Lizana &amp; Pavi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ntraciones Horizon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economías de escala, especialización, disminución de costos, mejoramiento de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les podrían ser los efectos pernicio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hacer? (L y D vs. Resto del Mun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ha sugerido realizar exámenes preventivos a una fus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Pre-Merger Notification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200" spc="-1" strike="noStrike">
                <a:solidFill>
                  <a:srgbClr val="006633"/>
                </a:solidFill>
                <a:latin typeface="Garamond"/>
              </a:rPr>
              <a:t>Pre-Merger Notifications (P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rge en EE.UU. con la Hart-Scott-Rodino Act que introdujo una sección 7 (a) a la Clayton Act en 1976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Except as exempted pursuant to subsection (c),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 shall acquire, directly or indirectly, any v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ecurities or assets of any other person,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nles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 (or in the case of a tender offer, the acqui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)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file notification pursuant to rules u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d)(1) and the waiting period describ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b)(1) has expired, if (…)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U.S HORIZONTAL MERGER GUIDELINES</a:t>
            </a:r>
            <a:r>
              <a:rPr b="0" lang="es-CL" sz="4000" spc="-1" strike="noStrike">
                <a:solidFill>
                  <a:srgbClr val="006633"/>
                </a:solidFill>
                <a:latin typeface="Garamond"/>
              </a:rPr>
              <a:t> (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199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de la aplicación de las PMN (DOJ y F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otros aportes, está la determinación del mercado rele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embargo, el criterio más famoso de estructura de la industria, es el denominado “Herfindahl-Hirschman Index” (HH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HI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→ Características del mercado relevante: Consiste en la suma de la participación de mercado (al cuadrado) de cada una de las entidades que participan en 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stánda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1.- HHI posterior a fusión inferior a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2.- HHI posterior a fusión entre 1000 y 1800; depende de la variación 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10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- HHI posterior a fusión superior a 1800; depende de la variación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5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: 10%, B: 20%, C: 10%, D: 20%, E: 10%, F: 5%, G: 5%, H: 10%, I: 10% (=¿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sión A+H (absorción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 A: 20%, B: 20%, C: 10%, D: 20%, E: 10%, F: 5%, G: 5%, I: 10% (=¿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determinada la estructura del mercado, se pasa a una revisión general de éste (MR, BE, etc.), junto con las procompetitividades y eficiencias posibles de esta o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25:01Z</dcterms:created>
  <dc:creator>Benny Mordoj</dc:creator>
  <dc:description/>
  <dc:language>en-US</dc:language>
  <cp:lastModifiedBy>Benny Mordoj</cp:lastModifiedBy>
  <dcterms:modified xsi:type="dcterms:W3CDTF">2005-05-07T03:20:28Z</dcterms:modified>
  <cp:revision>12</cp:revision>
  <dc:subject/>
  <dc:title>Diapositiva 1</dc:title>
</cp:coreProperties>
</file>