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8AD-CF16-4E01-9C7A-0ED607AA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652-85DA-4D8B-99DA-70D4DBCF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214-3E14-4B08-99E9-B94C223F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A68-1FE1-4C2D-AE31-67E2647B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45AD-2A50-480B-9D3F-98F6CDE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13CE-F5FA-4847-999C-9615B464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041E-465E-4AB3-BFD9-24283442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A07E-58E5-4ED3-AC70-F6A0CD48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930D-B6D8-418A-A52D-B887A2F7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A3FA-6214-45DD-A433-4D0596AB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884C-82CF-49FF-B0D7-F18ACDC8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461-423C-4C1F-A4C7-5BB844D5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F546-E121-4800-B7C2-621040EE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2741-AE21-454B-B053-EE9F09CA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317E-482D-4CB1-81FD-CB3DC208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DED6-8B53-4AA8-9F33-A740A4CC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56B1-C316-498B-BD1F-D0548F3C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225-5B93-4A04-88B4-E8E0756D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287-33D6-4CF7-BA04-2A8D504A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CE1-AAE1-46DC-88BF-2B9DD325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C7C-3ACB-4901-A72B-BCBD3E3F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1FB-AB0B-42E8-A030-854977E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E9F-16AC-4047-9F76-B8767F0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A04-CE2F-46A8-82D3-6FFC43EF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8547-46E2-47F2-A0AD-BEF4CBA5C042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DB49-1FE4-45B6-93AE-47AF81EFE0C1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Fusiones y Adquisicion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consideraciones a la luz del Derecho de la Libre Compe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ntajas y desventajas de las PMN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La internacionalización de las fusiones y las PMN loc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 Chi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ia Fidedigna de la ley 19.9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t. 35 bis D.F.L Nº 3 Ley General de Ban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Sólo se podrá proceder a la fusión de bancos, a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dquisición de la totalidad del activo y pasivo de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banco por otro o de una parte  sustancial de ell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según la definición del artículo 138; o a la toma de control de dos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más bancos por una misma persona o grupo controlador, o bi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umentar sustancialmente el control ya existente, en término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banco adquirente o el grupo de bancos resultante alcancen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participación significativa en el mercado,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si los intere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uentan con la autorización de la Superintendenci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 a que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efiere este artícul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ndencia Actual en Chi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to de Ley art. 3 bis para el DL 2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in perjuicio de lo establecido en esta ley, todo proyecto u operación de concentración de empresas deberá obtener un pronunciamiento previo y favorable del Tribunal de Defensa de la Libre Competencia cuando (…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¿Qué ha pasado actu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rt. 18 DL 211 (Actual Artículo 31) y Auto Acordado Nº 5 (Telefónica-Bellsouth y VTR-M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Existe obligación legal de consulta previa en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es una Fusión o Adquisición (M&amp;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sus diferencias desde un punto de vista juríd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tamiento en la Legislación Chilena (Por absorción, por cre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Econó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ceptualmente pueden entenderse como toda estructura cuyo objeto o resultado sea concentrar participación de mercado -i.e integraciones, adquisiciones de participaciones accionarias. (Profesores Lizana &amp; Pavi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centraciones Horizont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economías de escala, especialización, disminución de costos, mejoramiento de produ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áles podrían ser los efectos pernicio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Qué hacer? (L y D vs. Resto del Mun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ha sugerido realizar exámenes preventivos a una fusió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“Pre-Merger Notification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200" spc="-1" strike="noStrike">
                <a:solidFill>
                  <a:srgbClr val="006633"/>
                </a:solidFill>
                <a:latin typeface="Garamond"/>
              </a:rPr>
              <a:t>Pre-Merger Notifications (PM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rge en EE.UU. con la Hart-Scott-Rodino Act que introdujo una sección 7 (a) a la Clayton Act en 1976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Except as exempted pursuant to subsection (c), 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person shall acquire, directly or indirectly, any vo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ecurities or assets of any other person, </a:t>
            </a: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unless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ersons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 (or in the case of a tender offer, the acqui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person) </a:t>
            </a:r>
            <a:r>
              <a:rPr b="1" i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file notification pursuant to rules u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ubsection (d)(1) and the waiting period described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subsection (b)(1) has expired, if (…)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U.S HORIZONTAL MERGER GUIDELINES</a:t>
            </a:r>
            <a:r>
              <a:rPr b="0" lang="es-CL" sz="4000" spc="-1" strike="noStrike">
                <a:solidFill>
                  <a:srgbClr val="006633"/>
                </a:solidFill>
                <a:latin typeface="Garamond"/>
              </a:rPr>
              <a:t> (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1992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en de la aplicación de las PMN (DOJ y FT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e otros aportes, está la determinación del mercado relev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 embargo, el criterio más famoso de estructura de la industria, es el denominado “Herfindahl-Hirschman Index” (HH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HI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→ Características del mercado relevante: Consiste en la suma de la participación de mercado (al cuadrado) de cada una de las entidades que participan en é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stánda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1.- HHI posterior a fusión inferior a 10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2.- HHI posterior a fusión entre 1000 y 1800; depende de la variación experimentada por la fusión (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gt;10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3.- HHI posterior a fusión superior a 1800; depende de la variación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xperimentada por la fusión (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&gt;5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: 10%, B: 20%, C: 10%, D: 20%, E: 10%, F: 5%, G: 5%, H: 10%, I: 10% (=¿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sión A+H (absorción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Arial"/>
              </a:rPr>
              <a:t>→ A: 20%, B: 20%, C: 10%, D: 20%, E: 10%, F: 5%, G: 5%, I: 10% (=¿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determinada la estructura del mercado, se pasa a una revisión general de éste (MR, BE, etc.), junto con las procompetitividades y eficiencias posibles de esta op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2:25:01Z</dcterms:created>
  <dc:creator>Benny Mordoj</dc:creator>
  <dc:description/>
  <dc:language>en-US</dc:language>
  <cp:lastModifiedBy>Benny Mordoj</cp:lastModifiedBy>
  <dcterms:modified xsi:type="dcterms:W3CDTF">2005-05-07T03:20:28Z</dcterms:modified>
  <cp:revision>12</cp:revision>
  <dc:subject/>
  <dc:title>Diapositiva 1</dc:title>
</cp:coreProperties>
</file>