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75C-853E-403A-A561-679C1A4E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2F6-1A97-450C-9117-CAC4045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DEE-4210-4FA9-8FDB-60D34478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AC0-B281-4F68-AA0C-0F898D7B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2734-079E-4314-B7D9-E98BFD63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B8B-B594-4AA5-B454-6CC3A994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AD4C-4929-4753-BEDE-2313CB6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9C79-71B6-4894-96D5-BAC365D6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7F4D-AB47-48A5-82EC-1419B6F1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40ED-8F64-4FA7-AADD-197E0B6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0DC7-B7B7-423D-ABF3-EEBAEC0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0FB-95DB-483D-801A-95515A0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1356-21BF-4A2C-9110-DED3D85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654A-4E73-4C99-ABB2-07A61FC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CF6-3820-405F-A7EA-27FA0F84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7133-0EF3-42F1-BE66-383E1787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034-2571-498C-8236-3374BEA2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8A2-C5B7-4D9E-8413-D509D858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64C-5102-4FAC-8B6D-DD08441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0B6-FA51-4C9A-BCB2-319B1B85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AAE-8EA8-4964-9DA7-C1601DE4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CE7-0795-4BC2-A241-5115E26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8C0-66C0-4361-939B-C740120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EEC-B34F-49A4-862B-4219740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59D6-8E25-44E9-B8EF-47431E88EEDF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68E-F26D-4649-A203-705EF54689A0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usiones y Adquisicion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consideraciones a la luz del Derecho de la Libre Compe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ajas y desventajas de las PM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La internacionalización de las fusiones y las PMN loc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Chi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ia Fidedigna de la ley 19.9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t. 35 bis D.F.L Nº 3 Ley General de Ban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ólo se podrá proceder a la fusión de bancos, 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dquisición de la totalidad del activo y pasivo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banco por otro o de una parte  sustancial de ell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egún la definición del artículo 138; o a la toma de control de dos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más bancos por una misma persona o grupo controlador, o bi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umentar sustancialmente el control ya existente, en término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banco adquirente o el grupo de bancos resultante alcancen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participación significativa en el mercado,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si los inter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uentan con la autorización de la Superintendenci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 qu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efiere este artícul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ndencia Actual en Ch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de Ley art. 3 bis para el DL 2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in perjuicio de lo establecido en esta ley, todo proyecto u operación de concentración de empresas deberá obtener un pronunciamiento previo y favorable del Tribunal de Defensa de la Libre Competencia cuando (…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¿Qué ha pasado actu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rt. 18 DL 211 (Actual Artículo 31) y Auto Acordado Nº 5 (Telefónica-Bellsouth y VTR-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xiste obligación legal de consulta previa en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es una Fusión o Adquisición (M&amp;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sus diferencias desde un punto de vista jurí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tamiento en la Legislación Chilena (Por absorción, por cre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Econ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ptualmente pueden entenderse como toda estructura cuyo objeto o resultado sea concentrar participación de mercado -i.e integraciones, adquisiciones de participaciones accionarias. (Profesores Lizana &amp; Pavi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ntraciones Horizon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economías de escala, especialización, disminución de costos, mejoramiento de 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les podrían ser los efectos pernicio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hacer? (L y D vs. Resto del Mun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ha sugerido realizar exámenes preventivos a una fusió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“Pre-Merger Notification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200" spc="-1" strike="noStrike">
                <a:solidFill>
                  <a:srgbClr val="006633"/>
                </a:solidFill>
                <a:latin typeface="Garamond"/>
              </a:rPr>
              <a:t>Pre-Merger Notifications (P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rge en EE.UU. con la Hart-Scott-Rodino Act que introdujo una sección 7 (a) a la Clayton Act en 1976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Except as exempted pursuant to subsection (c),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 shall acquire, directly or indirectly, any vo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ecurities or assets of any other person,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unless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ersons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 (or in the case of a tender offer, the acqui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)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file notification pursuant to rules u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d)(1) and the waiting period describ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b)(1) has expired, if (…)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U.S HORIZONTAL MERGER GUIDELINES</a:t>
            </a:r>
            <a:r>
              <a:rPr b="0" lang="es-CL" sz="4000" spc="-1" strike="noStrike">
                <a:solidFill>
                  <a:srgbClr val="006633"/>
                </a:solidFill>
                <a:latin typeface="Garamond"/>
              </a:rPr>
              <a:t> (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1992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de la aplicación de las PMN (DOJ y FT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otros aportes, está la determinación del mercado relev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embargo, el criterio más famoso de estructura de la industria, es el denominado “Herfindahl-Hirschman Index” (HH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HI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→ Características del mercado relevante: Consiste en la suma de la participación de mercado (al cuadrado) de cada una de las entidades que participan en 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stánda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1.- HHI posterior a fusión inferior a 1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2.- HHI posterior a fusión entre 1000 y 1800; depende de la variación 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10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- HHI posterior a fusión superior a 1800; depende de la variación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5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: 10%, B: 20%, C: 10%, D: 20%, E: 10%, F: 5%, G: 5%, H: 10%, I: 10% (=¿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sión A+H (absorción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 A: 20%, B: 20%, C: 10%, D: 20%, E: 10%, F: 5%, G: 5%, I: 10% (=¿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determinada la estructura del mercado, se pasa a una revisión general de éste (MR, BE, etc.), junto con las procompetitividades y eficiencias posibles de esta o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25:01Z</dcterms:created>
  <dc:creator>Benny Mordoj</dc:creator>
  <dc:description/>
  <dc:language>en-US</dc:language>
  <cp:lastModifiedBy>Benny Mordoj</cp:lastModifiedBy>
  <dcterms:modified xsi:type="dcterms:W3CDTF">2005-05-07T03:20:28Z</dcterms:modified>
  <cp:revision>12</cp:revision>
  <dc:subject/>
  <dc:title>Diapositiva 1</dc:title>
</cp:coreProperties>
</file>