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FE2-023D-4C6F-ACD1-E70E9AD1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86C4-B37E-47D7-A11B-C299FA25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5D60-57AD-4463-91BA-F1C83F5C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EE5-B004-4EE7-AD60-7065B1BE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B7E8-51DD-4B32-81EE-CAE1FFA2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4186-A24D-4702-AF8D-B650DA48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AA1B-1359-443C-9893-95854061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7A15-F28D-4DD2-A9DE-C5D482F2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9438-B544-4E1A-96AB-ED859289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5924-7A98-44A8-95DC-7262965C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F3B1-CF9E-4E9A-B7F0-38E4499C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FC7-587C-4DC7-A9A6-918B1A06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AA85-3C84-43B7-A451-B37CA6D8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AAE4-1BD2-4C2B-8EC4-8F765595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5AA5-D974-41BB-B448-46747645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17BE-9945-4A17-B094-ED8FCB5C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1B6B-DA31-4D45-815B-9EFCE01C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4D9-289B-4289-BDEC-C7C8B369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6CB-DE12-4607-A0CF-A8D7755B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CFF-8921-426D-A349-911790FB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092-0664-4AFE-8A90-F3C6F75D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40C-5E5E-421D-844B-95FD45A3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227-B48A-43F1-A8A9-FA87A50D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2AE2-DDFF-495C-9C1C-2A4D3C14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EB4B-BA80-4CBD-A2E0-7B1229A45AF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A177-4DD6-4E8C-84A4-9CE1F474285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5544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ff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0066ff"/>
                </a:solidFill>
                <a:latin typeface="Arial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4768920"/>
            <a:ext cx="190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ff"/>
                </a:solidFill>
                <a:latin typeface="Monotype Corsiva"/>
              </a:rPr>
              <a:t>René Luis Núñez Áv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3139920"/>
            <a:ext cx="2819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Monotype Corsiva"/>
              </a:rPr>
              <a:t>Tribunales de Famil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Aplicable a la 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Región Metropolitana de Santiag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10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diez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iez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iez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uatro administrativos jefes, un administrativo contable, once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11)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doce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doce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c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uatro administrativos jefes, un administrativo contable, trece administrativos 1º, cuatro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el primero, el segundo y el tercero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on 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y el cuarto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on doce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competencia sobre las comunas de la provincia de Santiago..., con excepción de....lo que sigu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0"/>
            <a:ext cx="792504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REACIÓN DE NUEVOS JUZG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REGIÓN METROPOLITANA DE SANTIA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COMITÉ DE JUE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95280" y="259092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los juzgados de garantía en los que sirvan tres o más jueces y en cada tribunal de jui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oral en lo penal, habrá un comité de juec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7632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Norma del Código Procesal Penal aplicable en materia de Tribunales de Famil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FUNCIONES DEL COMITÉ DE JUE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914040" y="6854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a) 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Aprobar el procedimiento objetivo y general a que se refieren los artículos 15 y 17, en su caso;</a:t>
            </a: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) Calificar anualmente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) Resolver acerca de la remoción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) Designar al personal del juzgado o tribunal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Juez presiden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218960" y="251460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Al juez presidente del comité de jueces le corresponderá velar por el adecuado funcionamiento del juzgado o tribuna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2437920"/>
            <a:ext cx="76197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El Juez Presidente tendrá los</a:t>
            </a:r>
            <a:br>
              <a:rPr sz="4000"/>
            </a:b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siguientes deberes y atribuciones: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76320"/>
            <a:ext cx="79250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a) 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) Relacionarse con la Corporación Administrativa del Poder Judicial en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odas las materias relativas a la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mpetencia de ésta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c) Proponer al comité de jueces el procedimiento objetivo y general a que se refieren los artículos 15 y 17</a:t>
            </a: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) 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)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valuar anualmente la gestión del administrador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j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) Proponer al comité de jueces la remoción del administrador del tribunal</a:t>
            </a: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ff"/>
                </a:solidFill>
                <a:uFillTx/>
                <a:latin typeface="Tahoma"/>
              </a:rPr>
              <a:t>ESTRUCTURA ORGÁNICA DE LOS TRIBUNALES DE FAMIL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5400" spc="-1" strike="noStrike">
                <a:solidFill>
                  <a:srgbClr val="ffff00"/>
                </a:solidFill>
                <a:latin typeface="Tahoma"/>
              </a:rPr>
              <a:t>Consejo Técnico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94920" y="27428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6858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ahoma"/>
              </a:rPr>
              <a:t>FINALIDAD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90360" y="16761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 un organismo auxiliar de la administración de justic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193680"/>
            <a:ext cx="7162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Consejo Técnico y el tratamiento multidisciplinario del conflicto famili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4191120"/>
            <a:ext cx="815328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Asesorar 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individual o colectivamente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5468760"/>
            <a:ext cx="800100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66320" y="22860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cada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</a:t>
            </a: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es 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especializados en asuntos de familia e inf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artículo 7 de la Ley Nº 19.968 exige poseer título profesional de una carrera que tenga al menos ocho semestres de duración, otorgado por alguna universidad o instituto profesional del Estado o reconocido por éste, debiendo además acreditarse experiencia profesional y formación especializada en materia de familia e infancia de, al menos, dos semestres de duración, impartida por alguna de las instituciones antes señal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98600"/>
            <a:ext cx="76964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REQUISITOS PARA SER MIEMBRO DEL CONSEJO TÉC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Asistir a las audiencias de juicio a que sean citados con el objetivo de emitir las opiniones técnicas que le sean solicitadas (artículo 5 letra b) de la Ley Nº 19.968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Evaluar la pertinencia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de derivar a mediación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o aconsejar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conciliación entre las partes, y sugerir los términos en que esta última pudiere llevarse a cabo (artículo 5 letra c) de la Ley Nº 19.968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)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Asesorar al juez para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la adecuada comparecencia y declaración del niño, niña o adolescente (artículo 5 letra b) de la Ley Nº 19.968);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para la procedencia o no de la suspensión condicional de la dictación de la sentencia en materia de violencia intrafamiliar (artículo 96 de la Ley Nº 19.968); para decidir si pone término al proceso de violencia intrafamiliar por requerimiento de la víctima, cuando quien denunció fue un tercero (artículo 100 de la Ley Nº 19.968); para evaluar idoneidad de informes periciales en la audiencia de juicio tratándose de un procedimiento de protección (artículo 73 de la Ley Nº 19.968); para ponderar informes sobre cumplimiento de medidas de protección (artículo 76 de la Ley Nº 19.968), o para cualquier otra materia relacionada con su especialidad 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(artículo 5 letra d) de la Ley Nº 19.968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6094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Tahoma"/>
              </a:rPr>
              <a:t>Funcione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un miembro del Consejo Técnico no pudiere intervenir en una determinada causa, o se imposibilitare para el ejercicio de su cargo, será subrogado por los demás miembros del Consejo Técnico del tribunal a que perteneciere, según el orden de sus nombramientos y la especialidad requer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todos los miembros del consejo técnico de un tribunal estuvieren afectados por una implicancia o recusación, el juez designará un profesional que cumpla con los requisitos para integrar un Consejo Técnico de cualquier servicio público, el que estará obligado a desempeñar el carg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3808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Normas de implicancia o recusa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ahoma"/>
              </a:rPr>
              <a:t>Administra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 elimina el cargo de secretario del tribu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3808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Cambio Trascendental en la Reforma de los Tribunales de Fami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949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En cada tribunal de familia habrá un administrador, auxiliar de la administración de justicia </a:t>
            </a:r>
            <a:r>
              <a:rPr b="1" i="1" lang="es-MX" sz="2800" spc="-1" strike="noStrike">
                <a:solidFill>
                  <a:srgbClr val="ffff00"/>
                </a:solidFill>
                <a:latin typeface="Tahoma"/>
              </a:rPr>
              <a:t>encargado de organizar y controlar la gestión administrativa y financiera del tribunal</a:t>
            </a:r>
            <a:r>
              <a:rPr b="0" i="1" lang="es-MX" sz="2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 de acuerdo a las reglas contempladas en el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árrafo 4 bis de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Los administradores de tribunales con </a:t>
            </a:r>
            <a:r>
              <a:rPr b="1" i="1" lang="es-ES" sz="2800" spc="-1" strike="noStrike" u="sng">
                <a:solidFill>
                  <a:srgbClr val="ffff00"/>
                </a:solidFill>
                <a:uFillTx/>
                <a:latin typeface="Tahoma"/>
              </a:rPr>
              <a:t>competencia en lo criminal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”,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del Título XI del Código Orgánico de Tribun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66996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El Administrador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455840" y="1959120"/>
            <a:ext cx="6689160" cy="4738320"/>
            <a:chOff x="1455840" y="1959120"/>
            <a:chExt cx="6689160" cy="4738320"/>
          </a:xfrm>
        </p:grpSpPr>
        <p:sp>
          <p:nvSpPr>
            <p:cNvPr id="121" name=""/>
            <p:cNvSpPr/>
            <p:nvPr/>
          </p:nvSpPr>
          <p:spPr>
            <a:xfrm>
              <a:off x="4019040" y="2826360"/>
              <a:ext cx="170532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05600" y="3303720"/>
              <a:ext cx="170136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67520" y="5303880"/>
              <a:ext cx="3389040" cy="29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89320" y="4709160"/>
              <a:ext cx="58032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35440" y="3630960"/>
              <a:ext cx="231804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55600" y="3655800"/>
              <a:ext cx="1513800" cy="4608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57480" y="1959120"/>
              <a:ext cx="188460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67920" y="4709160"/>
              <a:ext cx="2467080" cy="484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7520" y="5673600"/>
              <a:ext cx="1653840" cy="294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67520" y="5994720"/>
              <a:ext cx="2160000" cy="294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67520" y="6346440"/>
              <a:ext cx="2451960" cy="293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295280" y="33336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La estructura orgánica de los nuevos Juzgados de Familia 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Requisitos </a:t>
            </a: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ara el cargo de Administrador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tículo 389 C del Código Orgánico de Tribu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oseer un título profesional relacionado con las áreas de administración y gest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torgado por una universidad o por un instituto profesional, de una carrera de ocho semestres de duración a lo men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Funcion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Dirigir las labores administrativas propias del funcionamiento del tribunal, bajo la supervisión del juez presidente del comité de jueces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roponer al comité de jueces la designación de los jefes de unidades y de los empleados del tribun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roponer al juez presidente la distribución del person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valuar al personal a su carg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distribuir las causas a los jueces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mover a los jefes de unidades y al personal de empleados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Llevar la contabilidad y administrar la cuenta corriente del tribunal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ar cuenta al juez presidente acerca de la gestión administrativa del tribun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aborar el presupuesto anu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dquirir y abastecer de materiales de trabajo al tribunal; y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Ejercer la demás tareas que le hayan sido asignadas por el comité de jueces, el juez presidente o que determinen las leyes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berá sujetarse a las políticas generales de selección de personal, de evaluación, de administración de recursos materiales y de personal, de diseño y análisis de la información estadística y demás que dicte el Consejo de la Corporación Administrativa del Poder Judicia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53352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El Administrad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43000" y="30477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ahoma"/>
              </a:rPr>
              <a:t>EMPLEADOS DE SECRETARÍ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os Tribunales de Familia contarán con una planta de 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 organizarán en unidades administrativas para el cumplimiento eficaz y eficiente de las siguientes funciones, conforme lo dispone el artículo 2 de la Ley Nº 19.968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SALAS Y FUNCIONES: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1º 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Sala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que consistirá en la organización y asistencia a la realización de las audienci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2º 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Atención de público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, destinada a otorgar una adecuada atención, orientación e información al público que concurra al juzgado, especialmente a los niños, niñas y adolescentes, y manejar la correspondencia del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3º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Servicios</a:t>
            </a:r>
            <a:r>
              <a:rPr b="1" i="1" lang="es-CL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4º 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Administración de causas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TITULO V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DISPOSICIONES VA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rán aplicables a las causas de competencia de los juzgados de familia que sean conocidas por los juzgados de letras, los procedimientos establecidos en los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Títulos III, IV y V de esta ley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réase un cargo de miembro de consejo técnico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ribunales formarán parte del Poder Judi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endrán la estructura, organización y competencia que la ley estable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implementación implica la sustitución de los actuales 51 Tribunales de Menores por 258 jueces agrupados en 60 nuevos Tribunales de Familia, a los cuales deben sumarse los 77 Jueces de Letras que tendrán también competencia en asuntos de familia en aquellos lugares en que no exista judicatura especializada en materia famili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4572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Características de los tribun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abrá juzgados unipersonales de composición múlti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gnifica: Juzgados compuestos por un número variable de jue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da uno de los cuales detentará la plenitud jurisdiccional en forma independ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número de jueces será vari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determinará de acuerdo a la carga de trabajo estimada para cada jurisdi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4572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Características de los tribun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Artículo 118 de la Ley Nº 19.968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Tahoma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Tahoma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4. Organización administrativa de los juzg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En lo relativo a la subrogación de los jueces de familia, se aplicarán las normas de los juzgados de garant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4572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un juez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un juez, un administrador,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dos administrativos 1º, un administrativo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dos juece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os jueces, un administrador,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tres administrativos 1º, un administrativo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tres juece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tres jueces, un administrador,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tre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cuatro administrativos 1º, dos administrativos 2º, un administrativo 3º y un auxiliar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0"/>
            <a:ext cx="792504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Titulo V</a:t>
            </a:r>
            <a:r>
              <a:rPr b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I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Planta De Pers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4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cuatro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uatro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uatr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cinco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5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cinco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inco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inco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iembros del consejo técnico, dos administrativos jefes, seis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6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seis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is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sei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un administrativo contable, siete administrativos 1º, dos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0"/>
            <a:ext cx="792504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42640" y="10663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7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siete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ete jueces, un administrador, siete miembros del consejo técnico, tres administrativos jefes, un administrativo contable, ocho administrativos 1º, do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8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ocho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ocho jueces, un administrador, ocho miembros del consejo técnico, tres administrativos jefes, un administrativo contable, nueve administrativos 1º, tre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9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nueve jueces: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ueve jueces, un administrador, nueve miembros del consejo técnico, tres administrativos jefes, un administrativo contable, diez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28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</cp:lastModifiedBy>
  <dcterms:modified xsi:type="dcterms:W3CDTF">2005-08-15T14:08:04Z</dcterms:modified>
  <cp:revision>220</cp:revision>
  <dc:subject/>
  <dc:title>MECESUP PROJECT</dc:title>
</cp:coreProperties>
</file>