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FD635-0626-4C29-84C7-27D738FFF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EA920-45C9-412A-9802-B9C6114C1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E847E-EE08-45A8-8713-06D7429EF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C2873-AD6F-49FF-9CA7-66291B488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6C766-F7BF-4B98-B198-A7F1F9BB5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922DB-0FF2-4D46-AA79-BE8C7ABC6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00669-D148-4016-89B8-4BAE168CD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94FD9-FA17-48A6-85B4-78DC5F4F5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F4F39-B7B5-481D-8D56-131BA73B5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59E7C-3864-4F4E-A5DD-5D98A038B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4978D-3ABE-40B7-A692-B58346E0B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8962E-4162-4BC2-8ACC-FCDE20A12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3622E-8BDC-4BAA-9304-1C01639F3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3DF4D-D0A6-4643-8070-0A76650CB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05089-F555-450B-BC31-E0C1FFC0D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0E4CB-8736-45C6-AE37-9C3E92E21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A7C9F-AD15-4021-BA5B-0914C5103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C196E-CD1E-4EC9-AD58-6A6B15F02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4560F-363A-4E28-A640-7185F967F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2823D-C80B-4679-BA14-BDF3FAD67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02E80-8A59-4B1D-9C98-4CB4BF388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F9C1A-5B2D-45F7-9817-DCF41B914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D337F-13A4-4304-8FDA-A9C036B38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73337-7C43-40A4-8745-C4BC8DF2F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6FB0-AEE3-42C7-8B41-67DC108FF8D9}"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670A-929D-49FA-B985-D5FD9C1BBD98}"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Inmediación.</a:t>
            </a:r>
            <a:br>
              <a:rPr sz="4000"/>
            </a:br>
            <a:r>
              <a:rPr b="0" lang="es-ES" sz="4000" spc="-1" strike="noStrike">
                <a:solidFill>
                  <a:srgbClr val="ccecff"/>
                </a:solidFill>
                <a:latin typeface="Arial"/>
              </a:rPr>
              <a:t>Artículo 1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CL" sz="2000" spc="-1" strike="noStrike">
                <a:solidFill>
                  <a:srgbClr val="ffffff"/>
                </a:solidFill>
                <a:latin typeface="Verdana"/>
              </a:rPr>
              <a:t>Atendida la naturaleza del conflicto familiar, resulta indispensable que </a:t>
            </a:r>
            <a:r>
              <a:rPr b="1" i="1" lang="es-CL" sz="2000" spc="-1" strike="noStrike">
                <a:solidFill>
                  <a:srgbClr val="ffffff"/>
                </a:solidFill>
                <a:latin typeface="Verdana"/>
              </a:rPr>
              <a:t>el juez tenga un conocimiento directo e inmediato de los asuntos sometidos a su conocimiento</a:t>
            </a:r>
            <a:r>
              <a:rPr b="0" lang="es-CL" sz="2000" spc="-1" strike="noStrike">
                <a:solidFill>
                  <a:srgbClr val="ffffff"/>
                </a:solidFill>
                <a:latin typeface="Verdana"/>
              </a:rPr>
              <a:t>, para lo que se requiere de un procedimiento oral, flexible, concentrado, y basado en el principio de la inmediación.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Ante esta situación la Ley Nº 19.968 se encamina hacia un procedimiento que favorece la inmediación entre los justiciables y los jueces, para lo cual su artículo 12 exige que las </a:t>
            </a:r>
            <a:r>
              <a:rPr b="1" i="1" lang="es-CL" sz="2000" spc="-1" strike="noStrike">
                <a:solidFill>
                  <a:srgbClr val="ffffff"/>
                </a:solidFill>
                <a:latin typeface="Verdana"/>
              </a:rPr>
              <a:t>audiencias y las diligencias de prueba se realicen siempre con la presencia del juez</a:t>
            </a:r>
            <a:r>
              <a:rPr b="0" lang="es-CL" sz="2000" spc="-1" strike="noStrike">
                <a:solidFill>
                  <a:srgbClr val="ffffff"/>
                </a:solidFill>
                <a:latin typeface="Verdana"/>
              </a:rPr>
              <a:t>, quien deberá formar su convicción sobre la base de las alegaciones y pruebas que personalmente haya recibido. Con el fin de fortalecer la vigencia de este principio, </a:t>
            </a:r>
            <a:r>
              <a:rPr b="1" i="1" lang="es-CL" sz="2000" spc="-1" strike="noStrike">
                <a:solidFill>
                  <a:srgbClr val="ffffff"/>
                </a:solidFill>
                <a:latin typeface="Verdana"/>
              </a:rPr>
              <a:t>queda asimismo prohibida, bajo sanción de nulidad, la delegación de funciones.</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LABORACION</a:t>
            </a:r>
            <a:br>
              <a:rPr sz="4000"/>
            </a:br>
            <a:r>
              <a:rPr b="1" lang="es-CL" sz="4000" spc="-1" strike="noStrike">
                <a:solidFill>
                  <a:srgbClr val="ffffff"/>
                </a:solidFill>
                <a:latin typeface="Arial"/>
              </a:rPr>
              <a:t>(LEER ARTICULO 14)</a:t>
            </a:r>
            <a:endParaRPr b="0" lang="en-US" sz="4000" spc="-1" strike="noStrike">
              <a:solidFill>
                <a:srgbClr val="ccecff"/>
              </a:solidFill>
              <a:latin typeface="Arial"/>
            </a:endParaRPr>
          </a:p>
        </p:txBody>
      </p:sp>
      <p:sp>
        <p:nvSpPr>
          <p:cNvPr id="183" name=""/>
          <p:cNvSpPr/>
          <p:nvPr/>
        </p:nvSpPr>
        <p:spPr>
          <a:xfrm>
            <a:off x="0" y="1233360"/>
            <a:ext cx="9144000" cy="5488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procedimiento adversarial, hasta ahora predominante en nuestro ordenamiento, resulta inadecuado para la resolución de conflictos familiares, en atención a la naturaleza del conflicto y a la relación existente entr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Por ello es que es necesario proporcionar a las partes instancias adecuadas para llegar a soluciones cooperativas, privilegiando fuertemente las vías no controversiales de resolución de conflictos tales como la mediación y la conciliación, apuntando de esta manera a soluciones pacificadoras que favorezcan la armonía del grupo familiar que, no obstante el conflicto, deberá igualmente seguir interactuando en el desarrollo de sus relaciones pers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17359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artículo 14 de la Ley Nº 19.968, exige que durante el procedimiento y en la resolución del conflicto, se busquen alternativas orientadas a mitigar la confrontación entre las partes, privilegiando las soluciones acordadas por ellas, a partir de la promoción de la mediación y la conciliación. Con ello se busca promover y fortalecer la posibilidad de que las partes accedan a soluciones cooperativas, para lo que contarán con la ayuda de un tercero, ya sea el juez en el caso de conciliación, o el mediador en el caso de med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505080"/>
            <a:ext cx="9144000" cy="4802040"/>
          </a:xfrm>
          <a:prstGeom prst="rect">
            <a:avLst/>
          </a:prstGeom>
          <a:noFill/>
          <a:ln w="0">
            <a:noFill/>
          </a:ln>
        </p:spPr>
        <p:style>
          <a:lnRef idx="0"/>
          <a:fillRef idx="0"/>
          <a:effectRef idx="0"/>
          <a:fontRef idx="minor"/>
        </p:style>
        <p:txBody>
          <a:bodyPr lIns="90000" rIns="90000" tIns="46800" bIns="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ste principio tiene su manifestación con:</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la existencia en el tribunal de un funcionario especialmente capacitado para instruir al demandante acerca de la alternativa de la mediación (artículo 105 de la Ley Nº 19.968); </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promoción de la mediación familiar o de la conciliación, en la audiencia preparatoria (artículo 61 Nº 4 y 5 de la Ley Nº 19.968); y,</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función del Consejo Técnico de evaluar la pertinencia de derivar a mediación o aconsejar la conciliación, sugiriendo en este último caso, los términos de ella.</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TECCION A LA INTIMIDAD</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MX" sz="2400" spc="-1" strike="noStrike">
                <a:solidFill>
                  <a:srgbClr val="ffffff"/>
                </a:solidFill>
                <a:latin typeface="Verdana"/>
              </a:rPr>
              <a:t>	</a:t>
            </a:r>
            <a:r>
              <a:rPr b="1" lang="es-MX" sz="2400" spc="-1" strike="noStrike">
                <a:solidFill>
                  <a:srgbClr val="ffffff"/>
                </a:solidFill>
                <a:latin typeface="Verdana"/>
              </a:rPr>
              <a:t>No obstante el carácter público del procedimiento consagrado en el artículo 9 del Código Orgánico de Tribunales, </a:t>
            </a:r>
            <a:r>
              <a:rPr b="1" i="1" lang="es-MX" sz="2400" spc="-1" strike="noStrike">
                <a:solidFill>
                  <a:srgbClr val="ffffff"/>
                </a:solidFill>
                <a:latin typeface="Verdana"/>
              </a:rPr>
              <a:t>el juez debe velar por el respeto al derecho a la intimidad de las partes y especialmente de los niños, niñas y adolescentes. Con este objetivo podrá prohibir la difusión de datos o imágenes referidos al proceso o a las partes; o disponer, mediante resolución fundada, que todas o algunas de las actuaciones del procedimiento se realicen en forma reservada conforme a lo dispuesto en el artículo 15 de la Ley Nº 19.968.</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Interés superior del niño, niña o adolescente y derecho a ser oído.</a:t>
            </a:r>
            <a:r>
              <a:rPr b="0" lang="es-CL" sz="2800" spc="-1" strike="noStrike">
                <a:solidFill>
                  <a:srgbClr val="ccecff"/>
                </a:solidFill>
                <a:latin typeface="Arial"/>
              </a:rPr>
              <a:t> </a:t>
            </a:r>
            <a:endParaRPr b="0" lang="en-US" sz="2800" spc="-1" strike="noStrike">
              <a:solidFill>
                <a:srgbClr val="ccecff"/>
              </a:solidFill>
              <a:latin typeface="Arial"/>
            </a:endParaRPr>
          </a:p>
        </p:txBody>
      </p:sp>
      <p:sp>
        <p:nvSpPr>
          <p:cNvPr id="189" name=""/>
          <p:cNvSpPr/>
          <p:nvPr/>
        </p:nvSpPr>
        <p:spPr>
          <a:xfrm>
            <a:off x="0" y="1973160"/>
            <a:ext cx="914400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Tiene por objetivo garantizar a todos los niños, niñas y adolescentes que se encuentren en el territorio nacional, el ejercicio y goce pleno y efectivo de sus derechos y garantías, dentro de los que se contemplan el derecho de alimentos y el derecho a un nivel de vida adecuado, los que a su vez se encuentran en directa correspondencia con la satisfacción de las necesidades básicas de los niños, niñas y adolesc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El interés superior del niño recoge su manifestación en:</a:t>
            </a:r>
            <a:endParaRPr b="0" lang="en-US" sz="4400" spc="-1" strike="noStrike">
              <a:solidFill>
                <a:srgbClr val="ccecff"/>
              </a:solidFill>
              <a:latin typeface="Arial"/>
            </a:endParaRPr>
          </a:p>
        </p:txBody>
      </p:sp>
      <p:sp>
        <p:nvSpPr>
          <p:cNvPr id="19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 obligación del juez de designarles un curador </a:t>
            </a:r>
            <a:r>
              <a:rPr b="0" i="1" lang="es-ES" sz="2000" spc="-1" strike="noStrike">
                <a:solidFill>
                  <a:srgbClr val="ffffff"/>
                </a:solidFill>
                <a:latin typeface="Verdana"/>
              </a:rPr>
              <a:t>ad litem</a:t>
            </a:r>
            <a:r>
              <a:rPr b="0" lang="es-ES" sz="2000" spc="-1" strike="noStrike">
                <a:solidFill>
                  <a:srgbClr val="ffffff"/>
                </a:solidFill>
                <a:latin typeface="Verdana"/>
              </a:rPr>
              <a:t> en caso de estimar que sus intereses son independientes o contradictorios con los de su representante legal (artículo 19);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obligación de los encargados de atender al público de otorgarles una atención preferencial (artículo 2 Nº 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función del consejo técnico de asesorar al juez para la adecuada comparecencia y declaración de aquellos (artículo 5 letra b));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necesidad de considerar dicho interés como requisito para que el juez decrete medidas cautelares (artículo 2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n la necesidad de tener en vista los intereses de los niños, niñas o adolescentes, involucrados en el conflicto, al momento de aprobar convenciones probatorias propuestas por las partes (artículo 30).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t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Arial"/>
              </a:rPr>
              <a:t>el interés superior del niño, niña o adolescente, y su derecho a ser oído </a:t>
            </a:r>
            <a:r>
              <a:rPr b="1" lang="es-ES" sz="2800" spc="-1" strike="noStrike">
                <a:solidFill>
                  <a:srgbClr val="ccecff"/>
                </a:solidFill>
                <a:latin typeface="Arial"/>
              </a:rPr>
              <a:t>:</a:t>
            </a:r>
            <a:endParaRPr b="0" lang="en-US" sz="28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on principios rectores que el juez de familia debe tener siempre como consideración principal en la resolución del asunto sometido a su conocimiento.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Verdana"/>
              </a:rPr>
              <a:t>Para los efectos de esta ley, se considera niño o niña a todo ser humano que no ha cumplido los catorce años y, adolescente, desde los catorce años hasta que cumpla los dieciocho años de edad</a:t>
            </a:r>
            <a:r>
              <a:rPr b="1" i="1" lang="es-CL" sz="2000" spc="-1" strike="noStrike" u="sng">
                <a:solidFill>
                  <a:srgbClr val="ffffcc"/>
                </a:solidFill>
                <a:uFillTx/>
                <a:latin typeface="Verdana"/>
                <a:hlinkClick r:id="rId1" action="ppaction://hlinksldjump"/>
              </a:rPr>
              <a:t>[1]</a:t>
            </a:r>
            <a:r>
              <a:rPr b="0" lang="es-CL"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   </a:t>
            </a:r>
            <a:r>
              <a:rPr b="0" lang="es-MX" sz="2000" spc="-1" strike="noStrike" u="sng">
                <a:solidFill>
                  <a:srgbClr val="ffffcc"/>
                </a:solidFill>
                <a:uFillTx/>
                <a:latin typeface="Verdana"/>
                <a:hlinkClick r:id="rId2" action="ppaction://hlinksldjump"/>
              </a:rPr>
              <a:t>[</a:t>
            </a:r>
            <a:r>
              <a:rPr b="0" lang="es-MX" sz="2000" spc="-1" strike="noStrike" u="sng">
                <a:solidFill>
                  <a:srgbClr val="ffffcc"/>
                </a:solidFill>
                <a:uFillTx/>
                <a:latin typeface="Verdana"/>
                <a:hlinkClick r:id="rId3" action="ppaction://hlinksldjump"/>
              </a:rPr>
              <a:t>1]</a:t>
            </a:r>
            <a:r>
              <a:rPr b="0" lang="es-MX" sz="2000" spc="-1" strike="noStrike">
                <a:solidFill>
                  <a:srgbClr val="ffffff"/>
                </a:solidFill>
                <a:latin typeface="Verdana"/>
              </a:rPr>
              <a:t> </a:t>
            </a:r>
            <a:r>
              <a:rPr b="1" lang="es-MX" sz="2000" spc="-1" strike="noStrike">
                <a:solidFill>
                  <a:srgbClr val="ffffff"/>
                </a:solidFill>
                <a:latin typeface="Verdana"/>
              </a:rPr>
              <a:t>La Comisión</a:t>
            </a:r>
            <a:r>
              <a:rPr b="0" lang="es-MX" sz="2000" spc="-1" strike="noStrike">
                <a:solidFill>
                  <a:srgbClr val="ffffff"/>
                </a:solidFill>
                <a:latin typeface="Verdana"/>
              </a:rPr>
              <a:t> reemplazó la frase </a:t>
            </a:r>
            <a:r>
              <a:rPr b="0" i="1" lang="es-MX" sz="2000" spc="-1" strike="noStrike">
                <a:solidFill>
                  <a:srgbClr val="ffffff"/>
                </a:solidFill>
                <a:latin typeface="Verdana"/>
              </a:rPr>
              <a:t>hasta los dieciocho años de edad cumplidos</a:t>
            </a:r>
            <a:r>
              <a:rPr b="0" lang="es-MX" sz="2000" spc="-1" strike="noStrike">
                <a:solidFill>
                  <a:srgbClr val="ffffff"/>
                </a:solidFill>
                <a:latin typeface="Verdana"/>
              </a:rPr>
              <a:t>, por </a:t>
            </a:r>
            <a:r>
              <a:rPr b="0" i="1" lang="es-MX" sz="2000" spc="-1" strike="noStrike">
                <a:solidFill>
                  <a:srgbClr val="ffffff"/>
                </a:solidFill>
                <a:latin typeface="Verdana"/>
              </a:rPr>
              <a:t>hasta que cumpla los dieciocho años</a:t>
            </a:r>
            <a:r>
              <a:rPr b="0" lang="es-MX" sz="2000" spc="-1" strike="noStrike">
                <a:solidFill>
                  <a:srgbClr val="ffffff"/>
                </a:solidFill>
                <a:latin typeface="Verdana"/>
              </a:rPr>
              <a:t>, para precisar la redacción. </a:t>
            </a:r>
            <a:r>
              <a:rPr b="0" i="1" lang="es-MX" sz="2000" spc="-1" strike="noStrike">
                <a:solidFill>
                  <a:srgbClr val="ffffff"/>
                </a:solidFill>
                <a:latin typeface="Verdana"/>
              </a:rPr>
              <a:t>Segundo Informe de la Comisión del Senado de Constitución, Legislación, Justicia y Reglamento.</a:t>
            </a:r>
            <a:r>
              <a:rPr b="0" lang="es-MX" sz="2000" spc="-1" strike="noStrike">
                <a:solidFill>
                  <a:srgbClr val="ffffff"/>
                </a:solidFill>
                <a:latin typeface="Verdana"/>
              </a:rPr>
              <a:t> Boletín Nº 2118-1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ecff"/>
                </a:solidFill>
                <a:uFillTx/>
                <a:latin typeface="Arial"/>
              </a:rPr>
              <a:t>Principios formativos del procedimiento ante los tribunales de familia. </a:t>
            </a:r>
            <a:br>
              <a:rPr sz="3200"/>
            </a:br>
            <a:endParaRPr b="0" lang="en-US" sz="32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onstituyen la base y fundamento del procedimiento y por lo mismo, </a:t>
            </a:r>
            <a:r>
              <a:rPr b="1" lang="es-ES" sz="2000" spc="-1" strike="noStrike">
                <a:solidFill>
                  <a:srgbClr val="ffffff"/>
                </a:solidFill>
                <a:latin typeface="Verdana"/>
              </a:rPr>
              <a:t>orientan la interpretación de la ley procesa.</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a:t>
            </a:r>
            <a:r>
              <a:rPr b="0" lang="es-ES" sz="2000" spc="-1" strike="noStrike">
                <a:solidFill>
                  <a:srgbClr val="ffffff"/>
                </a:solidFill>
                <a:latin typeface="Verdana"/>
              </a:rPr>
              <a:t>deben tener en cuenta siempre al momento de interpretar y dar sentido a las normas que se han de aplicar dentro de ese procedimiento en particular.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normas de un determinado procedimiento se deben ver bajo el prisma de sus principios</a:t>
            </a:r>
            <a:r>
              <a:rPr b="0" lang="es-ES" sz="2000" spc="-1" strike="noStrike" u="sng">
                <a:solidFill>
                  <a:srgbClr val="ffffcc"/>
                </a:solidFill>
                <a:uFillTx/>
                <a:latin typeface="Verdana"/>
                <a:hlinkClick r:id="rId1" action="ppaction://hlinksldjump"/>
              </a:rPr>
              <a:t>[1]</a:t>
            </a:r>
            <a:r>
              <a:rPr b="0" lang="es-ES" sz="2000" spc="-1" strike="noStrike">
                <a:solidFill>
                  <a:srgbClr val="ffffff"/>
                </a:solidFill>
                <a:latin typeface="Verdana"/>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in embargo, debe hacerse presente que los principios no son absolutos, es decir, no impiden en un procedimiento determinado la vigencia del principio opuesto; luego se debe atender a la prevalencia del principio para caracterizar el procedimiento.   </a:t>
            </a:r>
            <a:r>
              <a:rPr b="0" lang="es-MX"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u="sng">
                <a:solidFill>
                  <a:srgbClr val="ffffcc"/>
                </a:solidFill>
                <a:uFillTx/>
                <a:latin typeface="Verdana"/>
                <a:hlinkClick r:id="rId2" action="ppaction://hlinksldjump"/>
              </a:rPr>
              <a:t>[1]</a:t>
            </a:r>
            <a:r>
              <a:rPr b="0" lang="es-CL" sz="2000" spc="-1" strike="noStrike">
                <a:solidFill>
                  <a:srgbClr val="ffffff"/>
                </a:solidFill>
                <a:latin typeface="Verdana"/>
              </a:rPr>
              <a:t> QUEZADA MELENDEZ, José, </a:t>
            </a:r>
            <a:r>
              <a:rPr b="0" i="1" lang="es-CL" sz="2000" spc="-1" strike="noStrike">
                <a:solidFill>
                  <a:srgbClr val="ffffff"/>
                </a:solidFill>
                <a:latin typeface="Verdana"/>
              </a:rPr>
              <a:t>Introducción al derecho procesal, </a:t>
            </a:r>
            <a:r>
              <a:rPr b="0" lang="es-CL" sz="2000" spc="-1" strike="noStrike">
                <a:solidFill>
                  <a:srgbClr val="ffffff"/>
                </a:solidFill>
                <a:latin typeface="Verdana"/>
              </a:rPr>
              <a:t>Editorial Fallos del Mes, Santiago, 1983, pág. 118-119.</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Articulo 9 LTF</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1" lang="es-MX" sz="1800" spc="-1" strike="noStrike">
                <a:solidFill>
                  <a:srgbClr val="ffffff"/>
                </a:solidFill>
                <a:latin typeface="Verdana"/>
              </a:rPr>
              <a:t>	</a:t>
            </a:r>
            <a:r>
              <a:rPr b="1" lang="es-MX" sz="1800" spc="-1" strike="noStrike">
                <a:solidFill>
                  <a:srgbClr val="ffffff"/>
                </a:solidFill>
                <a:latin typeface="Verdana"/>
              </a:rPr>
              <a:t>E</a:t>
            </a:r>
            <a:r>
              <a:rPr b="1" lang="es-ES" sz="1800" spc="-1" strike="noStrike">
                <a:solidFill>
                  <a:srgbClr val="ffffff"/>
                </a:solidFill>
                <a:latin typeface="Verdana"/>
              </a:rPr>
              <a:t>l artículo 9 de la Ley Nº 19.968 sigue el espíritu de la Convención de los Derechos del Niño y </a:t>
            </a:r>
            <a:r>
              <a:rPr b="1" lang="es-MX" sz="1800" spc="-1" strike="noStrike">
                <a:solidFill>
                  <a:srgbClr val="ffffff"/>
                </a:solidFill>
                <a:latin typeface="Verdana"/>
              </a:rPr>
              <a:t>las tendencias modernas sobre la materia plasmadas en el Código Procesal Modelo para Iberoaméric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i="1" lang="es-ES" sz="1800" spc="-1" strike="noStrike">
                <a:solidFill>
                  <a:srgbClr val="ffffff"/>
                </a:solidFill>
                <a:latin typeface="Verdana"/>
              </a:rPr>
              <a:t>“</a:t>
            </a:r>
            <a:r>
              <a:rPr b="1" i="1" lang="es-MX" sz="1800" spc="-1" strike="noStrike">
                <a:solidFill>
                  <a:srgbClr val="ffffff"/>
                </a:solidFill>
                <a:latin typeface="Verdana"/>
              </a:rPr>
              <a:t>El procedimiento que aplicarán los juzgados de familia será oral, concentrado y desformalizado (recuerden que…). En él primarán los principios de la inmediación, actuación de oficio y búsqueda de soluciones colaborativas entre partes</a:t>
            </a:r>
            <a:r>
              <a:rPr b="1" lang="es-MX"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lang="es-MX" sz="1800" spc="-1" strike="noStrike">
                <a:solidFill>
                  <a:srgbClr val="ffffff"/>
                </a:solidFill>
                <a:latin typeface="Verdana"/>
              </a:rPr>
              <a:t>A partir de estos principios entonces se busca al menos teóricamente superar las dificultades que presenta el procedimiento ante los tribunales de menores y, al mismo tiempo, cumplir con los objetivos trazados para el procedimiento ante los nuevos tribunales de familia.</a:t>
            </a:r>
            <a:r>
              <a:rPr b="0" lang="es-MX"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ORALIDAD </a:t>
            </a:r>
            <a:br>
              <a:rPr sz="3200"/>
            </a:br>
            <a:r>
              <a:rPr b="1" lang="es-ES" sz="3200" spc="-1" strike="noStrike">
                <a:solidFill>
                  <a:srgbClr val="ccecff"/>
                </a:solidFill>
                <a:latin typeface="Arial"/>
              </a:rPr>
              <a:t>Artículo  10.-</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1" lang="es-ES" sz="2800" spc="-1" strike="noStrike">
                <a:solidFill>
                  <a:srgbClr val="ffffff"/>
                </a:solidFill>
                <a:latin typeface="Verdana"/>
              </a:rPr>
              <a:t>To</a:t>
            </a:r>
            <a:r>
              <a:rPr b="1" i="1" lang="es-CL" sz="2800" spc="-1" strike="noStrike">
                <a:solidFill>
                  <a:srgbClr val="ffffff"/>
                </a:solidFill>
                <a:latin typeface="Verdana"/>
              </a:rPr>
              <a:t>das las actuaciones procesales serán orales,</a:t>
            </a:r>
            <a:r>
              <a:rPr b="0" lang="es-CL" sz="2800" spc="-1" strike="noStrike">
                <a:solidFill>
                  <a:srgbClr val="ffffff"/>
                </a:solidFill>
                <a:latin typeface="Verdana"/>
              </a:rPr>
              <a:t> salvo las excepciones expresamente contenidas en la misma ley.</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Dentro de las excepciones se cuentan fundamentalmente </a:t>
            </a:r>
            <a:r>
              <a:rPr b="1" i="1" lang="es-ES" sz="2800" spc="-1" strike="noStrike">
                <a:solidFill>
                  <a:srgbClr val="ffffff"/>
                </a:solidFill>
                <a:latin typeface="Verdana"/>
              </a:rPr>
              <a:t>los incidentes promovidos fuera de una audiencia, el informe pericial</a:t>
            </a:r>
            <a:r>
              <a:rPr b="0" lang="es-ES" sz="2800" spc="-1" strike="noStrike">
                <a:solidFill>
                  <a:srgbClr val="ffffff"/>
                </a:solidFill>
                <a:latin typeface="Verdana"/>
              </a:rPr>
              <a:t>, sin perjuicio de la obligación posterior de concurrir a declarar en forma oral en la audiencia, </a:t>
            </a:r>
            <a:r>
              <a:rPr b="1" i="1" lang="es-ES" sz="2800" spc="-1" strike="noStrike">
                <a:solidFill>
                  <a:srgbClr val="ffffff"/>
                </a:solidFill>
                <a:latin typeface="Verdana"/>
              </a:rPr>
              <a:t>el recurso de apelación y el recurso de casación</a:t>
            </a:r>
            <a:r>
              <a:rPr b="0" lang="es-E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RALIDAD</a:t>
            </a:r>
            <a:endParaRPr b="0" lang="en-US" sz="4000" spc="-1" strike="noStrike">
              <a:solidFill>
                <a:srgbClr val="ccecff"/>
              </a:solidFill>
              <a:latin typeface="Arial"/>
            </a:endParaRPr>
          </a:p>
        </p:txBody>
      </p:sp>
      <p:sp>
        <p:nvSpPr>
          <p:cNvPr id="171" name=""/>
          <p:cNvSpPr/>
          <p:nvPr/>
        </p:nvSpPr>
        <p:spPr>
          <a:xfrm>
            <a:off x="0" y="238248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Tratándose de actuaciones orales </a:t>
            </a:r>
            <a:r>
              <a:rPr b="1" i="1" lang="es-CL" sz="2400" spc="-1" strike="noStrike">
                <a:solidFill>
                  <a:srgbClr val="ffffff"/>
                </a:solidFill>
                <a:latin typeface="Bookman Old Style"/>
              </a:rPr>
              <a:t>el juzgado deberá llevar un sistema de registro de éstas, el que deberá efectuarse por cualquier medio apto para producir fe, que permita garantizar la conservación y reproducción de su contenido. </a:t>
            </a:r>
            <a:r>
              <a:rPr b="0" lang="es-CL" sz="2400" spc="-1" strike="noStrike">
                <a:solidFill>
                  <a:srgbClr val="ffffff"/>
                </a:solidFill>
                <a:latin typeface="Bookman Old Style"/>
              </a:rPr>
              <a:t>Asimismo, la conciliación que pudiere producirse en las audiencias orales deberá consignarse en extracto, manteniendo fielmente los términos del acuerdo que contengan.</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NCENTRACION </a:t>
            </a:r>
            <a:br>
              <a:rPr sz="4000"/>
            </a:br>
            <a:r>
              <a:rPr b="1" lang="es-CL" sz="4000" spc="-1" strike="noStrike">
                <a:solidFill>
                  <a:srgbClr val="ffffff"/>
                </a:solidFill>
                <a:latin typeface="Arial"/>
              </a:rPr>
              <a:t>Artículo 11</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2000" spc="-1" strike="noStrike" u="sng">
                <a:solidFill>
                  <a:srgbClr val="ffffff"/>
                </a:solidFill>
                <a:uFillTx/>
                <a:latin typeface="Verdana"/>
              </a:rPr>
              <a:t>Crítica al sistema antiguo</a:t>
            </a:r>
            <a:r>
              <a:rPr b="1" lang="es-CL"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Una de las principales falencias advertidas en la justicia de menores era la extremada dilatación en el tiempo de sus procedimientos y actua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legislador tuvo como intención soslayar esta dificultad y hacer más expedita la tramitación de las materias sometidas al conocimiento de los nuevos tribunales de familia.</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a:t>
            </a:r>
            <a:r>
              <a:rPr b="1" i="1" lang="es-CL" sz="2000" spc="-1" strike="noStrike">
                <a:solidFill>
                  <a:srgbClr val="ffffff"/>
                </a:solidFill>
                <a:latin typeface="Verdana"/>
              </a:rPr>
              <a:t>procedimiento ante estos tribunales deberá desarrollarse en audiencias continuas y podrá prolongarse en sesiones </a:t>
            </a:r>
            <a:r>
              <a:rPr b="1" i="1" lang="es-CL" sz="2000" spc="-1" strike="noStrike" u="sng">
                <a:solidFill>
                  <a:srgbClr val="ffffff"/>
                </a:solidFill>
                <a:uFillTx/>
                <a:latin typeface="Verdana"/>
              </a:rPr>
              <a:t>sucesivas (análisis)</a:t>
            </a:r>
            <a:r>
              <a:rPr b="1" i="1" lang="es-CL" sz="2000" spc="-1" strike="noStrike">
                <a:solidFill>
                  <a:srgbClr val="ffffff"/>
                </a:solidFill>
                <a:latin typeface="Verdana"/>
              </a:rPr>
              <a:t>, hasta su conclusión.</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CONCENTRACION</a:t>
            </a:r>
            <a:endParaRPr b="0" lang="en-US" sz="44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Verdana"/>
              </a:rPr>
              <a:t>Excep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 tribunal podrá suspender el desarrollo de la audiencia hasta por dos veces por razones de absoluta necesidad y por el tiempo mínimo necesario de acuerdo con el motivo de la suspensió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Debe el tribunal comunicar oralmente la fecha y hora de su continuación, lo que se tendrá como suficiente citació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Sin  perjuicio de lo anterior las partes también tendrán la facultad de solicitar, de común acuerdo, la suspensión de la audiencia que hubiere sido citada, por una sola vez, hasta por sesenta días de conformidad con lo dispuesto en el artículo 20 de la Ley Nº 19.96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Actuación de oficio.</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Verdana"/>
              </a:rPr>
              <a:t>Motivo:</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a necesidad de entregar celeridad y eficiencia al procedimiento, y complementando en este sentido su carácter concentrado, el artículo 13 de la Ley Nº 19.968 señala que promovido el proceso y en cualquier estado del mismo, </a:t>
            </a:r>
            <a:r>
              <a:rPr b="1" i="1" lang="es-CL" sz="2800" spc="-1" strike="noStrike">
                <a:solidFill>
                  <a:srgbClr val="ffffff"/>
                </a:solidFill>
                <a:latin typeface="Verdana"/>
              </a:rPr>
              <a:t>el juez deberá adoptar, de oficio, todas las medidas necesarias para llevarlo a término con la mayor celerida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ACTUACION DE OFICIO.</a:t>
            </a:r>
            <a:br>
              <a:rPr sz="4000"/>
            </a:br>
            <a:r>
              <a:rPr b="0" lang="es-CL" sz="4000" spc="-1" strike="noStrike">
                <a:solidFill>
                  <a:srgbClr val="ccecff"/>
                </a:solidFill>
                <a:latin typeface="Arial"/>
              </a:rPr>
              <a:t>  Artículo 13.</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0" lang="es-CL" sz="1800" spc="-1" strike="noStrike">
                <a:solidFill>
                  <a:srgbClr val="ffffff"/>
                </a:solidFill>
                <a:latin typeface="Verdana"/>
              </a:rPr>
              <a:t>El </a:t>
            </a:r>
            <a:r>
              <a:rPr b="0" lang="es-CL" sz="2000" spc="-1" strike="noStrike">
                <a:solidFill>
                  <a:srgbClr val="ffffff"/>
                </a:solidFill>
                <a:latin typeface="Verdana"/>
              </a:rPr>
              <a:t>juez asume el impulso proces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ara ello deberá:</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cretar las medidas cautelares que estime procedentes (artículo 22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ordenar que se acompañen todos aquellos medios de prueba que a su juicio, resulten necesarios producir</a:t>
            </a:r>
            <a:r>
              <a:rPr b="0" lang="es-CL" sz="2000" spc="-1" strike="noStrike">
                <a:solidFill>
                  <a:srgbClr val="ffffff"/>
                </a:solidFill>
                <a:latin typeface="Verdana"/>
              </a:rPr>
              <a:t> para adquirir suficiente convicción en la resolución del asunto sometido a su conocimiento (artículo 29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cluso incluir en el llamado a conciliación del juicio de separación, nulidad o divorcio, todas las materias relativas a las relaciones de familia, entre ellas los alimentos, aunque no se le hubieren solicitado (artículo 90 de la nueva Ley de Matrimonio Civi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oficina </cp:lastModifiedBy>
  <dcterms:modified xsi:type="dcterms:W3CDTF">2005-10-04T17:58:10Z</dcterms:modified>
  <cp:revision>57</cp:revision>
  <dc:subject/>
  <dc:title>Diapositiva 1</dc:title>
</cp:coreProperties>
</file>