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C3967-03F3-488D-A946-B280FF9D1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0FC67-6A2A-46AD-BF1C-76721B5F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8EF5A-8CF8-4095-9424-443D31A71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90C60-993F-45C3-9E20-CAD5C187D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A7E23-B2CE-4E74-8213-E7197D639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FF0E8-5BA6-4941-8140-59123E9D0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BA590-7226-437F-95D6-BBD475F03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4692E-6B59-44BB-B0EC-0449F3BC0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1016D-12F2-4687-8141-662667CDF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D1D6B-5B38-445A-A8F0-987A5A5E9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85622-5607-418F-ABF0-595722DEA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A91FE-3D45-4090-8EFC-7D223575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FA18E-49D1-40AF-B774-EE433F10E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47BFF-0B11-49A1-A06B-3FE1A463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E9AD6-D352-4627-8C81-EA042FD3A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848A8-F0D4-492B-A886-474DEF742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38C01-239E-453A-91B4-0D5CD1010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EFBCF-D73E-4CFA-90B0-1FDCB2C6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D49D-900F-4281-A2D4-3DD4FA165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7DC70-E42F-4293-95DF-B96FF7347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3E42-BC7D-41EC-8DE5-C44F20E1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CC44-13B2-4FC4-98C6-FE6A24B88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67E1-929B-4FDC-932F-2241EDD6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21B3-4CB0-466B-BA5B-38752394C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2E9E-67B5-481D-BC11-B32BE66598E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4AA2-429E-4778-A83E-F9AAB2A80E4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600" y="0"/>
            <a:ext cx="787320" cy="1773360"/>
          </a:xfrm>
          <a:prstGeom prst="rect">
            <a:avLst/>
          </a:prstGeom>
          <a:ln w="0">
            <a:noFill/>
          </a:ln>
        </p:spPr>
      </p:pic>
      <p:pic>
        <p:nvPicPr>
          <p:cNvPr id="110" name="" descr=""/>
          <p:cNvPicPr/>
          <p:nvPr/>
        </p:nvPicPr>
        <p:blipFill>
          <a:blip r:embed="rId2"/>
          <a:stretch/>
        </p:blipFill>
        <p:spPr>
          <a:xfrm>
            <a:off x="900000" y="1844640"/>
            <a:ext cx="5832720" cy="5040360"/>
          </a:xfrm>
          <a:prstGeom prst="rect">
            <a:avLst/>
          </a:prstGeom>
          <a:ln w="0">
            <a:noFill/>
          </a:ln>
        </p:spPr>
      </p:pic>
      <p:sp>
        <p:nvSpPr>
          <p:cNvPr id="111"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2"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eforma 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4"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5"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6"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1"/>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2"/>
                                        </p:tgtEl>
                                        <p:attrNameLst>
                                          <p:attrName>style.visibility</p:attrName>
                                        </p:attrNameLst>
                                      </p:cBhvr>
                                      <p:to>
                                        <p:strVal val="visible"/>
                                      </p:to>
                                    </p:set>
                                  </p:childTnLst>
                                </p:cTn>
                              </p:par>
                            </p:childTnLst>
                          </p:cTn>
                        </p:par>
                        <p:par>
                          <p:cTn id="16" fill="hold">
                            <p:stCondLst>
                              <p:cond delay="4075"/>
                            </p:stCondLst>
                            <p:childTnLst>
                              <p:par>
                                <p:cTn id="17" nodeType="afterEffect" fill="hold" presetClass="entr" presetID="1">
                                  <p:stCondLst>
                                    <p:cond delay="0"/>
                                  </p:stCondLst>
                                  <p:childTnLst>
                                    <p:set>
                                      <p:cBhvr>
                                        <p:cTn id="1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8</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rtes podrán actuar y comparecer personalmente, sin necesidad de mandatario judicial y de abogado patrocinante, a menos que el juez así lo ordene expresamente, especialmente en aquellos casos en que una de las partes cuente con asesoría de letrad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Representación.</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los asuntos en que aparezcan involucrados intereses de menores de edad o de incapaces, el juez deberá velar porque éstos se encuentren debidamente representad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spensión del proced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artes podrán, de común acuerdo, suspender el procedimiento, </a:t>
            </a:r>
            <a:r>
              <a:rPr b="1" lang="es-ES" sz="2800" spc="-1" strike="noStrike">
                <a:solidFill>
                  <a:srgbClr val="ffffff"/>
                </a:solidFill>
                <a:latin typeface="Tahoma"/>
              </a:rPr>
              <a:t>por una vez, hasta por sesenta días. </a:t>
            </a:r>
            <a:r>
              <a:rPr b="0" lang="es-ES" sz="2800" spc="-1" strike="noStrike">
                <a:solidFill>
                  <a:srgbClr val="ffffff"/>
                </a:solidFill>
                <a:latin typeface="Tahoma"/>
              </a:rPr>
              <a:t>Artículo 2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gulado expresamente. Novedad en materias de familias)</a:t>
            </a:r>
            <a:r>
              <a:rPr b="0" lang="es-ES"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llegado el día de la celebración de las audiencias fijadas, </a:t>
            </a:r>
            <a:r>
              <a:rPr b="1" lang="es-ES" sz="2000" spc="-1" strike="noStrike">
                <a:solidFill>
                  <a:srgbClr val="ffffff"/>
                </a:solidFill>
                <a:latin typeface="Tahoma"/>
              </a:rPr>
              <a:t>no concurriere ninguna de las partes que figuren en el proceso</a:t>
            </a:r>
            <a:r>
              <a:rPr b="0" lang="es-ES" sz="2000" spc="-1" strike="noStrike">
                <a:solidFill>
                  <a:srgbClr val="ffffff"/>
                </a:solidFill>
                <a:latin typeface="Tahoma"/>
              </a:rPr>
              <a:t>, y el demandante o solicitante </a:t>
            </a:r>
            <a:r>
              <a:rPr b="1" lang="es-ES" sz="2000" spc="-1" strike="noStrike">
                <a:solidFill>
                  <a:srgbClr val="ffffff"/>
                </a:solidFill>
                <a:latin typeface="Tahoma"/>
              </a:rPr>
              <a:t>no pidiere una nueva citación dentro de quinto día</a:t>
            </a:r>
            <a:r>
              <a:rPr b="0" lang="es-ES" sz="2000" spc="-1" strike="noStrike">
                <a:solidFill>
                  <a:srgbClr val="ffffff"/>
                </a:solidFill>
                <a:latin typeface="Tahoma"/>
              </a:rPr>
              <a:t>, el juez de familia </a:t>
            </a:r>
            <a:r>
              <a:rPr b="1" lang="es-ES" sz="2000" spc="-1" strike="noStrike" u="sng">
                <a:solidFill>
                  <a:srgbClr val="ffffff"/>
                </a:solidFill>
                <a:uFillTx/>
                <a:latin typeface="Tahoma"/>
              </a:rPr>
              <a:t>procederá </a:t>
            </a:r>
            <a:r>
              <a:rPr b="0" lang="es-ES" sz="2000" spc="-1" strike="noStrike">
                <a:solidFill>
                  <a:srgbClr val="ffffff"/>
                </a:solidFill>
                <a:latin typeface="Tahoma"/>
              </a:rPr>
              <a:t>a declarar el abandono del procedimiento y ordenará el archivo de los antecedent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No obstante, en los asuntos a que se refieren los números 8, 9, 10, 12, 13 y 18 del artículo 8º, el juez citará a las partes, en forma inmediata, a una nueva audiencia bajo apercibimiento de continuar el procedimiento y resolver de oficio. Artículo 2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on materias de relevancia social e interés público como:</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8) Todos los asuntos en que aparezcan niños, niñas o adolescentes gravemente vulnerados o amenazados en sus derechos, respecto de los cuales se requiera adoptar una </a:t>
            </a:r>
            <a:r>
              <a:rPr b="1" lang="es-ES" sz="1600" spc="-1" strike="noStrike">
                <a:solidFill>
                  <a:srgbClr val="ffffff"/>
                </a:solidFill>
                <a:latin typeface="Tahoma"/>
              </a:rPr>
              <a:t>medida de protección </a:t>
            </a:r>
            <a:r>
              <a:rPr b="0" lang="es-ES" sz="1600" spc="-1" strike="noStrike">
                <a:solidFill>
                  <a:srgbClr val="ffffff"/>
                </a:solidFill>
                <a:latin typeface="Tahoma"/>
              </a:rPr>
              <a:t>conforme al artículo 30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9) Las </a:t>
            </a:r>
            <a:r>
              <a:rPr b="1" lang="es-ES" sz="1600" spc="-1" strike="noStrike">
                <a:solidFill>
                  <a:srgbClr val="ffffff"/>
                </a:solidFill>
                <a:latin typeface="Tahoma"/>
              </a:rPr>
              <a:t>acciones de filiación </a:t>
            </a:r>
            <a:r>
              <a:rPr b="0" lang="es-ES"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0) Todos los asuntos en que </a:t>
            </a:r>
            <a:r>
              <a:rPr b="1" lang="es-ES" sz="1600" spc="-1" strike="noStrike">
                <a:solidFill>
                  <a:srgbClr val="ffffff"/>
                </a:solidFill>
                <a:latin typeface="Tahoma"/>
              </a:rPr>
              <a:t>se impute un hecho punible a niños, niñas o adolescentes exentos de responsabilidad penal</a:t>
            </a:r>
            <a:r>
              <a:rPr b="0" lang="es-ES"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2) Las causas relativas al </a:t>
            </a:r>
            <a:r>
              <a:rPr b="1" lang="es-ES" sz="1600" spc="-1" strike="noStrike">
                <a:solidFill>
                  <a:srgbClr val="ffffff"/>
                </a:solidFill>
                <a:latin typeface="Tahoma"/>
              </a:rPr>
              <a:t>maltrato de niños, niñas o adolescentes </a:t>
            </a:r>
            <a:r>
              <a:rPr b="0" lang="es-ES" sz="1600" spc="-1" strike="noStrike">
                <a:solidFill>
                  <a:srgbClr val="ffffff"/>
                </a:solidFill>
                <a:latin typeface="Tahoma"/>
              </a:rPr>
              <a:t>de acuerdo a lo dispuesto en el inciso segundo del artículo 62 de la ley 16.618;</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3) Los procedimientos previos a </a:t>
            </a:r>
            <a:r>
              <a:rPr b="1" lang="es-ES" sz="1600" spc="-1" strike="noStrike">
                <a:solidFill>
                  <a:srgbClr val="ffffff"/>
                </a:solidFill>
                <a:latin typeface="Tahoma"/>
              </a:rPr>
              <a:t>la adopción</a:t>
            </a:r>
            <a:r>
              <a:rPr b="0" lang="es-ES" sz="1600" spc="-1" strike="noStrike">
                <a:solidFill>
                  <a:srgbClr val="ffffff"/>
                </a:solidFill>
                <a:latin typeface="Tahoma"/>
              </a:rPr>
              <a:t>, de que trata el Título II de la ley 19.620;</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8) </a:t>
            </a:r>
            <a:r>
              <a:rPr b="1" lang="es-ES" sz="1600" spc="-1" strike="noStrike">
                <a:solidFill>
                  <a:srgbClr val="ffffff"/>
                </a:solidFill>
                <a:latin typeface="Tahoma"/>
              </a:rPr>
              <a:t>Los actos de violencia intrafamiliar</a:t>
            </a:r>
            <a:r>
              <a:rPr b="0" lang="es-E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Potestad cautelar. </a:t>
            </a:r>
            <a:r>
              <a:rPr b="0" lang="es-ES" sz="1200" spc="-1" strike="noStrike">
                <a:solidFill>
                  <a:srgbClr val="ffffff"/>
                </a:solidFill>
                <a:latin typeface="Tahoma"/>
              </a:rPr>
              <a:t>Artículo 22</a:t>
            </a:r>
            <a:endParaRPr b="0" lang="en-US" sz="12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dispuesto en leyes especiale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cualquier etapa del procedimiento, </a:t>
            </a:r>
            <a:r>
              <a:rPr b="0" lang="es-ES" sz="1400" spc="-1" strike="noStrike" u="sng">
                <a:solidFill>
                  <a:srgbClr val="ffffff"/>
                </a:solidFill>
                <a:uFillTx/>
                <a:latin typeface="Tahoma"/>
              </a:rPr>
              <a:t>o antes de su inicio</a:t>
            </a:r>
            <a:r>
              <a:rPr b="0" lang="es-ES" sz="1400" spc="-1" strike="noStrike">
                <a:solidFill>
                  <a:srgbClr val="ffffff"/>
                </a:solidFill>
                <a:latin typeface="Tahoma"/>
              </a:rPr>
              <a:t>, el juez, de oficio o a petición de parte.</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Teniendo en cuenta la verosimilitud del derecho invocado y el peligro en la demora que implica la tramitación,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Podrá</a:t>
            </a:r>
            <a:r>
              <a:rPr b="0" lang="es-ES" sz="1400" spc="-1" strike="noStrike">
                <a:solidFill>
                  <a:srgbClr val="ffffff"/>
                </a:solidFill>
                <a:latin typeface="Tahoma"/>
              </a:rPr>
              <a:t> </a:t>
            </a:r>
            <a:r>
              <a:rPr b="0" lang="es-ES" sz="1400" spc="-1" strike="noStrike">
                <a:solidFill>
                  <a:srgbClr val="ffffff"/>
                </a:solidFill>
                <a:latin typeface="Tahoma"/>
              </a:rPr>
              <a:t>decretar las medidas cautelares conservativas o innovativas que estime procedentes.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as últimas sólo podrán disponerse en situaciones urgentes y cuando lo exija el interés superior del niño, niña o adolescente, o cuando lo aconseje la inminencia del daño que se trata de evitar.</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das cautelares podrán llevarse a efecto aun antes de notificarse a la persona contra quien se dicten, siempre que existan razones graves para ello y el tribunal así lo ordene expresamente. Transcurridos cinco días sin que la notificación se efectúe, quedarán sin valor las diligencias practicadas. El juez de familia podrá ampliar este plazo por motivos fundado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En todo lo demás, resultarán aplicables las normas contenidas en los Títulos IV y V del Libro II del Código de Procedimiento Civil.</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anterior, tratándose del procedimiento previsto en el Párrafo primero del Título IV de esta ley, sólo podrán adoptarse las medidas señaladas en el artículo 7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ahoma"/>
              </a:rPr>
              <a:t>PROCEDIMIENTO SOBRE ACTOS D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pletoriedad: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1557360"/>
            <a:ext cx="7086600" cy="34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i="1" lang="es-ES" sz="2400" spc="-1" strike="noStrike" u="sng">
                <a:solidFill>
                  <a:srgbClr val="eaeaea"/>
                </a:solidFill>
                <a:uFillTx/>
                <a:latin typeface="Tahoma"/>
              </a:rPr>
              <a:t>TRAMITACIÓN DE LOS JUICIOS SOBRE VIOLENCIA INTRFAMILIAER DE CONFORMIDAD A: </a:t>
            </a:r>
            <a:br>
              <a:rPr sz="2400"/>
            </a:br>
            <a:r>
              <a:rPr b="1" i="1" lang="es-ES" sz="2400" spc="-1" strike="noStrike" u="sng">
                <a:solidFill>
                  <a:srgbClr val="eaeaea"/>
                </a:solidFill>
                <a:uFillTx/>
                <a:latin typeface="Tahoma"/>
              </a:rPr>
              <a:t>LA LEY DE ACTOS SOBRE VIOLENCIA INTRAFAMILIAR, LEY N°_19.235 </a:t>
            </a:r>
            <a:br>
              <a:rPr sz="2400"/>
            </a:br>
            <a:r>
              <a:rPr b="1" i="1" lang="es-ES" sz="2400" spc="-1" strike="noStrike" u="sng">
                <a:solidFill>
                  <a:srgbClr val="eaeaea"/>
                </a:solidFill>
                <a:uFillTx/>
                <a:latin typeface="Tahoma"/>
              </a:rPr>
              <a:t>Y</a:t>
            </a:r>
            <a:br>
              <a:rPr sz="2400"/>
            </a:br>
            <a:r>
              <a:rPr b="1" i="1" lang="es-ES" sz="2400" spc="-1" strike="noStrike" u="sng">
                <a:solidFill>
                  <a:srgbClr val="eaeaea"/>
                </a:solidFill>
                <a:uFillTx/>
                <a:latin typeface="Tahoma"/>
              </a:rPr>
              <a:t>LA LEY SOBRE TRIBUNALES DE FAMILIA, LEY N°19.968.- </a:t>
            </a:r>
            <a:br>
              <a:rPr sz="2400"/>
            </a:br>
            <a:r>
              <a:rPr b="1" i="1" lang="es-ES" sz="2400" spc="-1" strike="noStrike">
                <a:solidFill>
                  <a:srgbClr val="eaeaea"/>
                </a:solidFill>
                <a:latin typeface="Tahoma"/>
              </a:rPr>
              <a:t>(Diario Oficial 30 de Agosto de 2004)</a:t>
            </a:r>
            <a:endParaRPr b="1" lang="en-US" sz="2400" spc="-1" strike="noStrike">
              <a:solidFill>
                <a:srgbClr val="eaeaea"/>
              </a:solidFill>
              <a:latin typeface="Tahoma"/>
            </a:endParaRPr>
          </a:p>
        </p:txBody>
      </p:sp>
      <p:pic>
        <p:nvPicPr>
          <p:cNvPr id="119" name="" descr=""/>
          <p:cNvPicPr/>
          <p:nvPr/>
        </p:nvPicPr>
        <p:blipFill>
          <a:blip r:embed="rId1"/>
          <a:stretch/>
        </p:blipFill>
        <p:spPr>
          <a:xfrm>
            <a:off x="39600" y="0"/>
            <a:ext cx="787320" cy="1773360"/>
          </a:xfrm>
          <a:prstGeom prst="rect">
            <a:avLst/>
          </a:prstGeom>
          <a:ln w="0">
            <a:noFill/>
          </a:ln>
        </p:spPr>
      </p:pic>
      <p:sp>
        <p:nvSpPr>
          <p:cNvPr id="120"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00000" y="-59760"/>
            <a:ext cx="8064720" cy="7409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rresponderá el </a:t>
            </a:r>
            <a:r>
              <a:rPr b="1" lang="es-CL" sz="2400" spc="-1" strike="noStrike">
                <a:solidFill>
                  <a:srgbClr val="ffffff"/>
                </a:solidFill>
                <a:latin typeface="Tahoma"/>
              </a:rPr>
              <a:t>conocimiento </a:t>
            </a:r>
            <a:r>
              <a:rPr b="0" lang="es-CL" sz="2400" spc="-1" strike="noStrike">
                <a:solidFill>
                  <a:srgbClr val="ffffff"/>
                </a:solidFill>
                <a:latin typeface="Tahoma"/>
              </a:rPr>
              <a:t>de los conflictos a que dé origen la comisión de actos de violencia intrafamiliar, regulados en la ley </a:t>
            </a:r>
            <a:r>
              <a:rPr b="1" lang="es-CL" sz="2400" spc="-1" strike="noStrike">
                <a:solidFill>
                  <a:srgbClr val="ffffff"/>
                </a:solidFill>
                <a:latin typeface="Tahoma"/>
              </a:rPr>
              <a:t>Nº 19.325 (cambiará de Nº)</a:t>
            </a:r>
            <a:r>
              <a:rPr b="0" lang="es-CL" sz="2400" spc="-1" strike="noStrike">
                <a:solidFill>
                  <a:srgbClr val="ffffff"/>
                </a:solidFill>
                <a:latin typeface="Tahoma"/>
              </a:rPr>
              <a:t>, al juzgado de familia </a:t>
            </a:r>
            <a:r>
              <a:rPr b="1" lang="es-CL" sz="2400" spc="-1" strike="noStrike">
                <a:solidFill>
                  <a:srgbClr val="ffffff"/>
                </a:solidFill>
                <a:latin typeface="Tahoma"/>
              </a:rPr>
              <a:t>dentro </a:t>
            </a:r>
            <a:r>
              <a:rPr b="0" lang="es-CL" sz="2400" spc="-1" strike="noStrike">
                <a:solidFill>
                  <a:srgbClr val="ffffff"/>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INICI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2. Inicio del procedimien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3. Actuación de la policí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4. Obligación de denunci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5. Exámenes y reconocimientos médico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6. Contenido de la demand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7. Contenido de la denu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8. Identificación del ofenso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9. Solicitud de extracto de filiación del denunciado o demandad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0. Remisión de antecedentes si el hecho denunciado reviste caracteres de deli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1. Actuaciones judiciales ante demanda o denuncia de tercer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900000" y="457200"/>
            <a:ext cx="82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Hipótesis</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Efect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Derecho del detenid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El detenido será presentado </a:t>
            </a:r>
            <a:r>
              <a:rPr b="1" lang="es-CL" sz="1800" spc="-1" strike="noStrike">
                <a:solidFill>
                  <a:srgbClr val="ffffff"/>
                </a:solidFill>
                <a:latin typeface="Tahoma"/>
                <a:ea typeface="Times New Roman"/>
              </a:rPr>
              <a:t>inmediatamente al tribunal competente</a:t>
            </a:r>
            <a:r>
              <a:rPr b="0" lang="es-CL" sz="1800" spc="-1" strike="noStrike">
                <a:solidFill>
                  <a:srgbClr val="ffffff"/>
                </a:solidFill>
                <a:latin typeface="Tahoma"/>
                <a:ea typeface="Times New Roman"/>
              </a:rPr>
              <a:t>, o al día siguiente si no fuere hora de despacho, </a:t>
            </a:r>
            <a:r>
              <a:rPr b="1" lang="es-CL" sz="1800" spc="-1" strike="noStrike">
                <a:solidFill>
                  <a:srgbClr val="ffffff"/>
                </a:solidFill>
                <a:latin typeface="Tahoma"/>
                <a:ea typeface="Times New Roman"/>
              </a:rPr>
              <a:t>considerándose el parte policial como denuncia</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Si no fuere día hábil, el detenido deberá ser conducido, dentro del plazo máximo de 24 horas, ante el juez de garantía del lugar, </a:t>
            </a:r>
            <a:r>
              <a:rPr b="1" lang="es-CL" sz="1800" spc="-1" strike="noStrike">
                <a:solidFill>
                  <a:srgbClr val="ffffff"/>
                </a:solidFill>
                <a:latin typeface="Tahoma"/>
                <a:ea typeface="Times New Roman"/>
              </a:rPr>
              <a:t>a fin de que éste </a:t>
            </a:r>
            <a:r>
              <a:rPr b="1" lang="es-CL" sz="1800" spc="-1" strike="noStrike" u="sng">
                <a:solidFill>
                  <a:srgbClr val="ffffff"/>
                </a:solidFill>
                <a:uFillTx/>
                <a:latin typeface="Tahoma"/>
                <a:ea typeface="Times New Roman"/>
              </a:rPr>
              <a:t>controle la detención y disponga las medidas cautelares que resulten procedentes</a:t>
            </a:r>
            <a:r>
              <a:rPr b="0" lang="es-CL" sz="1800" spc="-1" strike="noStrike">
                <a:solidFill>
                  <a:srgbClr val="ffffff"/>
                </a:solidFill>
                <a:latin typeface="Tahoma"/>
                <a:ea typeface="Times New Roman"/>
              </a:rPr>
              <a:t>, de conformidad con lo dispuesto en el </a:t>
            </a:r>
            <a:r>
              <a:rPr b="1" lang="es-CL" sz="1800" spc="-1" strike="noStrike">
                <a:solidFill>
                  <a:srgbClr val="ffffff"/>
                </a:solidFill>
                <a:latin typeface="Tahoma"/>
                <a:ea typeface="Times New Roman"/>
              </a:rPr>
              <a:t>artículo 92</a:t>
            </a:r>
            <a:r>
              <a:rPr b="0" lang="es-CL" sz="1800" spc="-1" strike="noStrike">
                <a:solidFill>
                  <a:srgbClr val="ffffff"/>
                </a:solidFill>
                <a:latin typeface="Tahoma"/>
                <a:ea typeface="Times New Roman"/>
              </a:rPr>
              <a:t> de esta ley.</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971640" y="2287440"/>
            <a:ext cx="8172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Obligación de denunci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71640" y="2911320"/>
            <a:ext cx="8172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Remisión de antecedentes si el hecho denunciado reviste caracteres de delito</a:t>
            </a:r>
            <a:r>
              <a:rPr b="0"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62064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Prohibir o restringir la presencia del ofensor en el hogar común, lugar de estudios o de trabajo de la víctim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620640"/>
            <a:ext cx="7543800" cy="12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eaeaea"/>
                </a:solidFill>
                <a:latin typeface="Tahoma"/>
              </a:rPr>
              <a:t>MERA REFERENCIA A LOS CAPITULOS DE LA LEY:</a:t>
            </a:r>
            <a:br>
              <a:rPr sz="3200"/>
            </a:br>
            <a:endParaRPr b="1" lang="en-US" sz="32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organización de los tribun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competencia;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l procedimiento;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os procedimientos especi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mediación;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s plantas del personal; y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Disposiciones varias; más un capítulo de normas transitori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826920" y="692280"/>
            <a:ext cx="6858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eaeaea"/>
                </a:solidFill>
                <a:uFillTx/>
                <a:latin typeface="Tahoma"/>
              </a:rPr>
              <a:t>PLAZO DE DURACION DE LAS MEDIDAS CAUTELARES</a:t>
            </a:r>
            <a:endParaRPr b="1" lang="en-US" sz="32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Tahoma"/>
              </a:rPr>
              <a:t>:</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1042920" y="2317680"/>
            <a:ext cx="792180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rtículo 71</a:t>
            </a:r>
            <a:r>
              <a:rPr b="0" lang="es-CL" sz="2400" spc="-1" strike="noStrike">
                <a:solidFill>
                  <a:srgbClr val="ffffff"/>
                </a:solidFill>
                <a:latin typeface="Tahoma"/>
              </a:rPr>
              <a:t>.- </a:t>
            </a:r>
            <a:r>
              <a:rPr b="1" lang="es-CL" sz="2400" spc="-1" strike="noStrike">
                <a:solidFill>
                  <a:srgbClr val="ffffff"/>
                </a:solidFill>
                <a:latin typeface="Tahoma"/>
              </a:rPr>
              <a:t>MEDIDAS CAUTELARES ESPECIALES.</a:t>
            </a:r>
            <a:r>
              <a:rPr b="0" lang="es-CL" sz="2400" spc="-1" strike="noStrike">
                <a:solidFill>
                  <a:srgbClr val="ffffff"/>
                </a:solidFill>
                <a:latin typeface="Tahoma"/>
              </a:rPr>
              <a:t> </a:t>
            </a: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DESARROLLO DEL PROCEDIMIENTO</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ahoma"/>
              </a:rPr>
              <a:t>CITACIÓN A AUDIENCIA PREPARATORIA</a:t>
            </a:r>
            <a:r>
              <a:rPr b="1" lang="es-CL" sz="2800" spc="-1" strike="noStrike">
                <a:solidFill>
                  <a:srgbClr val="eaeaea"/>
                </a:solidFill>
                <a:latin typeface="Tahoma"/>
              </a:rPr>
              <a:t>.</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ff"/>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1042920" y="1442520"/>
            <a:ext cx="810108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ahoma"/>
              </a:rPr>
              <a:t>SUSPENSIÓN CONDICIONAL DE LA DICTACIÓN DE LA SENTENCI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ahoma"/>
              </a:rPr>
              <a:t>Hipótesis</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826920" y="98100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Requisitos</a:t>
            </a:r>
            <a:r>
              <a:rPr b="0" lang="es-CL" sz="3200" spc="-1" strike="noStrike">
                <a:solidFill>
                  <a:srgbClr val="ffffff"/>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187280" y="1700280"/>
            <a:ext cx="63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DEL PROCESO</a:t>
            </a:r>
            <a:r>
              <a:rPr b="0" lang="es-CL"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3200" spc="-1" strike="noStrike">
                <a:solidFill>
                  <a:srgbClr val="eaeaea"/>
                </a:solidFill>
                <a:latin typeface="Tahoma"/>
              </a:rPr>
              <a:t>La ley </a:t>
            </a:r>
            <a:r>
              <a:rPr b="1" lang="es-ES" sz="3200" spc="-1" strike="noStrike">
                <a:solidFill>
                  <a:srgbClr val="eaeaea"/>
                </a:solidFill>
                <a:latin typeface="Tahoma"/>
              </a:rPr>
              <a:t>rige desde el 1 de </a:t>
            </a:r>
            <a:r>
              <a:rPr b="1" lang="es-ES_tradnl" sz="3200" spc="-1" strike="noStrike">
                <a:solidFill>
                  <a:srgbClr val="eaeaea"/>
                </a:solidFill>
                <a:latin typeface="Tahoma"/>
              </a:rPr>
              <a:t>octubre </a:t>
            </a:r>
            <a:r>
              <a:rPr b="1" lang="es-ES" sz="3200" spc="-1" strike="noStrike">
                <a:solidFill>
                  <a:srgbClr val="eaeaea"/>
                </a:solidFill>
                <a:latin typeface="Tahoma"/>
              </a:rPr>
              <a:t>del 200</a:t>
            </a:r>
            <a:r>
              <a:rPr b="1" lang="es-ES_tradnl" sz="3200" spc="-1" strike="noStrike">
                <a:solidFill>
                  <a:srgbClr val="eaeaea"/>
                </a:solidFill>
                <a:latin typeface="Tahoma"/>
              </a:rPr>
              <a:t>5</a:t>
            </a:r>
            <a:r>
              <a:rPr b="1" lang="es-ES" sz="4000" spc="-1" strike="noStrike">
                <a:solidFill>
                  <a:srgbClr val="eaeaea"/>
                </a:solidFill>
                <a:latin typeface="Tahoma"/>
              </a:rPr>
              <a:t>.</a:t>
            </a:r>
            <a:br>
              <a:rPr sz="4000"/>
            </a:br>
            <a:endParaRPr b="1" lang="en-US" sz="40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abría </a:t>
            </a:r>
            <a:r>
              <a:rPr b="1" lang="es-ES" sz="3200" spc="-1" strike="noStrike">
                <a:solidFill>
                  <a:srgbClr val="ffffff"/>
                </a:solidFill>
                <a:latin typeface="Tahoma"/>
              </a:rPr>
              <a:t>recurso de inaplicabilidad por inconstitucionalidad </a:t>
            </a:r>
            <a:r>
              <a:rPr b="0" lang="es-ES" sz="3200" spc="-1" strike="noStrike">
                <a:solidFill>
                  <a:srgbClr val="ffffff"/>
                </a:solidFill>
                <a:latin typeface="Tahoma"/>
              </a:rPr>
              <a:t>porque la ley (100%) no fue objeto de control por parte del Tribunal Constitucional (Basta con leer la parte final de la ley) </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secuencia.</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que imagin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LEY DE VIOLENCIA INTRAFAMILIAR </a:t>
            </a:r>
            <a:br>
              <a:rPr sz="4000"/>
            </a:br>
            <a:r>
              <a:rPr b="1" lang="es-ES" sz="4000" spc="-1" strike="noStrike">
                <a:solidFill>
                  <a:srgbClr val="eaeaea"/>
                </a:solidFill>
                <a:latin typeface="Tahoma"/>
              </a:rPr>
              <a:t>(aun no publicada)</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eaeaea"/>
                </a:solidFill>
                <a:uFillTx/>
                <a:latin typeface="Tahoma"/>
              </a:rPr>
              <a:t>REGLAMENTACIÓN VIGENTE</a:t>
            </a:r>
            <a:r>
              <a:rPr b="1" lang="es-ES_tradnl" sz="4400" spc="-1" strike="noStrike">
                <a:solidFill>
                  <a:srgbClr val="eaeaea"/>
                </a:solidFill>
                <a:latin typeface="Tahoma"/>
              </a:rPr>
              <a:t>:</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Ley 19.325</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Decreto Supremo Nº 1415 de 17  de Octubre de 1994 del Ministerio de Justicia, Reglament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artículo 1º de la Ley 19.325</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odo maltrato que afecte la salud física o psíquica de quien, aun siendo mayor de edad, tenga respecto del ofensor la calidad de ascendiente, cónyuge o conviviente o, siendo menor de edad o discapacitado, tenga a su respecto la calidad de descendiente, adoptado, pupilo, colateral consanguíneo  hasta el cuarto grado inclusive, o esté bajo el cuidado o dependencia de cualquiera de los integrantes del grupo familiar que viva bajo un mismo tech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s elemento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Elemento obje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 Elemento subje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 Elemento obje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conduct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L? maltrato que afecte  la salud física o psíquica de alguna de las personas respecto de quien concurra alguno de los vínculos que establece la ley.</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No delit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cia con el ofensor el vínculo que establece la l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 Víctima de cualquier ed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scendi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ónyug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nviv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b.- Víctima menor de edad o discapaci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Descendient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dop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upil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lateral consanguíneo hasta el cuarto grado inclusiv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Esté bajo el. cuidado o dependencia de cualquiera de los integrantes del grupo familiar que viva bajo un mismo t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aea"/>
                </a:solidFill>
                <a:latin typeface="Tahoma"/>
              </a:rPr>
              <a:t>Competencia</a:t>
            </a:r>
            <a:br>
              <a:rPr sz="4400"/>
            </a:b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NALISIS DE LO QUE SIGNIFICARA UN JUICIO UNIVERS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LA ACUMULACIÓN NECES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Tahoma"/>
              </a:rPr>
              <a:t>En relación  a la materia de esta sesión:</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CONFLICTO DE FAMILIA ES UN TOD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ORDENACIÓN SEGÚN EL CONFLICTO EN UNA FAMILI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IN PERJUICIO DE:</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icina </cp:lastModifiedBy>
  <dcterms:modified xsi:type="dcterms:W3CDTF">2005-10-04T03:16:46Z</dcterms:modified>
  <cp:revision>207</cp:revision>
  <dc:subject/>
  <dc:title>MECESUP PROJECT</dc:title>
</cp:coreProperties>
</file>