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3E4-739D-456D-A1AC-79982D2F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D45-1C60-42BC-A417-704A2036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798-CC0C-40AE-94FD-FFEA1A57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299-E8A0-429B-938E-27FEA1BC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E818-4388-4387-A5B5-BBBFFE95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6069-239E-4802-A5D3-B4388CEF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CEB6-DDDD-4780-A48A-F0E1972F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9F5D-F77E-470A-8EFE-A1CEAC63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24DA-C8C8-4BD8-AE66-7A359BEA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A3E8-82DD-4EC5-B31D-BE29B3E3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C6CE-F148-4A35-86FD-7EE9F1BF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E1A3-3198-47E9-BC6C-3B3DB768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3A40-9235-4A6D-A4FA-E71CDDB7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6BA1-667C-4D45-AE36-8DEB2FCD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C523-E000-4D28-B857-AAE18E92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CCDB-A9EA-4FE3-8112-4B81C9ED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0DCC-AD62-4DD4-AA0E-85711EBE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CA5-8B4A-4F25-B9BF-594CA4A7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B67-D440-4134-A118-DD7EC7E8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444-925F-48BE-85A9-65BB3DD6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9B6-9BD3-4C48-B4E9-88CCD55E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F00-18BE-4D99-B4EE-1BA47881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466-D2C9-4BBB-B6C3-59DBD826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F01-A661-43DA-9A5A-B0DC675B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616F-30B3-4AED-AC23-7ADF0FE1011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4345-02B8-4957-A3ED-2FDC3DA34A9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5544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476892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ff"/>
                </a:solidFill>
                <a:latin typeface="Monotype Corsiva"/>
              </a:rPr>
              <a:t>René Luis Núñez Áv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139920"/>
            <a:ext cx="2819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Monotype Corsiva"/>
              </a:rPr>
              <a:t>Tribunales de Famil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Aplicable a la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Región Metropolitana de Santia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iez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iez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iez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11)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oce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doce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c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el primero, el segundo y el tercero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on 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y el cuarto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on doce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0"/>
            <a:ext cx="792504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REACIÓN DE NUEVOS JUZG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REGIÓN METROPOLITANA DE SANTIA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COMITÉ DE JUE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95280" y="259092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los juzgados de garantía en los que sirvan tres o más jueces y en cada tribunal de jui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oral en lo penal, habrá un comité de juec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763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Norma del Código Procesal Penal aplicable en materia de Tribunales de Famil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FUNCIONES DEL COMITÉ DE JUE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14040" y="6854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a)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Aprobar el procedimiento objetivo y general a que se refieren los artículos 15 y 17, en su caso;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) Calificar anualmente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) Resolver acerca de la remoción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) Designar al personal del juzgado o tribunal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Juez presiden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218960" y="25146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Al juez presidente del comité de jueces le corresponderá velar por el adecuado funcionamiento del juzgado o tribuna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76197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El Juez Presidente tendrá los</a:t>
            </a:r>
            <a:br>
              <a:rPr sz="4000"/>
            </a:b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siguientes deberes y atribuciones: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76320"/>
            <a:ext cx="7925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a)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) Relacionarse con la Corporación Administrativa del Poder Judicial en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odas las materias relativas a la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mpetencia de ésta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c) Proponer al comité de jueces el procedimiento objetivo y general a que se refieren los artículos 15 y 17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) 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j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ff"/>
                </a:solidFill>
                <a:uFillTx/>
                <a:latin typeface="Tahoma"/>
              </a:rPr>
              <a:t>ESTRUCTURA ORGÁNICA DE LOS TRIBUNALES DE FAMI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5400" spc="-1" strike="noStrike">
                <a:solidFill>
                  <a:srgbClr val="ffff00"/>
                </a:solidFill>
                <a:latin typeface="Tahoma"/>
              </a:rPr>
              <a:t>Consejo Técnic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94920" y="27428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6858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ahoma"/>
              </a:rPr>
              <a:t>FINALIDAD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90360" y="16761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 un organismo auxiliar de la administración de justi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193680"/>
            <a:ext cx="7162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Consejo Técnico y el tratamiento multidisciplinario del conflicto famil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4191120"/>
            <a:ext cx="815328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Asesorar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individual o colectivamente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468760"/>
            <a:ext cx="800100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cada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</a:t>
            </a: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es 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especializados en asuntos de familia e inf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artículo 7 de la Ley Nº 19.968 exige poseer título profesional de una carrera que tenga al menos ocho semestres de duración, otorgado por alguna universidad o instituto profesional del Estado o reconocido por éste, debiendo además acreditarse experiencia profesional y formación especializada en materia de familia e infancia de, al menos, dos semestres de duración, impartida por alguna de las instituciones antes señal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98600"/>
            <a:ext cx="76964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REQUISITOS PARA SER MIEMBRO DEL CONSEJO TÉC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Asistir a las audiencias de juicio a que sean citados con el objetivo de emitir las opiniones técnicas que le sean solicitadas (artículo 5 letra b) de la Ley Nº 19.968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Evaluar la pertinencia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de derivar a mediación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o aconsejar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conciliación entre las partes, y sugerir los términos en que esta última pudiere llevarse a cabo (artículo 5 letra c) de la Ley Nº 19.968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Asesorar al juez para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la adecuada comparecencia y declaración del niño, niña o adolescente (artículo 5 letra b) de la Ley Nº 19.968);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para la procedencia o no de la suspensión condicional de la dictación de la sentencia en materia de violencia intrafamiliar (artículo 96 de la Ley Nº 19.968); para decidir si pone término al proceso de violencia intrafamiliar por requerimiento de la víctima, cuando quien denunció fue un tercero (artículo 100 de la Ley Nº 19.968); para evaluar idoneidad de informes periciales en la audiencia de juicio tratándose de un procedimiento de protección (artículo 73 de la Ley Nº 19.968); para ponderar informes sobre cumplimiento de medidas de protección (artículo 76 de la Ley Nº 19.968), o para cualquier otra materia relacionada con su especialidad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(artículo 5 letra d) de la Ley Nº 19.968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6094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Tahoma"/>
              </a:rPr>
              <a:t>Funcione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un miembro del Consejo Técnico no pudiere intervenir en una determinada causa, o se imposibilitare para el ejercicio de su cargo, será subrogado por los demás miembros del Consejo Técnico del tribunal a que perteneciere, según el orden de sus nombramientos y la especialidad requer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todos los miembros del consejo técnico de un tribunal estuvieren afectados por una implicancia o recusación, el juez designará un profesional que cumpla con los requisitos para integrar un Consejo Técnico de cualquier servicio público, el que estará obligado a desempeñar el car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808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Normas de implicancia o recusa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ahoma"/>
              </a:rPr>
              <a:t>Administra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 elimina el cargo de secretario del tribu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3808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mbio Trascendental en la Reforma de los Tribunales de Fam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949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En cada tribunal de familia habrá un administrador, auxiliar de la administración de justicia </a:t>
            </a:r>
            <a:r>
              <a:rPr b="1" i="1" lang="es-MX" sz="2800" spc="-1" strike="noStrike">
                <a:solidFill>
                  <a:srgbClr val="ffff00"/>
                </a:solidFill>
                <a:latin typeface="Tahoma"/>
              </a:rPr>
              <a:t>encargado de organizar y controlar la gestión administrativa y financiera del tribunal</a:t>
            </a:r>
            <a:r>
              <a:rPr b="0" i="1" lang="es-MX" sz="2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 de acuerdo a las reglas contempladas en el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árrafo 4 bis de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Los administradores de tribunales con </a:t>
            </a:r>
            <a:r>
              <a:rPr b="1" i="1" lang="es-ES" sz="2800" spc="-1" strike="noStrike" u="sng">
                <a:solidFill>
                  <a:srgbClr val="ffff00"/>
                </a:solidFill>
                <a:uFillTx/>
                <a:latin typeface="Tahoma"/>
              </a:rPr>
              <a:t>competencia en lo criminal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”,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del Título XI del Código Orgánico de Tribun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66996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El Administrador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21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295280" y="33336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La estructura orgánica de los nuevos Juzgados de Familia 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Requisitos </a:t>
            </a: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ara el cargo de Administrador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tículo 389 C del Código Orgánico de Tribu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oseer un título profesional relacionado con las áreas de administración y gest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torgado por una universidad o por un instituto profesional, de una carrera de ocho semestres de duración a lo men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Funcion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Dirigir las labores administrativas propias del funcionamiento del tribunal, bajo la supervisión del juez presidente del comité de juece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poner al comité de jueces la designación de los jefes de unidades y de los empleados del tribu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poner al juez presidente la distribución del perso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valuar al personal a su carg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distribuir las causas a los jueces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mover a los jefes de unidades y al personal de empleados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Llevar la contabilidad y administrar la cuenta corriente del tribunal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ar cuenta al juez presidente acerca de la gestión administrativa del tribu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aborar el presupuesto anu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dquirir y abastecer de materiales de trabajo al tribunal; y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Ejercer la demás tareas que le hayan sido asignadas por el comité de jueces, el juez presidente o que determinen las leye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berá sujetarse a las políticas generales de selección de personal, de evaluación, de administración de recursos materiales y de personal, de diseño y análisis de la información estadística y demás que dicte el Consejo de la Corporación Administrativa del Poder Judici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5335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El Administrad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43000" y="30477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ahoma"/>
              </a:rPr>
              <a:t>EMPLEADOS DE SECRETARÍ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os Tribunales de Familia contarán con una planta de 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 organizarán en unidades administrativas para el cumplimiento eficaz y eficiente de las siguientes funciones, conforme lo dispone el artículo 2 de la Ley Nº 19.968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SALAS Y FUNCIONES: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1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Sala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que consistirá en la organización y asistencia a la realización de las audienc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2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Atención de público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3º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Servicios</a:t>
            </a:r>
            <a:r>
              <a:rPr b="1" i="1" lang="es-CL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4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Administración de causa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TITULO V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DISPOSICIONES VA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án aplicables a las causas de competencia de los juzgados de familia que sean conocidas por los juzgados de letras, los procedimientos establecidos en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Títulos III, IV y V de esta ley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réase un cargo de miembro de consejo técnico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ribunales formarán parte del Poder Judi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endrán la estructura, organización y competencia que la ley estable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457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Características de los tribun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abrá juzgados unipersonales de composición múlti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gnifica: Juzgados compuestos por un número variable de jue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da uno de los cuales detentará la plenitud jurisdiccional en forma independ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número de jueces será var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determinará de acuerdo a la carga de trabajo estimada para cada jurisdi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457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Características de los tribun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rtículo 118 de la Ley Nº 19.968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Tahoma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Tahoma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4. Organización administrativa de los juzg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En lo relativo a la subrogación de los jueces de familia, se aplicarán las normas de los juzgados de garant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4572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un juez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os juec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tres juec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tr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cuatro administrativos 1º, dos administrativos 2º, un administrativo 3º y un auxiliar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0"/>
            <a:ext cx="792504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Titulo V</a:t>
            </a:r>
            <a:r>
              <a:rPr b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I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Planta De Pers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cuatr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uatro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uatr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cinc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inco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inco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seis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is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ei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0"/>
            <a:ext cx="792504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0663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7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siete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ete jueces, un administrador, siete miembros del consejo técnico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och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ocho jueces, un administrador, ocho miembros del consejo técnico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nueve jueces: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ueve jueces, un administrador, nueve miembros del consejo técnico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28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05-08-15T14:08:04Z</dcterms:modified>
  <cp:revision>220</cp:revision>
  <dc:subject/>
  <dc:title>MECESUP PROJECT</dc:title>
</cp:coreProperties>
</file>