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9C9-3D8A-4AA5-9268-2C762388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BE6-339F-4356-9E24-3E06D1FC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5D0-20E4-4F49-9595-C7CFCE75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FFA-AC45-408D-B839-653D96D6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4592-29DA-4D6A-A371-02E7450F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8925-104B-4715-A1CD-3197CB28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AFF-BDBD-4474-89C1-7785D7D2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B2E-E2A4-4F28-9CD6-22B61DA3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7D0-6497-47A6-932F-5ADDCAC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4ACA-BF7B-41A7-B102-F7E83E2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D676-C315-49E6-9DF5-31CCAF3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642-C7B2-44B0-B5E2-3D9C7879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F2C-8695-485A-967C-9D28916E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1AA-B3F8-4AC4-98F4-7F88753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871-C66A-43EF-BA64-B540DB3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267-77B9-48A3-B87E-E9777DDE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DC0-8452-43C1-B7DD-614D494C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06C-4757-4A7B-A461-431F5E5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2C3-31C6-4073-A691-05D0697E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3B9-DE65-42FB-B1CE-D147106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868-9709-446F-A319-B174E3E8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5A4-416C-4FD1-8390-1A62DB2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A90-8F40-4E80-9559-8BFF433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2BE-DD49-4E84-A17B-78B598C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015-29D1-4604-9DED-5DE557DF67D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BE2-213A-4172-A1D5-9702601557C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5544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76892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Monotype Corsiva"/>
              </a:rPr>
              <a:t>René Luis Núñez Á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13992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Monotype Corsiva"/>
              </a:rPr>
              <a:t>Tribunales de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ble a la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iez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iez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11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c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doce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el primero, el segundo y el tercer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y el cuarto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on 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0"/>
            <a:ext cx="792504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NUEVOS JUZG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REGIÓN METROPOLITANA DE SANTI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5280" y="259092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los juzgados de garantía en los que sirvan tres o más jueces y en cada tribunal de jui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oral en lo penal, habrá un comité de jue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76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Norma del Código Procesal Penal aplicable en materia de Tribunales de Fami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FUNCIONES DEL COMITÉ DE JUE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0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Aprobar el procedimiento objetivo y general a que se refieren los artículos 15 y 17, en su caso;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) Calificar anualmente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Resolver acerca de la remoción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Designar al personal del juzgado o tribunal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Juez presid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l juez presidente del comité de jueces le corresponderá velar por el adecuado funcionamiento del juzgado o tribuna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El Juez Presidente tendrá los</a:t>
            </a:r>
            <a:br>
              <a:rPr sz="4000"/>
            </a:b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siguientes deberes y atribuciones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76320"/>
            <a:ext cx="7925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) Relacionarse con la Corporación Administrativa del Poder Judicial e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das las materias relativas a l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 de ésta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c) Proponer al comité de jueces el procedimiento objetivo y general a que se refieren los artículos 15 y 17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) 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j</a:t>
            </a: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2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ffffff"/>
                </a:solidFill>
                <a:uFillTx/>
                <a:latin typeface="Tahoma"/>
              </a:rPr>
              <a:t>ESTRUCTURA ORGÁNICA DE LOS TRIBUNALES DE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5400" spc="-1" strike="noStrike">
                <a:solidFill>
                  <a:srgbClr val="ffff00"/>
                </a:solidFill>
                <a:latin typeface="Tahoma"/>
              </a:rPr>
              <a:t>Consejo Técnic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94920" y="2742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858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FINALIDA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19368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Consejo Técnico y el tratamiento multidisciplinario del conflicto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191120"/>
            <a:ext cx="81532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Asesorar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individual o colectivamente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468760"/>
            <a:ext cx="800100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3600" spc="-1" strike="noStrike">
                <a:solidFill>
                  <a:srgbClr val="ffff00"/>
                </a:solidFill>
                <a:latin typeface="Tahoma"/>
              </a:rPr>
              <a:t>cada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</a:t>
            </a: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es </a:t>
            </a: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especializados en asuntos de familia e inf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rtículo 7 de la Ley Nº 19.968 exige poseer título profesional de una carrera que tenga al menos ocho semestres de duración, otorgado por alguna universidad o instituto profesional del Estado o reconocido por éste, debiendo además acreditarse experiencia profesional y formación especializada en materia de familia e infancia de, al menos, dos semestres de duración, impartida por alguna de las instituciones antes señal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8600"/>
            <a:ext cx="76964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REQUISITOS PARA SER MIEMBRO DEL CONSEJO TÉC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istir a las audiencias de juicio a que sean citados con el objetivo de emitir las opiniones técnicas que le sean solicitadas (artículo 5 letra b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valuar la pertinenci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de derivar a mediación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o aconsejar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ciliación entre las partes, y sugerir los términos en que esta última pudiere llevarse a cabo (artículo 5 letra c) de la Ley Nº 19.968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Asesorar al juez para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la adecuada comparecencia y declaración del niño, niña o adolescente (artículo 5 letra b) de la Ley Nº 19.968);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para la procedencia o no de la suspensión condicional de la dictación de la sentencia en materia de violencia intrafamiliar (artículo 96 de la Ley Nº 19.968); para decidir si pone término al proceso de violencia intrafamiliar por requerimiento de la víctima, cuando quien denunció fue un tercero (artículo 100 de la Ley Nº 19.968); para evaluar idoneidad de informes periciales en la audiencia de juicio tratándose de un procedimiento de protección (artículo 73 de la Ley Nº 19.968); para ponderar informes sobre cumplimiento de medidas de protección (artículo 76 de la Ley Nº 19.968), o para cualquier otra materia relacionada con su especialidad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artículo 5 letra d) de la Ley Nº 19.96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6094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Tahoma"/>
              </a:rPr>
              <a:t>Fun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un miembro del Consejo Técnico no pudiere intervenir en una determinada causa, o se imposibilitare para el ejercicio de su cargo, será subrogado por los demás miembros del Consejo Técnico del tribunal a que perteneciere, según el orden de sus nombramientos y la especialidad reque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todos los miembros del consejo técnico de un tribunal estuvieren afectados por una implicancia o recusación, el juez designará un profesional que cumpla con los requisitos para integrar un Consejo Técnico de cualquier servicio público, el que estará obligado a desempeñar el car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808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Tahoma"/>
              </a:rPr>
              <a:t>Normas de implicancia o recus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ahoma"/>
              </a:rPr>
              <a:t>Administra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 elimina el cargo de secretario del tribu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80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mbio Trascendental en la Reforma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En cada tribunal de familia habrá un administrador, auxiliar de la administración de justicia </a:t>
            </a:r>
            <a:r>
              <a:rPr b="1" i="1" lang="es-MX" sz="2800" spc="-1" strike="noStrike">
                <a:solidFill>
                  <a:srgbClr val="ffff00"/>
                </a:solidFill>
                <a:latin typeface="Tahoma"/>
              </a:rPr>
              <a:t>encargado de organizar y controlar la gestión administrativa y financiera del tribunal</a:t>
            </a:r>
            <a:r>
              <a:rPr b="0" i="1" lang="es-MX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 de acuerdo a las reglas contempladas en 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párrafo 4 bis de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Los administradores de tribunales con </a:t>
            </a:r>
            <a:r>
              <a:rPr b="1" i="1" lang="es-ES" sz="2800" spc="-1" strike="noStrike" u="sng">
                <a:solidFill>
                  <a:srgbClr val="ffff00"/>
                </a:solidFill>
                <a:uFillTx/>
                <a:latin typeface="Tahoma"/>
              </a:rPr>
              <a:t>competencia en lo criminal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”,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del Título XI del Código Orgánico de Tribu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6699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21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95280" y="33336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a estructura orgánica de los nuevos Juzgados de Familia 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Requisitos </a:t>
            </a: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ara el cargo de Administrad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tículo 389 C del Código Orgánico de Tribu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eer un título profesional relacionado con las áreas de 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orgado por una universidad o por un instituto profesional, de una carrera de ocho semestres de duración a lo me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ahoma"/>
              </a:rPr>
              <a:t>Fun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Dirigir las labores administrativas propias del funcionamiento del tribunal, bajo la supervisión del juez presidente del comité de juec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comité de jueces la designación de los jefes de unidades y de los empleados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poner al juez presidente la distribución del perso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valuar al personal a su carg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distribuir las causas a los juec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mover a los jefes de unidades y al personal de empleado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Llevar la contabilidad y administrar la cuenta corriente del tribunal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ar cuenta al juez presidente acerca de la gestión administrativa del tribun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aborar el presupuesto anual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dquirir y abastecer de materiales de trabajo al tribunal; y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Ejercer la demás tareas que le hayan sido asignadas por el comité de jueces, el juez presidente o que determinen las leye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berá sujetarse a las políticas generales de selección de personal, de evaluación, de administración de recursos materiales y de personal, de diseño y análisis de la información estadística y demás que dicte el Consejo de la Corporación Administrativa del Poder Judic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5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El Administr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3000" y="30477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EMPLEADOS DE SECRETARÍ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Tribunales de Familia contarán con una planta de 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rganizarán en unidades administrativas para el cumplimiento eficaz y eficiente de las siguientes funciones, conforme lo dispone el artículo 2 de la Ley Nº 19.968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SALAS Y FUNCIONES: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1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ala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consistirá en la organización y asistencia 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2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tención de público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3º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Servicios</a:t>
            </a:r>
            <a:r>
              <a:rPr b="1" i="1" lang="es-CL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4º </a:t>
            </a:r>
            <a:r>
              <a:rPr b="1" i="1" lang="es-CL" sz="1800" spc="-1" strike="noStrike">
                <a:solidFill>
                  <a:srgbClr val="ffff00"/>
                </a:solidFill>
                <a:latin typeface="Tahoma"/>
              </a:rPr>
              <a:t>Administración de causas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ISPOSICIONES V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án aplicables a las causas de competencia de los juzgados de familia que sean conocidas por los juzgados de letras, los procedimientos establecidos en los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ítulos III, IV y V de esta ley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réase un cargo de miembro de consejo técnico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formarán parte del Poder Jud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drán la estructura, organización y competencia que la ley estable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abrá juzgados unipersonales de composición múlt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gnifica: Juzgados compuestos por un número variable de ju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da uno de los cuales detentará la plenitud jurisdiccional en forma independ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número de jueces será var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determinará de acuerdo a la carga de trabajo estimada para cada jurisdi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457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ahoma"/>
              </a:rPr>
              <a:t>Características de los tribun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rtículo 118 de la Ley Nº 19.96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Tahoma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4. Organización administrativa de los juzg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n lo relativo a la subrogación de los jueces de familia, se aplicarán las normas de los juzgados de garant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Tahoma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un juez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do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o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tres juec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re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uatro administrativos 1º, dos administrativos 2º, un administrativo 3º y un auxiliar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0"/>
            <a:ext cx="79250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Titulo V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lanta De Pers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uatr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uatr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uatr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cinc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inco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cinc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eis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is jueces, un administrador,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ei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7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siete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ete jueces, un administrador, siete miembros del consejo técnico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ocho jueces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ocho jueces, un administrador, ocho miembros del consejo técnico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Juzgados con nueve jueces: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eve jueces, un administrador, nueve miembros del consejo técnico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28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rtículo 115.- Composición de la planta de los juzgados de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famil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5-08-15T14:08:04Z</dcterms:modified>
  <cp:revision>220</cp:revision>
  <dc:subject/>
  <dc:title>MECESUP PROJECT</dc:title>
</cp:coreProperties>
</file>