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010-ACD2-4A41-828D-8A4A249C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CDB-101F-4362-A137-861424FA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75E-6990-4951-82E7-2E7A24C4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C19-1983-4564-A3FA-509B6B8A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7A6E-177D-497D-A5CE-C6583110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5946-2470-4E1A-BA01-C3AB21D2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4AF6-6E6A-4635-BD0A-AE1D7577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99E4-B76F-4BDF-B214-7C0257DD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5A5C-1841-4339-BC92-382B8867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0CB8-0479-41A2-B80B-30B02D16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4C45-A4AD-4B19-903D-3178E8F3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AB5-DC5A-4C8A-8BEA-8FD09431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E8B1-924F-438B-95B3-E0C03C86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F312-20A2-44AC-B2C2-9F3DAC34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58DD-14B8-4664-B809-964B496C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5836-8F9D-4BED-B964-CF7BF3C8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9EEC-298A-448E-A1B4-F8DD1593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BCC-22C2-4F03-BE6C-6B6430AB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C7B-3FA4-42ED-AC88-687E7C2B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885-8646-44BC-A630-3C9681A1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2B1-FE17-44A5-BB9B-166601C6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D71-957B-49DB-902E-E6D67D29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ECA-0631-4146-BF82-22589DF2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45A-A905-4570-B69F-14CF5719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9512-769D-409B-9F21-CAAB0A1EE09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A59F-46BA-4E5D-A08C-6AC2FD7C001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3.-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 pena total o parcial cumplida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en el extranjero se computará a la que pudiere imponerse en Chile si fueren de igual naturaleza o se atenuará la pena. (Art. 3 inc. 3 CPP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4.- La Sentencia penal extranjera vale en Chile para determinar la calidad de reincidente o de delincuente habitual.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B. La sentencia penal extranjera absolutoria respecto de delitos cometidos en Chile, en el extranjero, o en los demás lugares sometidos a la jurisdicción chilena no produce el efecto de cosa juzgada para impedir el juzgamiento de ese delito por los tribunales chilen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n el NCPP (Art. 13 NCP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- Tienen valor en Chile las sentencias penales extranjeras tanto condenatorias como absolutori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- Excepcionalmente, una persona juzgada en el extranjero puede ser nuevamente juzgada en Chile, en los siguientes caso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2.1.- Si el juzgamiento en el extranjero hubiere obedecido al propósito de sustraer al individuo de su responsabilidad penal por delitos de competencia de los tribunales nacionales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2.2.- Cuando el imputado lo solicitare expresamente si el proceso respectivo no hubiere sido instruido con las garantías de un debido proceso o lo hubiere sido en términos que revelaren falta de intención de juzgarle seriament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En estos casos, la pena que se hubiere cumplido en el extranjero se computará en Chile si fuere condenado también en Chil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- La ejecución de las sentencias penales extranjeras se sujetará a los tratados internacionales ratificados por Chile y que se encuentren vigen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5. La Sentencia Eclesiástica: No es un equivalente jurisdiccional, ya que la jurisdicción sólo se ejerce en el orden tempo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Concepto: todo acto que sin haber emanado de la jurisdicción de los tribunales resuelve un conflicto jurídico con efectos equivalentes a los que produce una sentencia emanada de un órgano jurisdiccional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1. La Transacción: Art. 2460 C. Civil produce el efecto de cosa juzgada en última instancia y puede oponerse por vía de excepción de cosa juzgad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Produce la  acción de cosa juzgada en la medida que se celebre por escritura públic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2. La Conciliación: el acta de Conciliación se estima como una sentencia ejecutoriada para todos los efectos legales. Art. 267 CPC y produce el efecto de cosa juzgada. Es título ejecutivo Art. 434 N 1 CPC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 El Avenimiento: pone término al proceso y produce el efecto de cosa juzg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 título ejecutivo el acta de avenimiento pasada ante tribunal competente y autorizada por un ministro de fe o por dos testigos de actuación. Art. 434 N 3 CP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4. La Sentencia Extranjera: No es propiamente un equivalente jurisdiccional, ya que es una sentencia, sólo que de un tribunal extranjer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Para que una sentencia extranjera produzca efecto en Chile se requiere que se cumpla el trámite del Exequatu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l Exequatur es un trámite que se efectúa ante la Corte Suprema la que atenderá a los siguientes elementos para determinar si aplicar o no en Chile una sentencia extranjera (Arts 242, 243, 244 y 245 CPC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- Los Tratados Internacion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-  Reciprocidad Interna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- Principios de regularidad internacion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Aceptada la eficacia de una Sentencia Extranjera en Chile produce el efecto de cosa juzgada, pudiendo exigirse su cumplimiento al tribunal a quien  habría correspondido conocer del negocio en primera o única instancia, si el juicio se hubiera promovido en Chile. Art. 251 CPC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A. Sentencias penales extranjeras condenatorias, Art. 3 inc. 2 CPP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1.- No se ejecutan en Chile. 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2.- Las sentencias penales extranjeras condenatorias respecto de delitos cometidos en el extranjero que queden sometidos a la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urisdicción chilena no producen el efecto de cosa juzgada para impedir el juzgamiento por los tribunales chilen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9:29:26Z</dcterms:created>
  <dc:creator>Carola Canelo</dc:creator>
  <dc:description/>
  <dc:language>en-US</dc:language>
  <cp:lastModifiedBy>lucarna21</cp:lastModifiedBy>
  <dcterms:modified xsi:type="dcterms:W3CDTF">2005-09-21T16:39:25Z</dcterms:modified>
  <cp:revision>1</cp:revision>
  <dc:subject/>
  <dc:title>Los Equivalentes Jurisdiccionales</dc:title>
</cp:coreProperties>
</file>