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4C5-5607-4BD2-AAE2-F473D394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3BD-0D59-4CBD-900F-8F1700F6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21F-2555-498C-9129-EBAB1497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1D9-81CD-428B-BD17-23A82230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528-4B52-4D34-8524-0EC16FA8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2CB6-76FE-4FDF-9E1C-AF111562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8497-B06C-4D9F-AB4E-016E20E6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5614-CF4D-4BF1-9C3C-C59FD12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3EFA-84E5-4355-BEA8-51F7BBE3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3687-7666-4CFC-A7BE-EDAF6B2D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0FAD-CE5A-4FA0-B7CF-B1FA2D8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ACD-0C1B-4E62-9C09-24CAF29C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A0A7-3712-4138-8051-1A1F018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215B-53A5-41A4-AD76-BFB8343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D81F-9C77-4767-BFF7-E6B3BAFB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8040-7F21-48B1-9015-09A1AEC8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6E6-3CF8-4285-A381-E32F119F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974-AAE8-4D64-8E62-CCEC14A3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EED-93FD-4D82-B221-A80937C3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E4D-6D33-40E0-A9B2-D0DD25D2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35E-C6DB-4C42-A2B2-C031B773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907-5407-4AE2-BE86-29C7E75A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FB7-4167-46C3-AD91-BEDC81E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ABD-E106-46BA-9157-2835BB27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19CE-A170-4112-B9F7-2E71B4A5F3C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5D8D-0D05-4F8C-B857-E05CA86C590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 pena total o parcial cumplida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en el extranjero se computará a la que pudiere imponerse en Chile si fueren de igual naturaleza o se atenuará la pena. (Art. 3 inc. 3 CPP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4.- La Sentencia penal extranjera vale en Chile para determinar la calidad de reincidente o de delincuente habitual.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B. La sentencia penal extranjera absolutoria respecto de delitos cometidos en Chile, en el extranjero, o en los demás lugares sometidos a la jurisdicción chilena no produce el efecto de cosa juzgada para impedir el juzgamiento de ese delito por los tribunales chilen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n el NCPP (Art. 13 NCP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Tienen valor en Chile las sentencias penales extranjeras tanto condenatorias como absolutori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Excepcionalmente, una persona juzgada en el extranjero puede ser nuevamente juzgada en Chile, en los siguientes ca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1.- Si el juzgamiento en el extranjero hubiere obedecido al propósito de sustraer al individuo de su responsabilidad penal por delitos de competencia de los tribunales nacionales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2.- Cuando el imputado lo solicitare expresamente si el proceso respectivo no hubiere sido instruido con las garantías de un debido proceso o lo hubiere sido en términos que revelaren falta de intención de juzgarle seriamen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n estos casos, la pena que se hubiere cumplido en el extranjero se computará en Chile si fuere condenado también en Chil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La ejecución de las sentencias penales extranjeras se sujetará a los tratados internacionales ratificados por Chile y que se encuentren vige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5. La Sentencia Eclesiástica: No es un equivalente jurisdiccional, ya que la jurisdicción sólo se ejerce en el orden temp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Concepto: todo acto que sin haber emanado de la jurisdicción de los tribunales resuelve un conflicto jurídico con efectos equivalentes a los que produce una sentencia emanada de un órgano jurisdiccion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1. La Transacción: Art. 2460 C. Civil produce el efecto de cosa juzgada en última instancia y puede oponerse por vía de excepción de cosa juzgad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Produce la  acción de cosa juzgada en la medida que se celebre por escritura públic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 La Conciliación: el acta de Conciliación se estima como una sentencia ejecutoriada para todos los efectos legales. Art. 267 CPC y produce el efecto de cosa juzgada. Es título ejecutivo Art. 434 N 1 CP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 El Avenimiento: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Art. 434 N 3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 La Sentencia Extranjera: No es propiamente un equivalente jurisdiccional, ya que es una sentencia, sólo que de un tribunal extranjer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ara que una sentencia extranjera produzca efecto en Chile se requiere que se cumpla el trámite del Exequatu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l Exequatur es un trámite que se efectúa ante la Corte Suprema la que atenderá a los siguientes elementos para determinar si aplicar o no en Chile una sentencia extranjera (Arts 242, 243, 244 y 245 CPC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Los Tratados Internac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 Reciprocidad Interna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Principios de regularidad internacio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ceptada la eficacia de una Sentencia Extranjera en Chile produce el efecto de cosa juzgada, pudiendo exigirse su cumplimiento al tribunal a quien  habría correspondido conocer del negocio en primera o única instancia, si el juicio se hubiera promovido en Chile. Art. 251 CPC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. Sentencias penales extranjeras condenatorias, Art. 3 inc. 2 CPP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1.- No se ejecutan en Chile. 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- Las sentencias penales extranjeras condenatorias respecto de delitos cometidos en el extranjero que queden sometidos a l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urisdicción chilena no producen el efecto de cosa juzgada para impedir el juzgamiento por los tribunales chilen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9:29:26Z</dcterms:created>
  <dc:creator>Carola Canelo</dc:creator>
  <dc:description/>
  <dc:language>en-US</dc:language>
  <cp:lastModifiedBy>lucarna21</cp:lastModifiedBy>
  <dcterms:modified xsi:type="dcterms:W3CDTF">2005-09-21T16:39:25Z</dcterms:modified>
  <cp:revision>1</cp:revision>
  <dc:subject/>
  <dc:title>Los Equivalentes Jurisdiccionales</dc:title>
</cp:coreProperties>
</file>