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1D0-C84E-4685-B387-BF0F79BC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671-6161-4EE6-95F1-99F9E675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BFF-5FBC-47C2-A1E4-E0AFF908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546-6853-4A6F-AD46-9DFF721A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2EFA-B486-4D70-80B0-03DA4E08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B281-F58E-449A-825E-3018E195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B5C4-7A83-42BA-B0EB-7E55377C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D91-59CF-403E-ACB3-2F4E9AF3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D986-5552-42D7-B65E-2610FED6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055-FF7D-443D-9955-4DA03AB3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04A1-1C50-44FB-A27F-D4259F2F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06A-B8A3-4776-B279-8E31F241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57E7-D4F0-4E91-A7ED-92F2357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6699-8462-45C6-8581-F9C5FAC6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959B-E865-4AA5-ADA0-702CCAE9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8EFE-5B64-40CC-94B1-624B02D0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686B-0D95-458B-89B1-722119F8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F20-D288-451F-8CC6-B0C83F23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97F-D83C-43BF-B622-A4958BF2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B8B-FFEB-4080-B266-109FDBB0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82C-9348-4485-BE33-1C3B85D3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DFB-16E1-4EED-A089-84BD108D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104-7D6C-431C-80C1-143178C5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A04-C6D2-421E-A199-5939B0F5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595A-D467-48B9-9644-75D8FC2E35F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A7D7-A05E-4401-BF92-AF5B94233DC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3.-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 pena total o parcial cumplida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en el extranjero se computará a la que pudiere imponerse en Chile si fueren de igual naturaleza o se atenuará la pena. (Art. 3 inc. 3 CPP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4.- La Sentencia penal extranjera vale en Chile para determinar la calidad de reincidente o de delincuente habitual.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B. La sentencia penal extranjera absolutoria respecto de delitos cometidos en Chile, en el extranjero, o en los demás lugares sometidos a la jurisdicción chilena no produce el efecto de cosa juzgada para impedir el juzgamiento de ese delito por los tribunales chilen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n el NCPP (Art. 13 NCP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Tienen valor en Chile las sentencias penales extranjeras tanto condenatorias como absolutori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Excepcionalmente, una persona juzgada en el extranjero puede ser nuevamente juzgada en Chile, en los siguientes caso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1.- Si el juzgamiento en el extranjero hubiere obedecido al propósito de sustraer al individuo de su responsabilidad penal por delitos de competencia de los tribunales nacionales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2.- Cuando el imputado lo solicitare expresamente si el proceso respectivo no hubiere sido instruido con las garantías de un debido proceso o lo hubiere sido en términos que revelaren falta de intención de juzgarle seriament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En estos casos, la pena que se hubiere cumplido en el extranjero se computará en Chile si fuere condenado también en Chil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La ejecución de las sentencias penales extranjeras se sujetará a los tratados internacionales ratificados por Chile y que se encuentren vigen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5. La Sentencia Eclesiástica: No es un equivalente jurisdiccional, ya que la jurisdicción sólo se ejerce en el orden temp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Concepto: todo acto que sin haber emanado de la jurisdicción de los tribunales resuelve un conflicto jurídico con efectos equivalentes a los que produce una sentencia emanada de un órgano jurisdicciona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1. La Transacción: Art. 2460 C. Civil produce el efecto de cosa juzgada en última instancia y puede oponerse por vía de excepción de cosa juzgad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Produce la  acción de cosa juzgada en la medida que se celebre por escritura públic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 La Conciliación: el acta de Conciliación se estima como una sentencia ejecutoriada para todos los efectos legales. Art. 267 CPC y produce el efecto de cosa juzgada. Es título ejecutivo Art. 434 N 1 CPC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 El Avenimiento: pone término al proceso y produce el efecto de cosa juzg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 título ejecutivo el acta de avenimiento pasada ante tribunal competente y autorizada por un ministro de fe o por dos testigos de actuación. Art. 434 N 3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 La Sentencia Extranjera: No es propiamente un equivalente jurisdiccional, ya que es una sentencia, sólo que de un tribunal extranjer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Para que una sentencia extranjera produzca efecto en Chile se requiere que se cumpla el trámite del Exequatu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l Exequatur es un trámite que se efectúa ante la Corte Suprema la que atenderá a los siguientes elementos para determinar si aplicar o no en Chile una sentencia extranjera (Arts 242, 243, 244 y 245 CPC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Los Tratados Internac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 Reciprocidad Interna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Principios de regularidad internacio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ceptada la eficacia de una Sentencia Extranjera en Chile produce el efecto de cosa juzgada, pudiendo exigirse su cumplimiento al tribunal a quien  habría correspondido conocer del negocio en primera o única instancia, si el juicio se hubiera promovido en Chile. Art. 251 CPC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A. Sentencias penales extranjeras condenatorias, Art. 3 inc. 2 CPP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1.- No se ejecutan en Chile. 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- Las sentencias penales extranjeras condenatorias respecto de delitos cometidos en el extranjero que queden sometidos a l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urisdicción chilena no producen el efecto de cosa juzgada para impedir el juzgamiento por los tribunales chilen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9:29:26Z</dcterms:created>
  <dc:creator>Carola Canelo</dc:creator>
  <dc:description/>
  <dc:language>en-US</dc:language>
  <cp:lastModifiedBy>lucarna21</cp:lastModifiedBy>
  <dcterms:modified xsi:type="dcterms:W3CDTF">2005-09-21T16:39:25Z</dcterms:modified>
  <cp:revision>1</cp:revision>
  <dc:subject/>
  <dc:title>Los Equivalentes Jurisdiccionales</dc:title>
</cp:coreProperties>
</file>