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E1E-AE82-423C-AAA8-3F6F5C64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22A-296F-4C2A-BD71-45413C3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910-16A9-49F8-9704-3EBF0D6E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B2D-D5E9-4F3C-9B6E-7AA46547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D326-84C4-4491-BF0C-2EDF2AC8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59D5-C915-4BB5-BDDB-6171C516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0EA7-F9A6-4DEF-A738-E0178A8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82BC-BB86-41A8-8E69-7DB17B4B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3A19-925C-4C56-A2B7-E7308A74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F64C-A01E-4CF6-BF50-7EC51B6D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226D-AA17-4CA8-857F-B0FCCEF5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31A-036A-43F2-B4F1-3962A1E5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BAB9-F602-4619-8710-DE6EB8DC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44ED-98A1-40DD-8632-EC64C2BA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0F0-426D-4B17-86B3-22158611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E7D2-8E2B-4585-AE1E-2C972740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4B62-782B-4739-8390-0809B21E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6D7-177D-4A69-8F1E-38BA62E0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D15-7D9D-4C7F-A8AF-56EA6312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0E64-561F-4F90-9301-B042064B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C84-690E-4E74-8474-B1CE6C6E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72E-0837-4CF1-92C7-CF0DB871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CA1-6624-485D-91AD-2FD3950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3D5-52C2-4836-8913-7297EE3A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60D5-FF29-44D2-B9CC-15F77D48E8B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2C3-8F43-4A46-A9D6-D037490249F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3.-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a pena total o parcial cumplida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en el extranjero se computará a la que pudiere imponerse en Chile si fueren de igual naturaleza o se atenuará la pena. (Art. 3 inc. 3 CPP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4.- La Sentencia penal extranjera vale en Chile para determinar la calidad de reincidente o de delincuente habitual.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B. La sentencia penal extranjera absolutoria respecto de delitos cometidos en Chile, en el extranjero, o en los demás lugares sometidos a la jurisdicción chilena no produce el efecto de cosa juzgada para impedir el juzgamiento de ese delito por los tribunales chilenos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n el NCPP (Art. 13 NCPP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Tienen valor en Chile las sentencias penales extranjeras tanto condenatorias como absolutori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Excepcionalmente, una persona juzgada en el extranjero puede ser nuevamente juzgada en Chile, en los siguientes caso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1.- Si el juzgamiento en el extranjero hubiere obedecido al propósito de sustraer al individuo de su responsabilidad penal por delitos de competencia de los tribunales nacional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2.- Cuando el imputado lo solicitare expresamente si el proceso respectivo no hubiere sido instruido con las garantías de un debido proceso o lo hubiere sido en términos que revelaren falta de intención de juzgarle seriament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En estos casos, la pena que se hubiere cumplido en el extranjero se computará en Chile si fuere condenado también en Ch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La ejecución de las sentencias penales extranjeras se sujetará a los tratados internacionales ratificados por Chile y que se encuentren vigen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5. La Sentencia Eclesiástica: No es un equivalente jurisdiccional, ya que la jurisdicción sólo se ejerce en el orden tempor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Concepto: todo acto que sin haber emanado de la jurisdicción de los tribunales resuelve un conflicto jurídico con efectos equivalentes a los que produce una sentencia emanada de un órgano jurisdicciona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1. La Transacción: Art. 2460 C. Civil produce el efecto de cosa juzgada en última instancia y puede oponerse por vía de excepción de cosa juzgad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Produce la  acción de cosa juzgada en la medida que se celebre por escritura públic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ffffcc"/>
                </a:solidFill>
                <a:latin typeface="Times New Roman"/>
              </a:rPr>
              <a:t>2. La Conciliación: el acta de Conciliación se estima como una sentencia ejecutoriada para todos los efectos legales. Art. 267 CPC y produce el efecto de cosa juzgada. Es título ejecutivo Art. 434 N 1 CP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 El Avenimiento: pone término al proceso y produce el efecto de cosa juzgad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s título ejecutivo el acta de avenimiento pasada ante tribunal competente y autorizada por un ministro de fe o por dos testigos de actuación. Art. 434 N 3 CP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4. La Sentencia Extranjera: No es propiamente un equivalente jurisdiccional, ya que es una sentencia, sólo que de un tribunal extranjer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Para que una sentencia extranjera produzca efecto en Chile se requiere que se cumpla el trámite del Exequatu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El Exequatur es un trámite que se efectúa ante la Corte Suprema la que atenderá a los siguientes elementos para determinar si aplicar o no en Chile una sentencia extranjera (Arts 242, 243, 244 y 245 CPC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1.- Los Tratados Internacional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2.-  Reciprocidad Intern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3.- Principios de regularidad internacion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Aceptada la eficacia de una Sentencia Extranjera en Chile produce el efecto de cosa juzgada, pudiendo exigirse su cumplimiento al tribunal a quien  habría correspondido conocer del negocio en primera o única instancia, si el juicio se hubiera promovido en Chile. Art. 251 CPC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Los Equivalentes Jurisdiccional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A. Sentencias penales extranjeras condenatorias, Art. 3 inc. 2 CPP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1.- No se ejecutan en Chile. 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cc"/>
                </a:solidFill>
                <a:latin typeface="Times New Roman"/>
              </a:rPr>
              <a:t>2.- Las sentencias penales extranjeras condenatorias respecto de delitos cometidos en el extranjero que queden sometidos a la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Jurisdicción chilena no producen el efecto de cosa juzgada para impedir el juzgamiento por los tribunales chilen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9:29:26Z</dcterms:created>
  <dc:creator>Carola Canelo</dc:creator>
  <dc:description/>
  <dc:language>en-US</dc:language>
  <cp:lastModifiedBy>lucarna21</cp:lastModifiedBy>
  <dcterms:modified xsi:type="dcterms:W3CDTF">2005-09-21T16:39:25Z</dcterms:modified>
  <cp:revision>1</cp:revision>
  <dc:subject/>
  <dc:title>Los Equivalentes Jurisdiccionales</dc:title>
</cp:coreProperties>
</file>