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A64-9A47-4E3F-99F1-13CFEB4D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E8D-E197-440E-BF46-48A892D6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AEE-05B1-4425-85B4-2CAB871E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FD5-1939-4F36-9933-AAFC0CCB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2108-4204-4BE1-88FF-A27FC11B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CF4E-3676-4F8A-B6FD-FE8E3FD1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D87C-72A4-4D32-A72C-5D3281AA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7458-2A77-4FC1-B1AE-581B6852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3329-3F5D-4D99-9B36-510B731A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5BFB-31E8-4902-9D98-81BEE151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2AAE-8511-40AA-B56D-73BF911F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2D8-9979-43D2-86DF-D82F5077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18FD-A734-4DB2-8644-2620E693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70D4-1652-42D8-9E0D-9044FD53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34DB-D642-4E89-93EA-55FECF3B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4040-40AA-424A-8EA4-ED668662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0B67-B47E-46D7-AED8-A24D730A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C11-2AF4-42F6-AFA5-5D712CC2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15D-386A-4434-AAB3-43894409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096-C862-4FA8-A0B8-FF13A0F0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408-EC7A-45AD-ACE7-9AAFBE1A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D77-87ED-43C4-806B-6B058E7A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C4D-19CD-40F6-A5DF-A3C60565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68F-C2C6-4C3F-8C8B-AEDC2102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5D34-8EBE-4B36-A8ED-C7B9D3E12E3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035B-2A9D-4FB0-B673-9D6E7FDE4F0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3.-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 pena total o parcial cumplida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 en el extranjero se computará a la que pudiere imponerse en Chile si fueren de igual naturaleza o se atenuará la pena. (Art. 3 inc. 3 CPP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4.- La Sentencia penal extranjera vale en Chile para determinar la calidad de reincidente o de delincuente habitual.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B. La sentencia penal extranjera absolutoria respecto de delitos cometidos en Chile, en el extranjero, o en los demás lugares sometidos a la jurisdicción chilena no produce el efecto de cosa juzgada para impedir el juzgamiento de ese delito por los tribunales chilen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n el NCPP (Art. 13 NCPP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- Tienen valor en Chile las sentencias penales extranjeras tanto condenatorias como absolutori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- Excepcionalmente, una persona juzgada en el extranjero puede ser nuevamente juzgada en Chile, en los siguientes caso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2.1.- Si el juzgamiento en el extranjero hubiere obedecido al propósito de sustraer al individuo de su responsabilidad penal por delitos de competencia de los tribunales nacionales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2.2.- Cuando el imputado lo solicitare expresamente si el proceso respectivo no hubiere sido instruido con las garantías de un debido proceso o lo hubiere sido en términos que revelaren falta de intención de juzgarle seriament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En estos casos, la pena que se hubiere cumplido en el extranjero se computará en Chile si fuere condenado también en Chil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- La ejecución de las sentencias penales extranjeras se sujetará a los tratados internacionales ratificados por Chile y que se encuentren vigen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5. La Sentencia Eclesiástica: No es un equivalente jurisdiccional, ya que la jurisdicción sólo se ejerce en el orden tempo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Concepto: todo acto que sin haber emanado de la jurisdicción de los tribunales resuelve un conflicto jurídico con efectos equivalentes a los que produce una sentencia emanada de un órgano jurisdiccional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1. La Transacción: Art. 2460 C. Civil produce el efecto de cosa juzgada en última instancia y puede oponerse por vía de excepción de cosa juzgad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Produce la  acción de cosa juzgada en la medida que se celebre por escritura públic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2. La Conciliación: el acta de Conciliación se estima como una sentencia ejecutoriada para todos los efectos legales. Art. 267 CPC y produce el efecto de cosa juzgada. Es título ejecutivo Art. 434 N 1 CPC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 El Avenimiento: pone término al proceso y produce el efecto de cosa juzga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s título ejecutivo el acta de avenimiento pasada ante tribunal competente y autorizada por un ministro de fe o por dos testigos de actuación. Art. 434 N 3 CP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4. La Sentencia Extranjera: No es propiamente un equivalente jurisdiccional, ya que es una sentencia, sólo que de un tribunal extranjer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Para que una sentencia extranjera produzca efecto en Chile se requiere que se cumpla el trámite del Exequatu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l Exequatur es un trámite que se efectúa ante la Corte Suprema la que atenderá a los siguientes elementos para determinar si aplicar o no en Chile una sentencia extranjera (Arts 242, 243, 244 y 245 CPC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- Los Tratados Internacion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-  Reciprocidad Internac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- Principios de regularidad internacion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Aceptada la eficacia de una Sentencia Extranjera en Chile produce el efecto de cosa juzgada, pudiendo exigirse su cumplimiento al tribunal a quien  habría correspondido conocer del negocio en primera o única instancia, si el juicio se hubiera promovido en Chile. Art. 251 CPC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A. Sentencias penales extranjeras condenatorias, Art. 3 inc. 2 CPP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1.- No se ejecutan en Chile. 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2.- Las sentencias penales extranjeras condenatorias respecto de delitos cometidos en el extranjero que queden sometidos a la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urisdicción chilena no producen el efecto de cosa juzgada para impedir el juzgamiento por los tribunales chilen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9:29:26Z</dcterms:created>
  <dc:creator>Carola Canelo</dc:creator>
  <dc:description/>
  <dc:language>en-US</dc:language>
  <cp:lastModifiedBy>lucarna21</cp:lastModifiedBy>
  <dcterms:modified xsi:type="dcterms:W3CDTF">2005-09-21T16:39:25Z</dcterms:modified>
  <cp:revision>1</cp:revision>
  <dc:subject/>
  <dc:title>Los Equivalentes Jurisdiccionales</dc:title>
</cp:coreProperties>
</file>