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7A025-E527-497D-A4B8-60575D178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49E79-9A8D-45C8-993A-287BC0575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A601B-9913-4894-ACC3-87F6EA969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F4F73-6743-4741-AA47-758322B98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8AB3E-0027-4679-A2BD-758A8B548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3E7C7-9B3C-490C-86F1-14A5B7ACA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597CD-228F-406C-ADFB-2692C03F5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60C31-6F68-4D14-918B-53B2F88D8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368AB-D78B-4661-883A-10D366345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C490F-5B69-4EBE-9EBB-509B4132D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CE666-CF30-40D7-8F56-4E3A60032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560C-7F6F-4E13-A7F9-F12BD676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897BC-BC69-4D7A-BFD3-1BA751D76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77D5C-36EF-427C-A04B-0193508D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E5F2C-499B-4D8A-992D-9D4A794F6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937A4-8880-4830-81E4-A47260406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A5334-819B-4AE0-B629-6EFBEF2AE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801B-FC39-4487-A97C-441D8EABF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CD949-3754-4BFB-8B11-0A6989468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08EC2-E3FD-40F5-96A8-AD72CE8C7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BF62-06E1-420F-8268-9537F23EF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F804-F17C-4253-BB30-EC5A336B9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BAF2-D570-418F-B4F0-39F578BC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93D7-DFAE-4C40-A844-C18646142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2B82-A034-4133-ADAC-C30CE02D731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5D22-4B53-4EBA-BB58-87A41879963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a doctrina  como Fuente del Derecho Procesal</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 como Fuente del Derech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sustantiva:</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Derecho Civil: Art. 2 Código Civil: la costumbre no constituye derecho sino en los casos que la ley se remite a ella. Costumbre según ley.</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Derecho Comercial: Arts. 4,5 y 6 Código de Comercio: la costumbre suple el silencio de la ley si se cumplen los requisitos leg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 en el Derecho Procesal</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constituye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tanto en la función jurisdiccional como en los actos de las partes frente a los tribunales es posible distinguir ciertos usos y prácticas procesale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cen de la necesidad de los actores de resolver ciertos asuntos prácticos no resueltos por la ley procesal, de una manera uniforme pero sin creer que su actuación se basa en una norma determina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br>
              <a:rPr sz="4400"/>
            </a:br>
            <a:r>
              <a:rPr b="0" lang="en-US" sz="4400" spc="-1" strike="noStrike">
                <a:solidFill>
                  <a:srgbClr val="ffcc00"/>
                </a:solidFill>
                <a:latin typeface="Times New Roman"/>
              </a:rPr>
              <a:t>Ejemplos</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los tribunales: el despacho de oficios a las instituciones públicas o privadas requiriendo antecedent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constitución del expediente civil en caso de extraví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gunas han sigo recogidas por la ley procesal: tercería de posesión  y el arrai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br>
              <a:rPr sz="4400"/>
            </a:br>
            <a:r>
              <a:rPr b="0" lang="en-US" sz="4400" spc="-1" strike="noStrike">
                <a:solidFill>
                  <a:srgbClr val="ffcc00"/>
                </a:solidFill>
                <a:latin typeface="Times New Roman"/>
              </a:rPr>
              <a:t>Ejemplos</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las partes: la forma de redacción de los escritos y de alegar en la Cor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r regla general los acuerdos o convenciones entre las partes no son una fuente obligatorioa del Derecho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la ley ha permitido que las partes dentro y fuera del proceso celebren convenciones procesales destinadas a producir efecto en el proces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ra d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compromiso y la cláusula compromisoria (Arts. 222 y sguets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órroga expresa de la competen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ransac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mandato judicial otorgado por escritura 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tro d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convenio judicial para alzar la quieb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otorgamiento del mandato judicial (Art. 6 CPC) dentro del proces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suspensión del procedimien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ncili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nuncia a la prueb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ideraciones previ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dicción supone la existencia de la acción y del proces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cción            Proceso          Jurisdic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es la actividad que realiza el tribunal, como tercero imparcial, para resolver a través del proceso el conflicto jurídico sometido a su conocimiento mediante el ejercicio de la ac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nte Indirecta</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La doctrina es fuente indirecta del Derecho Procesal en la medida que determina el contenido, la evolución, la interpretación, la aplicación o la integración de la norma jurídica procesal.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Acción es: el derecho subjetivo para poner en movimiento la actividad jurisdiccional para los efectos de que se resuelva en el proceso el conflicto jurídico por el tribunal.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es una forma heterocompositiva de resolución del conflicto jurídico por un tercero imparcial o tribunal en la cual el demandante hace valer sus pretensiones, el demandado sus defensas y el tribunal debe resolver el conflicto fundadamente y con fuerza obligatori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ncepto</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urisdictio, nis   acción de decir o indicar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us dicere: decir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voz etimológica es importante para entender los inicios de la actividad jurisdiccional pero no para conceptualizar hoy la jurisdic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íticas a la voz etimológica</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concepto de gran multivocidad, ya que no sólo el juez dice o declara el Derecho, sino que la ley, la admnistración pública y los particulares aplican e interpretan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comprende la equidad: a falta de ley que resuelva la contienda, el juez civil debe aplicar la equ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íticas a la voz etimológica</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restringe a las sentencias declarativas, que son aquellas que declaran situaciones preexistentes. Pero hay sentencias que son constitutivas, esto es que crean, modifican o extinguen un estado o una situación jurídica produciendo sus efectos sólo para el futur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la que constituye el estado civil de hijo de filiación matrimoni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ámbito o extensión territorial: Ej. Arts. 27, 55 del COT, territorio jurisdiccional.</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competencia: se dice que la competencia es el fragmento de jurisdicción atribuido a un juez. Todo juez tiene jurisdicción pero no necesariamente competencia para conocer y resolver un asunto determin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Art. 433 y 440 CPP declinatoria de jurisdicción, se refiere a una forma de alegar la incompetencia del tribu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poder: el poder es aplicable a cada uno de los poderes de Estado. Sin embargo, la jurisdicción es además un deber. Art. 73 inc. 2 CPR. Inexcus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función: como deber del Estado, la jurisdicción es una función pública que ejercen los tribunales establecidos por la ley. Art. 73 inc 1 CPR. Sin embargo, no se debe confundir con la función del Poder Judicial, ya que hay casos en que la ley le otorga jurisdicción a órganos que no forman parte del Poder Judicial, ej. La Contralorí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la función la que caracteriza al órgano y no el órgano que la ejerce quien caracteriza a la fun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 </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abio histórico anterior a la separación de los tres poderes, el Ejecutivo, Legislativo y Judicial. Antes en las naciones monárquicas se distinguía el Poder Ejecutivo y el Legislativo, considerandose el  Poder Judicial como parte de la Administración Pública para la protección de la paz so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Importancia de la doctrina</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Crea los principios generales del Derecho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rea las instituciones fundamentales del Derecho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 una herramienta de interpretación de la ley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 motor de cambio y reforma del Derecho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hile, la CPR de 1833 regulaba la actividad jurisdiccional bajo el Títul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la Administración de Justi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y, hay resabios, ej, Título XI del CO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los Auxiliares de la Administración de Justici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no es una facultad sino un poder-deber del Estad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sticia no se administr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la aplicación de la ley se debe siempre respetar los derechos esenciales que emanan de la naturaleza humana y a falta de ley aplicar la equidad (la justicia del caso concre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ea obligatoria: estudiar páginas 105 a 111 de la Separata del Profesor Cristián Maturana sobre “Derecho Procesal Orgánico. Introducción. La Jurisdicción. La Competencia”. Número 05005.</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oría Organicista: Son jurisdiccionales todos los actos emanados del Poder Judicial.</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ovenda: función estatal de actuación de la ley mediante la sustitución de la actividad de órganos a la actividad ajena, ya sea afirmando la existencia de una voluntad de ley, ya sea poniéndola posteriormente en práct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co Redenti: Función judicial que tiene por objeto la aplicación de sancion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rnelutti: Actividad desarrollada para obtener la justa composición de la liti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iero Calamandrei: Función estatal que el Estado ejerce en el proceso por medio de sus órganos jurisdiccionales como garantía para la observancia del derecho objetiv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Jaime Guasp: La función específica estatal por la cual el Poder público satisface pretensiones.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uardo Couture: La función pública, realizada por órganos competentes  del Estado, con las formas requeridas en la ley, en virtud de la cual, por acto de juicio se determina el derecho de las partes, con el objetivo de dirimir sus conflictos y controversias de relevancia jurídica, mediante decisiones con autoridad de cosa juzgada, eventualmente factibles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Francisco Hoyos: poder deber del Estado que, ejercido con sujeción a las formas del debido proceso de derecho, tiene por objeto resolver litigios, con eficacia de cosa juzgada y eventual posibilidad de ejecución.</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go Pereira Anabalón: la potestad pública ejercida privativamente por los jueces, mediante el debido proceso, para dirimir en justicia conflictos jurídicos actuales o eventuales, con la aplicación de normas y principios de derecho o la equidad natural, en sentencia con autoridad de cosa juzgada, susceptibles, según su contenido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Juan Colombo Campbell: el poder deber que tienen los tribunales para conocer y resolver, por medio del proceso y con efecto de cosa juzgada, los conflictos de intereses de relevancia jurídica que se promuevan en el orden temporal, dentro del territorio de la República y en cuya solución les corresponda interveni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prudencia entendida como sentencia judicial sólo tiene fuerza obligatoria para el caso concreto. Art. 3 Cód. Civil.</a:t>
            </a: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prudencia entendida como aquellos fallos uniformes dictados por los tribunales superiores de justicia, no tienen fuerza obligatoria sino son un elemento de persuación para la interpretación de la ley. </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Jurisprudencia como Fuente del Derecho Proces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ario Mosquera: es el poder deber del Estado radicado preferentemente en los tribunales de justicia para que estos como órganos imparciales, resuelvan de manera definitiva e inalterable con posibilidad de ejecución, los conflictos de intereses de relevancia jurídica suscitados entre las partes o que surjan de una violación del ordenamiento jurídico so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a:t>
            </a:r>
            <a:r>
              <a:rPr b="0" lang="en-US" sz="3600" spc="-1" strike="noStrike">
                <a:solidFill>
                  <a:srgbClr val="ffffcc"/>
                </a:solidFill>
                <a:latin typeface="Times New Roman"/>
              </a:rPr>
              <a:t>en el orden temporal y dentro del territorio de la República.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ón de Jurisdicción</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el Poder-Deber del Estado, radicado exclusivamente en los tribunales establecidos por la ley, para que éstos dentro de sus atribuciones y competencia y como órganos imparciales, por medio de un debido proceso, iniciado generalmente a requerimiento de parte y a desarrollarse según las normas de un racional y justo procedimiento, resuelvan con eficacia 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ón de Jurisdicción</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cosa juzgada y eventual posibilidad de ejecución, los conflictos de intereses de relevancia jurídica que se promuevan en el orden temporal y dentro d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Es un Poder-Deber del Estad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Se radica exclusivamente en los tribunales establecidos por la le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Los tribunales deben actuar dentro de sus atribuciones y competenc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Los jueces deben ser imparcial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Debe ser ejercida dentro de un debido proceso leg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Generalmente se ejerce a requerimiento de parte.</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La Sentencia que se dicte requiere que el proceso se haya desarrollado según las normas de un racional y justo procedimient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Tiene por objeto resolver los conflictos jurídicos con eficacia de cosa juzgada y eventual posibilidad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Resolver los conflictos jurídicos que se promuevan en el orden tempor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Dentro d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Es un Poder-Deber del Estad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está regulada en la CPR. Arts. 5, 6, 7 y 73 CPR.</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poder, inciso primero Art. 73: la facultad de conocer las causas civiles y criminales, de resolverlas y de hacer ejecutar lo juzgado, pertenece exclusivamente a los tribunales establecidos en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 Art. 6 CPR, inciso 2 Art. 73 CPR: Reclamada su intervención en forma legal y en negocios de su competencia, no podrán excusarse de ejercer su autoridad, ni aún por falta de ley que resuelva la contienda o asuntos sometidos a su decisión.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iso 2 Art. 10 CO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  Art. 76 CPR: los jueces son personalmente responsables por los delitos de denegación de administración de justicia, disposición que no es aplicable a los miembros de la Corte Suprema. (Art. 324 COT).</a:t>
            </a:r>
            <a:endParaRPr b="0" lang="en-US" sz="3200" spc="-1" strike="noStrike">
              <a:solidFill>
                <a:srgbClr val="ffffcc"/>
              </a:solidFill>
              <a:latin typeface="Times New Roman"/>
            </a:endParaRPr>
          </a:p>
          <a:p>
            <a:pPr marL="325800" indent="-3258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224 y 225 Cód. Penal se tipifican como delitos las conductas dolosas y culpables que importen una negativa o</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formidad de la Jurisprudencia</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Art. 780 del CPC permite a cualquiera de las partes solicitar a la Corte Suprema  que el recurso de casaci</a:t>
            </a:r>
            <a:r>
              <a:rPr b="0" lang="en-US" sz="3200" spc="-1" strike="noStrike">
                <a:solidFill>
                  <a:srgbClr val="ffffcc"/>
                </a:solidFill>
                <a:latin typeface="Times New Roman"/>
              </a:rPr>
              <a:t>ón en el fondo sea conocido y resuelto por el Pleno y no por una Sala de la Corte, debiendo esa petición fundarse en el hecho que la C.Suprema en fallos diversos ha sostenido distintas interpretaciones sobre la misma materia del recurso.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retardo en la administración de justicia y en brindar el auxilio y protección que legalmente se les pid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sabilidad política de los magistrados de los tribunales superiores de justicia  a través de la acusación constitucional por notable abandono de sus deberes. Arts. 48 N 2 letra c) y 49 N 1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7 CPR responsabilidad disciplinar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Se radica exclusivamente en los tribunales establecidos por la le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 N 3 CPR: nadie puede ser juzgado por comisiones especiales sino por el tribunal que señale la ley y que se halle establecido con anterioridad por és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3 CPR, Art. 2 NCPP.</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jo la palabra “tribunales” se comprenden los tribunales que forman parte del Poder Judicial y los demás que establece la ley.</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Ni el Presidente de la República, ni el Congreso pueden avocarse funciones jurisdiccionales. Tampoco el Ministerio Público.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Los tribunales deben ejercer la función jurisdiccional actuando dentro de sus atribuciones o competenc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mpetencia es la esfera, grado o medida que posee cada tribunal para el ejercicio de la función jurisdiccio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risdicción es el géner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 la competencia la especie.</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la jurisdicción es una función pública los tribunales deben ejercerla dentro de su competencia. Art. 7 CPR, inc 2 Art. 73 CPR.</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4 CPR: una ley orgánica constitucional determinará la organización y atribuciones de los tribunales….”.</a:t>
            </a:r>
            <a:endParaRPr b="0" lang="en-US" sz="3200" spc="-1" strike="noStrike">
              <a:solidFill>
                <a:srgbClr val="ffffcc"/>
              </a:solidFill>
              <a:latin typeface="Times New Roman"/>
            </a:endParaRPr>
          </a:p>
          <a:p>
            <a:pPr marL="335880" indent="-335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108 y sgutes COT regulan la competencia</a:t>
            </a:r>
            <a:r>
              <a:rPr b="0" lang="en-US" sz="2800" spc="-1" strike="noStrike">
                <a:solidFill>
                  <a:srgbClr val="ffffcc"/>
                </a:solidFill>
                <a:latin typeface="Times New Roman"/>
              </a:rPr>
              <a:t>.</a:t>
            </a:r>
            <a:endParaRPr b="0" lang="en-US" sz="2800" spc="-1" strike="noStrike">
              <a:solidFill>
                <a:srgbClr val="ffffcc"/>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Los jueces deben ser imparciales: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mparcialidad es una característica esencial del juez.</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mparcialidad es la falta de designio anticipado o de prevención en favor o en contra de personas o cosas, que permite juzgar o proceder con rectitud.</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die puede ser juez en causa propia.</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juez debe ser una persona distinta a las partes del conflicto y no debe tener ninguna vinculación con las partes que le motive a favorecer a alguna de las partes.</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4 COT: los jueces pueden perder su competencia para conocer determinados negocios por implicancia o recusación declaradas, en caso necesario, en virtud de causas legale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implicancias son causales de inhabilidad de orden público e irrenunciables para las partes, debiendo ser ellas declaradas de oficio por el tribunal, bastando su sola concurrencia para los efectos de poder ser impugnado el fallo por la vía del recurso de casación en la for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recusaciones son causales de inhabilidad de orden privado y renunciables para las partes, no debiendo ser declaradas de oficio por el tribunal y sólo en caso que se encuentren declaradas o pendientes de resolución permiten la impugnación del fallo por la vía del recurso de casación en la for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5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113 y sgutes del CPC regula el incidente a través del cual se hacen valer las implicancias y recusacion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52, 75 y 76 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formidad de la Jurisprudencia</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nuevo proceso penal se establece que corresponderá a la Corte Suprema conocer el recurso de nulidad fundado en una errónea aplicación del Derecho que hubiere influido sustancialmente en lo dispositivo del fallo, siempre que respecto de la materia objeto del recurso existieren distintas interpretaciones sostenidas en diversos fallos emanados de los tribunales superiores (Art. 376 inc 2 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sabilidad del juez por intervenir en un proceso respecto del cual está inhabilitado: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6 CPR, responsabilidad penal: delito de torcida administración de justicia; y en Arts. 224 y 225 del Cód. 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7 CPR, responsabilidad disciplinaria: sanción disciplinaria.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La jurisdicción debe ser ejercida dentro de un debido proceso leg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 N 3 CPR: toda sentencia de un órgano que ejerza jurisdicción debe fundarse en un proceso previo legalmente tramitado.</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Generalmente se ejerce a requerimiento de parte.</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civil: la regla general es el principio dispositivo y la pasividad de los tribunales, según el cual:</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debe comenzar a iniciativa de parte.</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tiene como contenido el que determinen las partes con sus peti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iciado el proceso las partes pueden dentro de él disponer de sus pretension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responde a las partes elegir los medios de prueba que harán valer para defender sus pretensiones y defensa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ólo procederá la revisión de la sentencia si las partes deducen recursos limitando la competencia del tribunal a resolverl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0, inc 1 COT. La regla general es la pasividad de los tribunal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enal, hay que distingui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tiguo proceso penal: Art. 105 y 81 N 4 CPP: el juez deberá iniciar el proceso de oficio cuando llega a su conocimiento que se ha cometido un delito de acción penal pública.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Nuevo Proceso Penal: el juez debe actuar a requerimiento de parte y no puede actuar de oficio. Sistema acusatori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La sentencia que se dicte en el proceso requiere que éste se haya desarrollado según las normas de un racional y justo procedimient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anción: nulidad del procedimiento y de la sentencia que se dicte.. (Art. 7 CP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rantías mínimas racionales del proces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fundamentación de las sentenc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La jurisdicción tiene por objeto resolver los conflictos de relevancia jurídica, con eficacia de cosa juzgada y eventual posibilidad de ejecución. Art. 73 CPR.</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sa juzgada formal: efecto de inmutabilidad de la sentencia dentro del proceso en que se dicta, transformándose en inimpugnable por la preclusión de los medios de impugna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Cosa juzgada substancial o material: efecto de inmutabilidad e inimpugnabilidad de la sentencia con respecto a cualquier otro proceso posterior que se pretenda iniciar para obtener la revocación, modificación o anulación de la sentencia.</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Qué tipo de sentencias producen el efecto de Cosa Juzgada? </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s Sentencias Definitiva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s Sentencias Interlocutorias.</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portancia de la Jurisprudencia</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Es una importante herramienta de interpretación de la ley.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89 COT: el voto de minoría y fundamento de las sentencias se publicarán en la Gaceta de Tribunales, hoy Revista de Derecho y Jurisprudencia y Gaceta de los Tribun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rt. 174 CPC regula cuándo una sentencia definitiva o interlocutoria produce el efecto de cosa juzgada.</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ay que distinguir:</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no proceden recursos en su contra: desde que la sentencia se notifica legalmente a todas las part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proceden recursos en su contra: hay que subdistingui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no se interpusieron los recursos: desde que transcurran todos los plazos que la ley concede para su interposición y tratándose de una sentencia definitiva, que sea ese hecho certificado por el secretario del tribu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se interpusieron los recursos: desde que se hayan fallado todos los recursos y se notifique a las partes el decreto que debe dictar el tribunal de primera o única instancia ordenando su cumplimient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El efecto de Cosa Juzgada se manifiesta como: Acción y Excep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Excep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c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entencias que causan ejecutoria.</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ejecución de la sentencia definitiva firme es eventu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s de cumplimiento forzado de la senten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 Incidental, Art. 231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 Ejecutivo, Art. 434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s Ejecutivos Especi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Resolución de conflictos en el orden tempor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1 de la Ley 19.665 de marzo de 2000 eliminó la expresión “en el orden tempor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Dentro del territorio de la Repúblic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Art. 1 CPP, Art. 5 C.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epciones: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sos de Extraterritorialidad: Art. 6 COT.</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munidades de jurisdicción.</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partes convencionalmente se someten a la jurisdicción extranjera (tribunal o árbitr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La jurisdicción tiene un origen constitu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Es una función públic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Es un concepto unitari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Su ejercicio es eventu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Corresponde exclusivamente a los tribunales establecidos por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Es indele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Es improrro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Debe ser ejercida a través del debido proceso, el que debe tramitarse según las normas de un racional y justo procedimient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Se ejerce para resolver asuntos en el orden tempo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Se ejerce generalmente dentro del territorio de la Repúblic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1.- Resuelve conflictos mediante sentencias con autoridad de cosa juzgada y eventual posibilidad de ejecu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portancia de la Jurisprudencia</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600" spc="-1" strike="noStrike">
                <a:solidFill>
                  <a:srgbClr val="ffffcc"/>
                </a:solidFill>
                <a:latin typeface="Times New Roman"/>
              </a:rPr>
              <a:t>Repertorio de Legislación y Jurisprudencia y otras publicaciones contienen la jurisprudencia de nuestros tribunales de justicia.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lgunos comentarios adicionales</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La jurisdicción tiene un origen constitucional. Art. 73 CP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l Nuevo Sistema Procesal Penal separa las funciones de: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Jurisdicción                  Investiga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ribunales</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Ministerio Públic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
          <p:cNvSpPr/>
          <p:nvPr/>
        </p:nvSpPr>
        <p:spPr>
          <a:xfrm>
            <a:off x="0" y="0"/>
            <a:ext cx="9144000" cy="738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cc00"/>
                </a:solidFill>
                <a:latin typeface="Times New Roman"/>
              </a:rPr>
              <a:t>Jurisdicción</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cc00"/>
                </a:solidFill>
                <a:latin typeface="Times New Roman"/>
              </a:rPr>
              <a:t>Investig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ocer, Juzgar</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vestigar los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s Jueces de garantía  </a:t>
            </a:r>
            <a:r>
              <a:rPr b="0" lang="en-US" sz="3200" spc="-1" strike="noStrike">
                <a:solidFill>
                  <a:srgbClr val="ffffcc"/>
                </a:solidFill>
                <a:latin typeface="Times New Roman"/>
              </a:rPr>
              <a:t>	</a:t>
            </a:r>
            <a:r>
              <a:rPr b="0" lang="en-US" sz="3200" spc="-1" strike="noStrike">
                <a:solidFill>
                  <a:srgbClr val="ffffcc"/>
                </a:solidFill>
                <a:latin typeface="Times New Roman"/>
              </a:rPr>
              <a:t>hechos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utorizan los actos de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constitutivos</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instrucción que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de delito, de l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importen una privación, </a:t>
            </a:r>
            <a:r>
              <a:rPr b="0" lang="en-US" sz="3200" spc="-1" strike="noStrike">
                <a:solidFill>
                  <a:srgbClr val="ffffcc"/>
                </a:solidFill>
                <a:latin typeface="Times New Roman"/>
              </a:rPr>
              <a:t>	</a:t>
            </a:r>
            <a:r>
              <a:rPr b="0" lang="en-US" sz="3200" spc="-1" strike="noStrike">
                <a:solidFill>
                  <a:srgbClr val="ffffcc"/>
                </a:solidFill>
                <a:latin typeface="Times New Roman"/>
              </a:rPr>
              <a:t>particip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tricción o perturbación</a:t>
            </a:r>
            <a:r>
              <a:rPr b="0" lang="en-US" sz="3200" spc="-1" strike="noStrike">
                <a:solidFill>
                  <a:srgbClr val="ffffcc"/>
                </a:solidFill>
                <a:latin typeface="Times New Roman"/>
              </a:rPr>
              <a:t>	</a:t>
            </a:r>
            <a:r>
              <a:rPr b="0" lang="en-US" sz="3200" spc="-1" strike="noStrike">
                <a:solidFill>
                  <a:srgbClr val="ffffcc"/>
                </a:solidFill>
                <a:latin typeface="Times New Roman"/>
              </a:rPr>
              <a:t>punible,</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e las garantías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y los que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stitucionales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crediten la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ocencia del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mputado.</a:t>
            </a:r>
            <a:r>
              <a:rPr b="0" lang="en-US" sz="28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1" name=""/>
          <p:cNvSpPr/>
          <p:nvPr/>
        </p:nvSpPr>
        <p:spPr>
          <a:xfrm>
            <a:off x="0" y="0"/>
            <a:ext cx="9144000" cy="695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cc00"/>
                </a:solidFill>
                <a:latin typeface="Times New Roman"/>
              </a:rPr>
              <a:t>Jurisdicción</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cc00"/>
                </a:solidFill>
                <a:latin typeface="Times New Roman"/>
              </a:rPr>
              <a:t>Investig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ctividad jurisdiccional</a:t>
            </a:r>
            <a:r>
              <a:rPr b="0" lang="en-US" sz="3200" spc="-1" strike="noStrike">
                <a:solidFill>
                  <a:srgbClr val="ffffcc"/>
                </a:solidFill>
                <a:latin typeface="Times New Roman"/>
              </a:rPr>
              <a:t>	</a:t>
            </a:r>
            <a:r>
              <a:rPr b="0" lang="en-US" sz="3200" spc="-1" strike="noStrike">
                <a:solidFill>
                  <a:srgbClr val="ffffcc"/>
                </a:solidFill>
                <a:latin typeface="Times New Roman"/>
              </a:rPr>
              <a:t>Actividad</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dministrativ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Origen Constitucional</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73 CPR</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rt. 80 A CPR</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mbos regulados por LOC</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74 CPR, LOC</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rt. 80 B CPR, LOC</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mbas actividades sometidas a racionalidad y </a:t>
            </a:r>
            <a:r>
              <a:rPr b="0" lang="en-US" sz="3200" spc="-1" strike="noStrike">
                <a:solidFill>
                  <a:srgbClr val="ffffcc"/>
                </a:solidFill>
                <a:latin typeface="Times New Roman"/>
              </a:rPr>
              <a:t>	</a:t>
            </a:r>
            <a:r>
              <a:rPr b="0" lang="en-US" sz="3200" spc="-1" strike="noStrike">
                <a:solidFill>
                  <a:srgbClr val="ffffcc"/>
                </a:solidFill>
                <a:latin typeface="Times New Roman"/>
              </a:rPr>
              <a:t>justici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acional y justo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vestigación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procedimiento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racional y justa</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La jurisdicción es indelegable.Sanción:</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ulidad Art. 7 CPR y responsabilidades</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ales.Art. 35 NCPP.</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 que se puede delegar parcialmente es la</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etencia de un tribunal a otro para que el</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gundo practique ciertas diligencias en su</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rritorio. Exhorto, Arts. 7 COT, 71 CPC y 20</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TAREA: Estudiar sentencia dictada por la Exma. C. Suprema de 20 de Dic. de 2002 que declara inaplicable por inconstitucionalidad el Art. 116 del C. Tributario.</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7.- La Jurisdicción es improrro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s particulares no pueden por la vía de la autonomía de la voluntad crear, modificar o derogar la Jurisdic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anción: nulidad Art. 7 CPR y</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ponsabilidad.</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 que se puede prorrogar es la competencia relativa en ciertos cas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La sujeción a arbitraje no significa prorrogar la jurisdicción, ya que los árbitros también son jueces establecidos por la ley. Se diferencian de los tribunales en su forma de designación, duración de funciones, ámbito de conocimiento y facultad de imperio restringida. Art. 635 y 643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 Objetivo: conjunto reiterado de actos o conduct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 Subjetivo: bajo la convicción de que la conducta seguida responde al cumplimiento de una norma jurídica.</a:t>
            </a:r>
            <a:endParaRPr b="0" lang="en-US" sz="32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6:16Z</dcterms:modified>
  <cp:revision>265</cp:revision>
  <dc:subject/>
  <dc:title>Inter-American Convention: Dead or Alive?</dc:title>
</cp:coreProperties>
</file>