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DCA-F2E6-4F44-A721-F8BEC922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1FA-01EB-4032-8DB5-4C7676F7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15E-0A94-47DD-A671-913798AC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050-CF3C-4D08-A739-1351E620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B82E-9679-4D9C-AAED-267735FB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5588-AD00-4131-8683-05432FE8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7FE3-F4D6-4830-B344-523B0888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7FDF-080E-418E-8CF3-F7BFF9E5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BE3E-67C3-4B34-BFCA-A0618E0A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77F0-59C3-47E1-B618-6D656203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2999-CFB9-4398-86F0-F1D7407A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570-C361-413B-A63A-9B85287C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4E4A-DD82-40F8-B7B9-C60F9456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BA97-021E-49C9-8733-3E4638C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5234-FB84-44EB-B9F4-664DE71F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10F9-1902-423A-A88E-69895E14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5F10-F969-4645-8D47-4E3C82F7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962-0CD2-4DBB-9794-F9F59A7E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9E6-E488-47EE-9F35-2E4C4025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D5D-B243-4B2A-872A-4E459191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84A-37D1-4E90-80A4-A3133A3C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593-A714-4189-AF28-B1FEB39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3B2-62BB-459D-B4C6-B5CBEFF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E6A-8B35-4960-999F-C4E3F01F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C500-B9D7-4858-96D0-3F17C5C8FB1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28F9-6796-4141-AB52-A935C648D04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untes de Clases preparados por la profesora Carola Canelo para el Curso Derecho Procesal I utilizando como base bibliográfica  los Apuntes del profesor Cristián Maturana M. “Derecho Procesal Orgánico”, de fecha Marzo de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L CONFLICTO JURIDICO Y SUS FORMAS DE SOLUCION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aquella forma de solución del conflicto en que el sujeto por sus propios medios decide defenserse, autocuidarse y poner término al conflicto, mediante la imposición a la otra parte de su propia decision, incluso mediante el uso de la fuerza, sin acudir a un tercero imparcial para dirimir el asunto. Consiste en hacerse justicia por su propia ma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a más primitiva de solución de conflic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era la ley del más fuerte por sobre quien tiene necesariamente la raz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medida que progresa la humanidad se va restringiendo el uso de la autotutela, en algunos casos se prohibe y en otros se restringe su aplic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gulación de 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Ley del Talión, regulación de la guerra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Derecho Chileno, prohibe la autotutela y la sanciona civil y penal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PR art 1, las personas nacen libres e iguales en dignidad y derechos, lo cual excluye implícitamente el uso de la fuerza como forma de solución del confli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19 N 1, 2 y 3 de la Constitución Política de la República (CPR), reconoce y garantiza la igualdad ante la ley y ante la justicia, y la igual protección de la ley en el ejercicio de los derechos , y el derecho a un debido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73 de la CPR, todo conflicto debe ser resuelto a través de un proceso del cual conocerá un tribunal establecido por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s. 73 de la CPR y art. 1 del COT: 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ultad de conocer de las causas civiles y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iminales, de resolverlas,y de hacer ejecut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 juzgado, pertenece exclusivamente a l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ibunales establecidos por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t. 1 del Nuevo Código Procesal Penal (NCPP): Ninguna persona podrá ser condenada o penada, ni sometida a una de las medidas de seguridad establecidas en este Código sino en virtud de una sentencia fundada dictada por un tribunal imparcial. Toda persona tiene derecho a un juicio previo, oral y público, desarrollado en conformidad a las normas de este cuerpo leg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ódigo Penal sanciona como delito el uso de la fuerza desde los delitos patrimoniales hasta el homicid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Ley civil sanciona la fuerza como vicio de la voluntad con la nulidad de aquellos actos que se realizan bajo dicho vicio. Art. 1456 Código Civil (CC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ley procesal exige que la confesión sea libre y espontánea, de manera que si se obtiene mediante la fuerza o coacción no produce efecto como medio de prueb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ícita o Autorizada ( ej. Legítima defens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lerada (ej. Guerra defensiv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hibida (ej. Usurpación, amenazas, pacto comisori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reacción a un agresión: legítima defensa del Art. 10, N 4 Cod. Pe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acción que importa el ejercicio de un derecho subjetivo: la autoridad paterna, el corte directo de raices de arboles plantados en suelo ajeno, derecho de retencion  respecto del arrendatario, del comodatario, depositario, del acreedor prendari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conflicto de intereses surge cuand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a persona siente una necesidad y n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ede satisfacerla plena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conflicto puede ser interno o exter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Qué es el conflicto de interese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imperativo ante situaciones de excepción: el estado de necesidad, Art. 10 N 7 Cód. Penal, la obediencia debida y el cumplimiento de un deber, Art. 10 N 10 Cód. Penal y de Cód Justicia Milit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recurso convencional de fuerza: la guerra defensiva según la Carta de la ONU y de la OE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coacción unilateral: la huelga, el lock out, regulados en el Cód. del Trabajo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utodefensa homologada: aquella que con posterioridad a ser ejercida extraprocesalmente, requiere ser convalidada dentro de un determinado proceso respecto del cumplimiento de sus requisitos condicionan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la solución del conflicto por obra de los partícipes de éste, sea por mutuo acuerdo o por la decision reflexiva, renunciativa o altruista de una de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forma de solución de conflictos, sea que se haya llevado o no al proceso para su decis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forma de solución de conflictos en que las partes en forma directa, sea con la asistencia o no de de terceros, determinan las condiciones en que se debe solucionar el confli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o pueden autocomponer quienes tienen capacidad o facultades suficientes para adoptar un acuerdo, según las normas del Cód. Civil y si es dentro del proceso, el mandatario judicial requiere facultades especiales, inciso segundo Art. 7 CP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a pacífica de solución de conflictos que emana de una decisión voluntaria de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ndencia a promover el uso de esta forma de solución de conflictos, como alternativo al uso del proceso, (ADR : Alternative Dispute Resolution), sistemas alternativos de solucion de conflic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ntaj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Autocompositivas Unilate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renu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desist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llana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el acto unilateral del titular de un derecho consistente en la decisión de no ejercer su derecho, y que ocurre antes de hacerlo valer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12 Cod. Civil, pueden renunciarse los derechos conferidos por las leyes con tal que miren al solo interés individual del renunciante y no esté prohibida su renunci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28 Cód. de Procedimiento Penal y Art. 56 del NCPP, la persona ofendida puede renunciar la acción penal pública, sin embargo esta renuncia no extingue la acción penal pública.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renuncia opera sólo respecto del ofendido y sus sucesor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de Legalidad, Art. 23 CPP, los oficiales del Ministerio Público tienen la obligación de ejercer la acción penal pública con respecto de todo delito que deba perseguirse de ofi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de Oportunidad, los fiscales del Ministerio Público pueden no iniciar o abandonar la persecución penal cuando se trate de un hecho que no comprometiere gravemente el interés públi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In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quel que se produce cuando es el propio sujeto el que debe ponderar las diversas alternativas tendientes a satisfacer algunas de sus necesidades ilimitadas y es por lo tanto resuelto por el propio sujeto mediante el sacrificio del interés que él determina menor en beneficio del interés que el estima mayor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e puede renunciar a la acción penal privada y a la acción civil. Esto produce la extinción de la acció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s la renuncia que efectúa el demandante de la pretensión hecha valer en su demanda o  el demandado de la pretensión hecha valer en su reconvención dentro del proces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amitación incidental y se resuelve por sentencia interlocutoria que pone término al proceso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querellante puede desistirse de la acción penal pública. Efecto: el querellante deja de ser parte activa del proceso, pero no se extingue la acció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. de Legalidad sistema antigu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. De Oportunidad sistema nuev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querellante puede desistirse de la acción penal privada, lo que produce l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tinción de la pretensión penal y la dictación del sobreseimiento definitivo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la manifestación de voluntad por parte del demandado por el cual reconoce y se somete a la satisfacción de la pretensión hecha valer en su contra por el a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fecto: se elimina la fase probatoria del procedimiento civil, se cita a las partes a oír sentencia. Salvo en casos en que exista un interés públi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ntiguo proceso penal: no opera el allanamiento del demandado para efectos de obviar la prueba, ya que la contestación de la acusación es un trámite esencial y el allanamiento sólo sirve para acreditar la participación pero no permite por sí solo acreditar el hecho punib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uevo proceso penal: no es posible en el juicio oral, ya que en tal caso correspondería aplicar el procedimiento abreviado o la suspensión condicional del procedimiento o los acuerdos reparatorio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Autocompositivas Bilate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transac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mediació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ven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ciliació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suspensión condicional del proced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s acuerdos reparator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o autocompositivo de carácter extrajudicial, bilateral y no asistido, destinado a precaver un litigio eventual o a poner término a un litigio pendiente, haciéndose las partes concesiones recíp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teria Civil: Arts. 2446 y sgutes Cod. Civ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teria Penal: en los juicios de acción penal privada es po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el nuevo juicio penal también es po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el que surge de la presencia de intere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discrepantes de dos o más personas que 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manifiestan mediante una acción u om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que produce un cambio en el mundo exter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uede surgir en diversos ámbitos,con resp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 un sujeto, a la familia, a un grupo social, a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tado, a otros países, et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autocompositiv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autocompositivo directo: no existe la asistencia de un tercero que asesore a las partes en su celeb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: destinado a producir efectos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s partes hacen concesiones recíp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extrajudic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, sólo puede ser celebrado en los casos que ella seña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de facultades especiales (comprende la de avenir y concilia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excepción perentoria, mixta, y anóma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consensual, sin embargo cuando se celebra por escritura pública constituye título ejecu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 el efecto de cosa juzgada en última instancia. Art. 2460 Cód. Civ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extrajudicial, bilateral y asistido, destinado a precaver un litigio eventual 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se encuentra regulada orgánicamente en nuestra legislación. Es facultativa en la negociación coletiva lab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 negociación asisti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tercero que asiste a la partes no tiene poder de decis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confiden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proceso de informalidad relativa y flex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proceso creativo en cuanto a la adopción de la solución del confli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extrajudicial, bilateral y no asistido, destinad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 par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ire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, ya que si bien se celebra fuera del proceso, se debe poner en conocimiento del tribuna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no regulado sistemáticamente en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s interpretaciones respecto al requisito: “Pasada ante tribunal competente”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. Mario Mosquera: debe existir constancia de la agregación material del avenimiento en el expediente. No se requiere la aprobación del tribunal, basta una resolución “téngase presente”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. Colombo: se requiere aprob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nflicto externo de intereses de relevancia juríd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nflicto externo de intereses sin relevancia jurídic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facultades especi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venimiento pasado ante tribunal competente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asistido, destinad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, pero se critica que no lo es puramente ya que supone la existencia de un proceso y de la actividad del jue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asistido. El juez propone bases de arreglo. Sus opiniones no lo inhabilitan para seguir conociendo y resolver el confli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partir de la Ley 19.334 del 7 de Octubre de 1994, en los juicios civiles, salvo las excepciones legale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juez está obligado a llamar a las partes a conciliación, después del período de discusión y antes de la recepción de la causa a prueba. El juez puede además llamar a conciliación en cualquier estado del juicio, evacuada la contestación de la deman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de en forma obligatoria en el juicio lab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de respecto de las acciones civiles ante los juzgados de policía loc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los delitos de injuria y calumn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los delitos de acción penal privada, art. 404 del NCP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. Restricciones: solo versa respecto de las pretensiones y contrapretensiones hechas valer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se celebra ante el juez en un acta que deberán suscribir las partes que lo deseen, el juez y el secretario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. Título II del Libro II del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llamado a conciliación es un trámite o diligencia esencial en la primera instancia, cuya omisión hace procedente el recurso de casación en la forma en contra de la sentencia que se dicte. Arts 795 N 2 y 768 N 9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de facultades especiales para concili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cta de conciliación se considera como una sentencia ejecutoriada para todos los efectos legales (Art. 267 CPC) y produce el efecto de cosa juzgada (Art. 175 CPC) y constituye un título ejecutivo perfecto (Art. 434 N 1 CPC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no asistido, celebrado entre el fiscal y el imputado dentro del nuevo proceso penal; que requiere ser homologado por el juez de garantía y que se celebra con el fin de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spender el procedimiento 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ucir al término del litigio penal pendiente respecto de un delito de acción penal pública en caso de cumplirse los requisitos establecidos en la resolución que concede el benefi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 de relevancia juríd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quellos que se generan cuando un sujeto, con su acción u omision, produce como resultado el quebrantamiento del ordenamiento jurídico (sea una norma jurídica imperativa, prohibitiva o permisiva).  Sinónimo de litig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homologado, es el juez quien basado en el acuerdo fija las condi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 destinado a suspender el procedimiento penal para luego una vez cumplidas las condiciones ponerle térmi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el juez de garantía puede decretar la suspensión sólo si se acuerda en una audiencia celebrada ante el juez por el fiscal y el imputa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: en cuanto a su procedencia, el procedimiento que debe llevarse a cabo, las medidas de seguridad que se pueden disponer y su du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no asistido, celebrado entre el imputado y la víctima dentro del nuevo sistema procesal penal, que requiere ser homologado por el juez de garantía y se celebra con el fin de convenir la reparación de las consecuencias por el delito y poner término al litigio penal pendiente respecto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 un delito que afectare bienes jurídicos disponibles de carácter patrimonial, consistiere en lesiones menos graves o en delitos culpos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o autocompositivo: acuerdo entre 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íctima y el imputado que requiere ser aprobado por el juez de garant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homologado, que debe ser aprobado por el jue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 entre l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íctima y el imputado . Solo se debe oír al fiscal, pero su presencia no es necesar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: destinado a poner término al proceso penal, mediante un sobreseimiento definitivo. Art. 242 NCP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ingue las acciones civi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requiere ser aprobado por el juez de garant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Heterocomposición: el Proc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aquel medio de solución de conflicto en el cual las partes acuden a un tercero, ya sea una persona individual o colegiada, quien se compromete o está obligada en razón de su oficio, luego de la tramitación de un proceso, a emitir una decisión para la solución de un conflicto, cuyo cumplimiento deberán acatar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 sin relevancia jurídica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quellos que se generan cuando un sujeto, con su accion u omision, produce como resultado el quebrantamiento de normas que no constituyen normas jurídicas, sino que normas de orden moral o socia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TIG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el conflicto de intereses externos de relevancia jurídica que requiere ser compuesto o resuelto para la mantención de la paz so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 el conflicto de intereses caracterizado por la existencia de la pretension de uno de los interesados y la resistencia de otro u otros a satisfacer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DE SOLUCION DE LOS CONFLICT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Autotutela o Autodefen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Autocomposi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Heterecomposi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34:18Z</dcterms:modified>
  <cp:revision>100</cp:revision>
  <dc:subject/>
  <dc:title>Inter-American Convention: Dead or Alive?</dc:title>
</cp:coreProperties>
</file>