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36B2-D47D-49B1-99C6-D93F97B35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26F6-00BE-416C-A8D5-0CA1BC606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00DB-089B-4C74-A067-E6D635A69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0E1A-9E94-4569-A91C-A03C632CF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C988D-A4CD-4B51-B6A4-A7D9CC3DB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32606-AD51-437D-8FCA-092979BC0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9C1B0-6ADC-4396-BFB0-10A553295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180C7-3B9A-496A-897E-F018F004C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C06F4-07C5-4C3F-B0B0-80EDA3D05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50505-633B-4042-9A46-D21348133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29A5D-864E-4B55-9F9E-A9D18B057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99ED-3D56-43FC-BA0D-388969418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B5CBF-2527-46CD-A6E4-E98E0096A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AED54-D0BF-4F9E-8666-561DAA89B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CDB02-3AC2-4231-9239-1D65C5B6D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4A0A8-5D03-4622-B02D-1FEFF8E91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38278-34FC-4AE6-B0FC-AF77E8F25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2D82-C0FC-4B5A-8E7B-8ECFD2458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9691-38C0-46D1-BD88-BAC3C8FDC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AD7D-5022-4E18-A4F2-21D5D2E35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60D5-D017-4D0C-A4A3-6AA9D2F84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A875-6E13-40FC-AE46-4B9F5336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BE3B-B2CF-4ECC-968D-4671146A2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081D-D17E-4122-8073-DED45D4C2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24EF9-5918-48E0-9CA8-95A944A501DD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52021-1983-4266-82D3-17A21B7050B3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s Organos Jurisdiccionales o Tribunales de Justici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Concepto: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Son aquellos órganos que conocen y resuelven, con eficacia de cosa juzgada, los conflictos jurídicos que se generan entre las partes, en el orden temporal, y generalmente, dentro del territorio de la Repúblic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ARE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Estudiar artículos 73 a 80 de la CP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s Organos Jurisdiccionales o Tribunales de Justici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Clasificacione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1.- Según su naturaleza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1.1.- Tribunales Ordinarios: son aquellos establecidos en el inciso segundo del Art. 5 del COT y en los Títulos III, IV, V y VI del COT y que están sujetos a un principio de jerarquía o dependencia disciplinaria entre ello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s Organos Jurisdiccionales o Tribunales de Justici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600" spc="-1" strike="noStrike">
                <a:solidFill>
                  <a:srgbClr val="ffffcc"/>
                </a:solidFill>
                <a:latin typeface="Times New Roman"/>
              </a:rPr>
              <a:t>Jerarquías (depende del nivel de subordinación): jueces de letras, Cortes de Apelaciones y Corte Suprema. </a:t>
            </a:r>
            <a:r>
              <a:rPr b="0" lang="es-CL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Categor</a:t>
            </a:r>
            <a:r>
              <a:rPr b="0" lang="es-CL" sz="3600" spc="-1" strike="noStrike">
                <a:solidFill>
                  <a:srgbClr val="ffffcc"/>
                </a:solidFill>
                <a:latin typeface="Times New Roman"/>
              </a:rPr>
              <a:t>ías: (depende del rango de competencia): jueces de letras de comuna o agrupación de comunas,  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 juzgado de asiento de Corte de Apelaciones, etc,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s Organos Jurisdiccionales o Tribunales de Justici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1.2.- Tribunales arbitrales: aquellos constituidos por los jueces árbitros, esto es, aquellos designados por las partes, por la autoridad judicial en subsidio, o en determinados casos, por la ley o por la voluntad unilateral del testador, y para la resolución de un asunto litigioso. (Art. 222 COT). Diferencias con los tribunales ordinarios. (fuente e imperio).Importanci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s Organos Jurisdiccionales o Tribunales de Justici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1.3.- Tribunales Especiales: aquellos establecidos por ley para juzgar a determinadas personas (fuero personal)  o para resolver determinadas materias (fuero real). Ej. tribunales militares, Contraloría en el juicio de cuenta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s Organos Jurisdiccionales o Tribunales de Justici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2.- </a:t>
            </a:r>
            <a:r>
              <a:rPr b="0" lang="es-CL" sz="3600" spc="-1" strike="noStrike">
                <a:solidFill>
                  <a:srgbClr val="ffffcc"/>
                </a:solidFill>
                <a:latin typeface="Times New Roman"/>
              </a:rPr>
              <a:t>Según su 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composición: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2.1.- T. Unipersonales: aquellos constituídos por una sola person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2.2.- T. Colegiados: aquellos constituídos por varias persona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Ventajas/Desventaj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En Chile: sistema mixto. Ref. Procesal Pena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s Organos Jurisdiccionales o Tribunales de Justici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3.- Según la extensión de la competencia: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3.1.- T. de Jurisdicción común: aquellos que tienen competencia para conocer toda clase de asuntos, cualquiera sea su naturaleza, ej, civiles, penales, del trabajo, etc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3.2.- T. de Jurisdicción Especial: aquellos que tienen competencia para conocer determinada clase de asuntos, con exclusión de otro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s Organos Jurisdiccionales o Tribunales de Justici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4.- Según su estabilidad o permanencia en el tiempo: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4.1.- T. Permanente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4.2.- T. Accidentales o de Excepción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l Jurado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Concepto:  es la reunión de ciudadanos, que no pertenecen a los jueces permanentes, y que son llamados por ley transitoriamente a administrar justicia, haciendo declaración según se convicción, sobre los hechos objeto de la contienda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1T06:10:07Z</dcterms:created>
  <dc:creator>Alvaro Orellana Torres</dc:creator>
  <dc:description/>
  <dc:language>en-US</dc:language>
  <cp:lastModifiedBy>lucarna21</cp:lastModifiedBy>
  <dcterms:modified xsi:type="dcterms:W3CDTF">2005-09-21T16:42:19Z</dcterms:modified>
  <cp:revision>367</cp:revision>
  <dc:subject/>
  <dc:title>Inter-American Convention: Dead or Alive?</dc:title>
</cp:coreProperties>
</file>