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A3AC-C4C7-412D-A875-A9B96233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993A-1D00-4DA3-B550-8DB44DE1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6E6D-C871-4686-A1E6-B164B0D6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4623-53AB-4160-8D26-AA8879E3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A4ED-A48F-477F-9D71-82433D3D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AF24-3FD5-491F-ABDF-F02DAC4A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031D-D29E-4335-9A38-D58B4406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3ECE-EAA0-4D4B-9C6E-9EF16FF7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1F29-1C79-4133-B4A5-CD09B1FF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93B8-F424-43B3-B7F2-1C9DAAEF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3E3B-4092-437D-8EAC-0FDDEA2D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1A58-15AD-4740-A1F5-271DC672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1606-07F2-4167-BA41-12E6C78B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5030-38D1-494D-97E2-A8B80CCB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B6BC-A5BE-4CD5-A999-EE4D0902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9081-ED22-40DC-94B8-E5143E15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33D0-3B23-4111-9B3A-824F685B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EE88-F8C8-4ACE-9045-A3CA9C5F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90EB-58EC-4177-81E3-5F963444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FFF7-66C9-450A-B4F0-1A931064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869-458C-495A-95C3-1E01A004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79AD-92C1-46E3-B43F-CCD97683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753E-F12D-407B-9FD2-4E57AE79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349D-00B0-4F99-8EBF-3285B226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6737-C3B5-4264-8431-40C445000D9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E89E-08A1-432B-95C6-306B4916488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Organos Jurisdiccionales o Tribunales de Justi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Concepto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Son aquellos órganos que conocen y resuelven, con eficacia de cosa juzgada, los conflictos jurídicos que se generan entre las partes, en el orden temporal, y generalmente, dentro del territorio de la Repúblic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ARE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Estudiar artículos 73 a 80 de la CP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Organos Jurisdiccionales o Tribunales de Justi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Clasificacione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1.- Según su naturalez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1.1.- Tribunales Ordinarios: son aquellos establecidos en el inciso segundo del Art. 5 del COT y en los Títulos III, IV, V y VI del COT y que están sujetos a un principio de jerarquía o dependencia disciplinaria entre ell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Organos Jurisdiccionales o Tribunales de Justi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Jerarquías (depende del nivel de subordinación): jueces de letras, Cortes de Apelaciones y Corte Suprema. 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Categor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ías: (depende del rango de competencia): jueces de letras de comuna o agrupación de comunas,  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 juzgado de asiento de Corte de Apelaciones, etc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Organos Jurisdiccionales o Tribunales de Justi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1.2.- Tribunales arbitrales: aquellos constituidos por los jueces árbitros, esto es, aquellos designados por las partes, por la autoridad judicial en subsidio, o en determinados casos, por la ley o por la voluntad unilateral del testador, y para la resolución de un asunto litigioso. (Art. 222 COT). Diferencias con los tribunales ordinarios. (fuente e imperio).Importanc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Organos Jurisdiccionales o Tribunales de Justi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1.3.- Tribunales Especiales: aquellos establecidos por ley para juzgar a determinadas personas (fuero personal)  o para resolver determinadas materias (fuero real). Ej. tribunales militares, Contraloría en el juicio de cuent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Organos Jurisdiccionales o Tribunales de Justi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2.- 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Según su 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composición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2.1.- T. Unipersonales: aquellos constituídos por una sola person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2.2.- T. Colegiados: aquellos constituídos por varias person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Ventajas/Desventaj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En Chile: sistema mixto. Ref. Procesal Pen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Organos Jurisdiccionales o Tribunales de Justi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3.- Según la extensión de la competencia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3.1.- T. de Jurisdicción común: aquellos que tienen competencia para conocer toda clase de asuntos, cualquiera sea su naturaleza, ej, civiles, penales, del trabajo,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3.2.- T. de Jurisdicción Especial: aquellos que tienen competencia para conocer determinada clase de asuntos, con exclusión de otr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Organos Jurisdiccionales o Tribunales de Justi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4.- Según su estabilidad o permanencia en el tiempo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4.1.- T. Permanente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4.2.- T. Accidentales o de Excepció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 Jurad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Concepto:  es la reunión de ciudadanos, que no pertenecen a los jueces permanentes, y que son llamados por ley transitoriamente a administrar justicia, haciendo declaración según se convicción, sobre los hechos objeto de la contienda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1T06:10:07Z</dcterms:created>
  <dc:creator>Alvaro Orellana Torres</dc:creator>
  <dc:description/>
  <dc:language>en-US</dc:language>
  <cp:lastModifiedBy>lucarna21</cp:lastModifiedBy>
  <dcterms:modified xsi:type="dcterms:W3CDTF">2005-09-21T16:42:19Z</dcterms:modified>
  <cp:revision>367</cp:revision>
  <dc:subject/>
  <dc:title>Inter-American Convention: Dead or Alive?</dc:title>
</cp:coreProperties>
</file>