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CCC479-C2B7-4020-901E-80E9E2198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5A332-19AE-4761-AF54-2F3566336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5A61DF-5FB9-4E31-95D7-5C4E5487A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F0B28F-B510-467D-805D-58E7E4C158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A33CAB-B49E-4B50-B56A-AEF26333D7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BB3450-13AE-4DAB-8D84-3EC2167B4B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FBF3A-CFC5-4D38-B3E8-0C2204E41E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BFCF24-C82B-45B9-BF13-7BD3D6BF38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474E29-A652-4315-85AE-01095D552A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70A50D-431F-4C50-93D3-3EEB34DBC1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9E0FF-2269-46E6-B4D1-CAFEDC825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BBC34-10F7-4A25-B731-C2A42F5B0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663EE-A837-463F-B749-DD5DF0222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185C0-A8B3-4E83-9804-0D71B84D8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1275EC-6670-4FB2-928A-772F5781CE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4F0B80-2526-4B91-833B-6CE0C625AE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2FD3E3-4662-48F9-869E-803B33007B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32AAB-D8F8-4EA7-B3EE-1A81C21AB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E70F4-638A-421C-80D6-50A199291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9EA55-0272-4B22-8199-E25BECDDD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56BF6-A8CC-4A41-8C24-6FE625D2E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85F72-D2B5-4CDE-BEA8-63A738A57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D199D-6079-49A2-A54E-897F49CC3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477DC-8835-4440-915C-1AD3351BCD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9F5EF-E758-405B-9EAC-556AE0A078AC}"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FF3B6-8D0C-4528-B876-99C61E73128E}"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0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Concepto: </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Son aquellos conflictos jurídicos que se generan entre un particular y la Administración del Estado en cuanto ella actúa realizando actos de poder o de autoridad y no de carácter patrimonial regido por las normas generales.</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1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	</a:t>
            </a:r>
            <a:r>
              <a:rPr b="0" lang="es-CL" sz="2400" spc="-1" strike="noStrike">
                <a:solidFill>
                  <a:srgbClr val="ffffcc"/>
                </a:solidFill>
                <a:latin typeface="Times New Roman"/>
              </a:rPr>
              <a:t> </a:t>
            </a:r>
            <a:r>
              <a:rPr b="0" lang="es-CL" sz="3200" spc="-1" strike="noStrike">
                <a:solidFill>
                  <a:srgbClr val="ffffcc"/>
                </a:solidFill>
                <a:latin typeface="Times New Roman"/>
              </a:rPr>
              <a:t>Los Asuntos Contenciosos Administrativos generales son de la competencia de los tribunales ordinarios de justicia, los que aplican el procedimiento civil ordinario.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os Asuntos Contencioso Administrativos especiales son resueltos por el órgano jurisdiccional y bajo el procedimiento que la ley especial señal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2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	</a:t>
            </a:r>
            <a:r>
              <a:rPr b="0" lang="es-CL" sz="2400" spc="-1" strike="noStrike">
                <a:solidFill>
                  <a:srgbClr val="ffffcc"/>
                </a:solidFill>
                <a:latin typeface="Times New Roman"/>
              </a:rPr>
              <a:t> </a:t>
            </a:r>
            <a:r>
              <a:rPr b="0" lang="es-CL" sz="3200" spc="-1" strike="noStrike">
                <a:solidFill>
                  <a:srgbClr val="ffffcc"/>
                </a:solidFill>
                <a:latin typeface="Times New Roman"/>
              </a:rPr>
              <a:t>Ejemplos de Asuntos Contenciosos Administrativos especiales:</a:t>
            </a:r>
            <a:endParaRPr b="0" lang="en-US" sz="3200" spc="-1" strike="noStrike">
              <a:solidFill>
                <a:srgbClr val="ffffcc"/>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El recurso de reclamación por privación o desconocimiento de la nacionalidad (Art. 12 CPR).</a:t>
            </a:r>
            <a:endParaRPr b="0" lang="en-US" sz="3200" spc="-1" strike="noStrike">
              <a:solidFill>
                <a:srgbClr val="ffffcc"/>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Juicio de cuentas fiscales ante el Subcontralor Gral. de la República en primera instancia y ante el Contralor en segunda.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2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3200" spc="-1" strike="noStrike">
                <a:solidFill>
                  <a:srgbClr val="ffffcc"/>
                </a:solidFill>
                <a:latin typeface="Times New Roman"/>
              </a:rPr>
              <a:t>-Lo contencioso tributario ante el Director del Servicio de Impuestos Internos y en segunda instancia ante la C. de Apelaciones respectiva.</a:t>
            </a:r>
            <a:endParaRPr b="0" lang="en-US" sz="3200" spc="-1" strike="noStrike">
              <a:solidFill>
                <a:srgbClr val="ffffcc"/>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Reclamo de ilegalidad contra los actos de los alcaldes. (Art. 136 LOC Municipalidades).</a:t>
            </a:r>
            <a:endParaRPr b="0" lang="en-US" sz="3200" spc="-1" strike="noStrike">
              <a:solidFill>
                <a:srgbClr val="ffffcc"/>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o Contencioso sanitario (Art. 171 C. Sanitari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24"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Concepto legal:</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Son aquellos que según la ley requieren la intervención del juez y en que no se promueve contienda alguna entre partes.</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Art. 817 CPC.</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2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3200" spc="-1" strike="noStrike">
                <a:solidFill>
                  <a:srgbClr val="ffffcc"/>
                </a:solidFill>
                <a:latin typeface="Times New Roman"/>
              </a:rPr>
              <a:t>Elementos: </a:t>
            </a:r>
            <a:endParaRPr b="0" lang="en-US" sz="3200" spc="-1" strike="noStrike">
              <a:solidFill>
                <a:srgbClr val="ffffcc"/>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1.- Que la ley requiera la intervención del juez. Los Actos Judiciales No Contenciosos no son de la esencia de la función jurisdiccional. Art. 73 CPR, Art. 10 inc. 2 COT.</a:t>
            </a:r>
            <a:endParaRPr b="0" lang="en-US" sz="3200" spc="-1" strike="noStrike">
              <a:solidFill>
                <a:srgbClr val="ffffcc"/>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2.- Que no se promueva contienda alguna entre partes. </a:t>
            </a:r>
            <a:endParaRPr b="0" lang="en-US" sz="3200" spc="-1" strike="noStrike">
              <a:solidFill>
                <a:srgbClr val="ffffcc"/>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2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Regulación:</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Art. 2 COT.</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El Libro IV del CPC regula diversos procedimientos para la tramitación de los Asuntos Judiciales No Contenciosos.</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3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No se deben utilizar las expresiones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Jurisdicción Volutaria, ni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Jurisdicción No Contenciosa.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3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3200" spc="-1" strike="noStrike">
                <a:solidFill>
                  <a:srgbClr val="ffffcc"/>
                </a:solidFill>
                <a:latin typeface="Times New Roman"/>
              </a:rPr>
              <a:t>Conceptos doctrinarios: </a:t>
            </a:r>
            <a:endParaRPr b="0" lang="en-US" sz="3200" spc="-1" strike="noStrike">
              <a:solidFill>
                <a:srgbClr val="ffffcc"/>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Según el Prof. Mario Mosquera: Son aquella actividad del Estado, radicada en los tribunales en virtud de expresa disposición de ley, siempre que no surta conflicto por oposición de legítimo contradictor, para que éstos emitan un dictamen a petición de un interesado para cumplir con los diversos fines perseguidos con su establecimiento. </a:t>
            </a:r>
            <a:r>
              <a:rPr b="0" lang="es-CL"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34"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Según Couture: son procedimientos de carácter unilateral cumplidos ante los jueces con el objeto de  determinar auténticamente ciertas situaciones jurídicas o cumplir determinados requisitos impuestos por la ley, mediante declaraciones que no adquieren autoridad de cosa juzagada ni pueden causar perjuicio a terceros.</a:t>
            </a:r>
            <a:r>
              <a:rPr b="0" lang="es-CL" sz="2800" spc="-1" strike="noStrike">
                <a:solidFill>
                  <a:srgbClr val="ffffcc"/>
                </a:solidFill>
                <a:latin typeface="Times New Roman"/>
              </a:rPr>
              <a:t>	</a:t>
            </a:r>
            <a:endParaRPr b="0" lang="en-US" sz="28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3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3200" spc="-1" strike="noStrike">
                <a:solidFill>
                  <a:srgbClr val="ffffcc"/>
                </a:solidFill>
                <a:latin typeface="Times New Roman"/>
              </a:rPr>
              <a:t>Clasificación: </a:t>
            </a:r>
            <a:endParaRPr b="0" lang="en-US" sz="3200" spc="-1" strike="noStrike">
              <a:solidFill>
                <a:srgbClr val="ffffcc"/>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a) Destinados a proteger incapaces y/o completar la capacidad. Ej. Designación de tutores y curadores, autorización judicial para celebrar actos y contratos; tasación e inventario solemne.</a:t>
            </a:r>
            <a:endParaRPr b="0" lang="en-US" sz="3200" spc="-1" strike="noStrike">
              <a:solidFill>
                <a:srgbClr val="ffffcc"/>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b) Destinados a declarar solemnemente ciertos hechos o derechos (Posesión efectiva).</a:t>
            </a:r>
            <a:r>
              <a:rPr b="0" lang="es-CL"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 </a:t>
            </a:r>
            <a:r>
              <a:rPr b="0" lang="es-CL" sz="3200" spc="-1" strike="noStrike">
                <a:solidFill>
                  <a:srgbClr val="ffffcc"/>
                </a:solidFill>
                <a:latin typeface="Times New Roman"/>
              </a:rPr>
              <a:t>La Administración del Estado en el desempeño de sus funciones realiza:</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1.-  Actos de autoridad  o de poder respecto de los ciudadano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2.- Actos equivalentes a los de un particular, ejemplo, arrendamiento o compra de una propiedad raíz.</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3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600" spc="-1" strike="noStrike">
                <a:solidFill>
                  <a:srgbClr val="ffffcc"/>
                </a:solidFill>
                <a:latin typeface="Times New Roman"/>
              </a:rPr>
              <a:t>c) Destinados a autentificar ciertos actos o situaciones jurídicas (inventario solemne y tasación).</a:t>
            </a:r>
            <a:r>
              <a:rPr b="0" lang="es-CL" sz="3600" spc="-1" strike="noStrike">
                <a:solidFill>
                  <a:srgbClr val="ffffcc"/>
                </a:solidFill>
                <a:latin typeface="Times New Roman"/>
              </a:rPr>
              <a:t>	</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cc"/>
                </a:solidFill>
                <a:latin typeface="Times New Roman"/>
              </a:rPr>
              <a:t>	</a:t>
            </a:r>
            <a:r>
              <a:rPr b="0" lang="es-CL" sz="3600" spc="-1" strike="noStrike">
                <a:solidFill>
                  <a:srgbClr val="ffffcc"/>
                </a:solidFill>
                <a:latin typeface="Times New Roman"/>
              </a:rPr>
              <a:t>d) Destinados a evitar fraudes. (insinuación de donaciones).</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4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Características: </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a) No se promueve conflicto.</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b) Su conocimiento corresponde a los tribunales solo cuando hay texto expreso de ley que requiera su intervención.</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c) No se considera el fuero personal de los interesados para determinar la competencia del tribunal. (Art. 827 CPC).</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4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d) Conocen en primera instancia los jueces de letras (salvo caso Art. 45 N2 COT)</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e) Se aplica regla especial y a falta de ley se aplica la regla general del domicilio del interesado (Art. 134 COT) No es procedente la prórroga de la competencia.</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f) Se aplica el procedimiento especial, y a falta de éste el procedimiento general.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44"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Se resuelve de plano si la ley no dice que se debe obrar con conocimiento de causa. (Art. 824 y 818 CPC), o bien</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Se resuelve con conocimiento de causa si así lo ordena la ley. En este caso los antecedentes son proporcionados al tribunal mediante informaciones sumarias.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4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4000"/>
          </a:bodyPr>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3200" spc="-1" strike="noStrike">
                <a:solidFill>
                  <a:srgbClr val="ffffcc"/>
                </a:solidFill>
                <a:latin typeface="Times New Roman"/>
              </a:rPr>
              <a:t>Información sumaria es la prueba de cualquier especie rendida:</a:t>
            </a:r>
            <a:endParaRPr b="0" lang="en-US" sz="3200" spc="-1" strike="noStrike">
              <a:solidFill>
                <a:srgbClr val="ffffcc"/>
              </a:solidFill>
              <a:latin typeface="Times New Roman"/>
            </a:endParaRPr>
          </a:p>
          <a:p>
            <a:pPr marL="572760" indent="-572760">
              <a:lnSpc>
                <a:spcPct val="90000"/>
              </a:lnSpc>
              <a:spcBef>
                <a:spcPts val="799"/>
              </a:spcBef>
              <a:buClr>
                <a:srgbClr val="ffffcc"/>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Sin notificación e intervención de contradictor.</a:t>
            </a:r>
            <a:endParaRPr b="0" lang="en-US" sz="3200" spc="-1" strike="noStrike">
              <a:solidFill>
                <a:srgbClr val="ffffcc"/>
              </a:solidFill>
              <a:latin typeface="Times New Roman"/>
            </a:endParaRPr>
          </a:p>
          <a:p>
            <a:pPr marL="572760" indent="-572760">
              <a:lnSpc>
                <a:spcPct val="90000"/>
              </a:lnSpc>
              <a:spcBef>
                <a:spcPts val="799"/>
              </a:spcBef>
              <a:buClr>
                <a:srgbClr val="ffffcc"/>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Sin previo señalamiento de término probatorio (Art. 817 CPC). </a:t>
            </a:r>
            <a:r>
              <a:rPr b="0" lang="es-CL" sz="3200" spc="-1" strike="noStrike">
                <a:solidFill>
                  <a:srgbClr val="ffffcc"/>
                </a:solidFill>
                <a:latin typeface="Times New Roman"/>
              </a:rPr>
              <a:t>	</a:t>
            </a:r>
            <a:endParaRPr b="0" lang="en-US" sz="3200" spc="-1" strike="noStrike">
              <a:solidFill>
                <a:srgbClr val="ffffcc"/>
              </a:solidFill>
              <a:latin typeface="Times New Roman"/>
            </a:endParaRPr>
          </a:p>
          <a:p>
            <a:pPr marL="572760" indent="-572760">
              <a:lnSpc>
                <a:spcPct val="90000"/>
              </a:lnSpc>
              <a:spcBef>
                <a:spcPts val="799"/>
              </a:spcBef>
              <a:buClr>
                <a:srgbClr val="ffffcc"/>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El tribunal puede decretar todas las diligencias informativas que estime convenientes (Art. 820 CPC).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4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609480" indent="-609480">
              <a:spcBef>
                <a:spcPts val="799"/>
              </a:spcBef>
              <a:buClr>
                <a:srgbClr val="ffffcc"/>
              </a:buClr>
              <a:buFont typeface="Times New Roman"/>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El tribunal aprecia las pruebas prudencialmente conforme a un sistema de apreciación judicial y no de prueba legal o tasada. (Art. 819 CPC). </a:t>
            </a:r>
            <a:endParaRPr b="0" lang="en-US" sz="3200" spc="-1" strike="noStrike">
              <a:solidFill>
                <a:srgbClr val="ffff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e)</a:t>
            </a:r>
            <a:r>
              <a:rPr b="0" lang="es-CL" sz="3200" spc="-1" strike="noStrike">
                <a:solidFill>
                  <a:srgbClr val="ffffcc"/>
                </a:solidFill>
                <a:latin typeface="Times New Roman"/>
              </a:rPr>
              <a:t>	</a:t>
            </a:r>
            <a:r>
              <a:rPr b="0" lang="es-CL" sz="3200" spc="-1" strike="noStrike">
                <a:solidFill>
                  <a:srgbClr val="ffffcc"/>
                </a:solidFill>
                <a:latin typeface="Times New Roman"/>
              </a:rPr>
              <a:t>La sentencia debe reunir las menciones del Art. 826 CPC, y proceden los recusos de apelación y casació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5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9000"/>
          </a:bodyPr>
          <a:p>
            <a:pPr marL="603360" indent="-603360">
              <a:lnSpc>
                <a:spcPct val="90000"/>
              </a:lnSpc>
              <a:spcBef>
                <a:spcPts val="799"/>
              </a:spcBef>
              <a:buClr>
                <a:srgbClr val="ffffcc"/>
              </a:buClr>
              <a:buFont typeface="Times New Roman"/>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La sentencia definitiva no produce el efecto de cosa juzgada, sino el desasimiento del tribunal. El tribunal no puede modificar la sentencia dentro del procedimiento.</a:t>
            </a:r>
            <a:endParaRPr b="0" lang="en-US" sz="3200" spc="-1" strike="noStrike">
              <a:solidFill>
                <a:srgbClr val="ffffcc"/>
              </a:solidFill>
              <a:latin typeface="Times New Roman"/>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as resoluciones afirmativas pueden revocarse o modificarse con tal que hayan veriado las circunstancias y con tal que esté pendiente su ejecución. </a:t>
            </a:r>
            <a:r>
              <a:rPr b="0" lang="es-CL"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tos  Judiciales No Contenciosos</a:t>
            </a:r>
            <a:endParaRPr b="0" lang="en-US" sz="4400" spc="-1" strike="noStrike">
              <a:solidFill>
                <a:srgbClr val="ffcc00"/>
              </a:solidFill>
              <a:latin typeface="Times New Roman"/>
            </a:endParaRPr>
          </a:p>
        </p:txBody>
      </p:sp>
      <p:sp>
        <p:nvSpPr>
          <p:cNvPr id="15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cc"/>
                </a:solidFill>
                <a:latin typeface="Times New Roman"/>
              </a:rPr>
              <a:t>	</a:t>
            </a:r>
            <a:r>
              <a:rPr b="0" lang="es-CL" sz="3600" spc="-1" strike="noStrike">
                <a:solidFill>
                  <a:srgbClr val="ffffcc"/>
                </a:solidFill>
                <a:latin typeface="Times New Roman"/>
              </a:rPr>
              <a:t>Las resoluciones negativas pueden revocarse o modificarse si varían las circunstancias. (Art. 821 CPC).</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04"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os elementos de los Asuntos Contenciosos </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Administrativos son:</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1.- La existencia de un conflicto jurídico entre la Administración del Estado y un particular.</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2.- Que el conflicto se genere con motivo de un acto de poder o autoridad de la Administración.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0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	</a:t>
            </a:r>
            <a:r>
              <a:rPr b="0" lang="es-CL" sz="3200" spc="-1" strike="noStrike">
                <a:solidFill>
                  <a:srgbClr val="ffffcc"/>
                </a:solidFill>
                <a:latin typeface="Times New Roman"/>
              </a:rPr>
              <a:t>El acto de poder de la autoridad puede dar origen a un conflicto cuando:</a:t>
            </a:r>
            <a:endParaRPr b="0" lang="en-US" sz="3200" spc="-1" strike="noStrike">
              <a:solidFill>
                <a:srgbClr val="ffffcc"/>
              </a:solidFill>
              <a:latin typeface="Times New Roman"/>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2.1.- Es contrario a la CPR o a la ley.</a:t>
            </a:r>
            <a:endParaRPr b="0" lang="en-US" sz="3200" spc="-1" strike="noStrike">
              <a:solidFill>
                <a:srgbClr val="ffffcc"/>
              </a:solidFill>
              <a:latin typeface="Times New Roman"/>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2.2.- Es ejercido fuera de la competencia de la Administración.</a:t>
            </a:r>
            <a:endParaRPr b="0" lang="en-US" sz="3200" spc="-1" strike="noStrike">
              <a:solidFill>
                <a:srgbClr val="ffffcc"/>
              </a:solidFill>
              <a:latin typeface="Times New Roman"/>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2.3.-Es ejercido dentro de la competencia de la Administración, pero en forma abusiva.</a:t>
            </a:r>
            <a:endParaRPr b="0" lang="en-US" sz="3200" spc="-1" strike="noStrike">
              <a:solidFill>
                <a:srgbClr val="ffffcc"/>
              </a:solidFill>
              <a:latin typeface="Times New Roman"/>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2.4.- Consiste en la falta de servicio de la Administración Pública.</a:t>
            </a:r>
            <a:r>
              <a:rPr b="0" lang="es-CL" sz="3200" spc="-1" strike="noStrike">
                <a:solidFill>
                  <a:srgbClr val="ffffcc"/>
                </a:solidFill>
                <a:latin typeface="Times New Roman"/>
              </a:rPr>
              <a:t>	</a:t>
            </a:r>
            <a:r>
              <a:rPr b="0" lang="es-CL"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0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3600" spc="-1" strike="noStrike">
                <a:solidFill>
                  <a:srgbClr val="ffffcc"/>
                </a:solidFill>
                <a:latin typeface="Times New Roman"/>
              </a:rPr>
              <a:t>3.- Que deba resolverse mediante la actividad jurisdiccional</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3200" spc="-1" strike="noStrike">
                <a:solidFill>
                  <a:srgbClr val="ffffcc"/>
                </a:solidFill>
                <a:latin typeface="Times New Roman"/>
              </a:rPr>
              <a:t>Mecanismos de solución de estos conflictos:</a:t>
            </a:r>
            <a:endParaRPr b="0" lang="en-US" sz="3200" spc="-1" strike="noStrike">
              <a:solidFill>
                <a:srgbClr val="ffffcc"/>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1.- Por la propia Administración;</a:t>
            </a:r>
            <a:endParaRPr b="0" lang="en-US" sz="3200" spc="-1" strike="noStrike">
              <a:solidFill>
                <a:srgbClr val="ffffcc"/>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2.- Por los tribunales ordinarios de justicia; o</a:t>
            </a:r>
            <a:endParaRPr b="0" lang="en-US" sz="3200" spc="-1" strike="noStrike">
              <a:solidFill>
                <a:srgbClr val="ffffcc"/>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3.- Por Tribunales Contencioso Administrativos que sean independientes de la Administración y del Poder Judici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1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	</a:t>
            </a:r>
            <a:r>
              <a:rPr b="0" lang="es-CL" sz="3200" spc="-1" strike="noStrike">
                <a:solidFill>
                  <a:srgbClr val="ffffcc"/>
                </a:solidFill>
                <a:latin typeface="Times New Roman"/>
              </a:rPr>
              <a:t>Sistema en Chile para resolver estos asuntos:</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1.- CPR 1925 ordenaba crear los Tribunales Administrativos para resolver estos asuntos.</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os tribunales nunca fueron creados y los tribunales ordinarios interpretaron que no existiendo estos tribunales, ellos no podían inmiscuirse en estos asuntos.</a:t>
            </a:r>
            <a:r>
              <a:rPr b="0" lang="es-CL"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14"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imes New Roman"/>
              </a:rPr>
              <a:t>	</a:t>
            </a:r>
            <a:r>
              <a:rPr b="0" lang="es-CL" sz="2400" spc="-1" strike="noStrike">
                <a:solidFill>
                  <a:srgbClr val="ffffcc"/>
                </a:solidFill>
                <a:latin typeface="Times New Roman"/>
              </a:rPr>
              <a:t> </a:t>
            </a:r>
            <a:r>
              <a:rPr b="0" lang="es-CL" sz="3200" spc="-1" strike="noStrike">
                <a:solidFill>
                  <a:srgbClr val="ffffcc"/>
                </a:solidFill>
                <a:latin typeface="Times New Roman"/>
              </a:rPr>
              <a:t>Ver art. 4 COT, Repertorio de Legislación y Jurisprudencia.</a:t>
            </a:r>
            <a:endParaRPr b="0" lang="en-US" sz="3200" spc="-1" strike="noStrike">
              <a:solidFill>
                <a:srgbClr val="ffffcc"/>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2.- CPR 1980. Art. 38 y 79, ordenaban crear los tribunales contencioso administrativos mediante ley. Además estableció claramente la responsabilidad del Estado por actos que causen daño.Varió la interpretación de los tribunales ordinarios, los que pasaron a conocer estos asunto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suntos Contenciosos Administrativos</a:t>
            </a:r>
            <a:endParaRPr b="0" lang="en-US" sz="4400" spc="-1" strike="noStrike">
              <a:solidFill>
                <a:srgbClr val="ffcc00"/>
              </a:solidFill>
              <a:latin typeface="Times New Roman"/>
            </a:endParaRPr>
          </a:p>
        </p:txBody>
      </p:sp>
      <p:sp>
        <p:nvSpPr>
          <p:cNvPr id="11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3.- Reforma de la CPR, mediante Ley 18.825 del 17 de Agosto de 1989, eliminó las palabras contencioso administrativos en los arts. 38 y 79 de la CPR. Hoy no cabe duda que le corresponde a los tribunales ordinarios conocer y resolver los asuntos contenciosos administrativo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06:10:07Z</dcterms:created>
  <dc:creator>Alvaro Orellana Torres</dc:creator>
  <dc:description/>
  <dc:language>en-US</dc:language>
  <cp:lastModifiedBy>lucarna21</cp:lastModifiedBy>
  <dcterms:modified xsi:type="dcterms:W3CDTF">2005-09-21T16:38:41Z</dcterms:modified>
  <cp:revision>355</cp:revision>
  <dc:subject/>
  <dc:title>Inter-American Convention: Dead or Alive?</dc:title>
</cp:coreProperties>
</file>