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D61-5D95-4817-8F26-57595DC5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7D1-91B8-4254-9AF2-970344F8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56F-8190-4A8D-8D36-6256C8DF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61F-8BC1-490E-B0B4-8F4B4129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7684-28B2-41BF-B0EB-8724E4B9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BA5B-184A-40C7-8D0D-89CEC551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F07E-D623-476A-A4DF-F87D3FA9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3EE7-23F7-42F5-9BFD-45BF33C4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5737-5EB6-4218-8B64-1F94CFA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CAC0-2108-4C51-B0E5-ECF88B03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C579-DE19-4F2C-B254-83E2BDD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5D8-54CB-4102-A02B-10BC6403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ED5-767D-477A-948F-7E7CE58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6FB3-A359-4BD1-8A3E-8BC11576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BB9-FFDE-4E9F-A9DA-8FBF64D0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12D9-4CAB-4D13-A629-D51AD509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12D8-88BF-4F2F-9A6A-D7A628BD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875-361B-4E10-BC77-7500B3C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A9E-CA2A-4827-852D-CEC1E56D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DB9-A16D-4633-9040-C181A153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079-3716-4FD4-A70D-7DF40943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687-A788-4368-960F-D5D6E74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194-072E-4E01-920C-F1D1820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669-37DE-45FE-869D-8DB622F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0064-0CA9-4399-B776-FF23ACCA329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564E-6101-498E-883B-65F24D86ECC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 pena total o parcial cumplida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en el extranjero se computará a la que pudiere imponerse en Chile si fueren de igual naturaleza o se atenuará la pena. (Art. 3 inc. 3 CPP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4.- La Sentencia penal extranjera vale en Chile para determinar la calidad de reincidente o de delincuente habitual.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B. La sentencia penal extranjera absolutoria respecto de delitos cometidos en Chile, en el extranjero, o en los demás lugares sometidos a la jurisdicción chilena no produce el efecto de cosa juzgada para impedir el juzgamiento de ese delito por los tribunales chilen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n el NCPP (Art. 13 NCP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Tienen valor en Chile las sentencias penales extranjeras tanto condenatorias como absolutor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Excepcionalmente, una persona juzgada en el extranjero puede ser nuevamente juzgada en Chile, en los siguientes ca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1.- Si el juzgamiento en el extranjero hubiere obedecido al propósito de sustraer al individuo de su responsabilidad penal por delitos de competencia de los tribunales nacionales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2.- Cuando el imputado lo solicitare expresamente si el proceso respectivo no hubiere sido instruido con las garantías de un debido proceso o lo hubiere sido en términos que revelaren falta de intención de juzgarle seriamen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n estos casos, la pena que se hubiere cumplido en el extranjero se computará en Chile si fuere condenado también en Chil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La ejecución de las sentencias penales extranjeras se sujetará a los tratados internacionales ratificados por Chile y que se encuentren vige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5. La Sentencia Eclesiástica: No es un equivalente jurisdiccional, ya que la jurisdicción sólo se ejerce en el orden temp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Concepto: todo acto que sin haber emanado de la jurisdicción de los tribunales resuelve un conflicto jurídico con efectos equivalentes a los que produce una sentencia emanada de un órgano jurisdiccion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1. La Transacción: Art. 2460 C. Civil produce el efecto de cosa juzgada en última instancia y puede oponerse por vía de excepción de cosa juzgad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Produce la  acción de cosa juzgada en la medida que se celebre por escritura públic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 La Conciliación: el acta de Conciliación se estima como una sentencia ejecutoriada para todos los efectos legales. Art. 267 CPC y produce el efecto de cosa juzgada. Es título ejecutivo Art. 434 N 1 CP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 El Avenimiento: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Art. 434 N 3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 La Sentencia Extranjera: No es propiamente un equivalente jurisdiccional, ya que es una sentencia, sólo que de un tribunal extranjer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ara que una sentencia extranjera produzca efecto en Chile se requiere que se cumpla el trámite del Exequatu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l Exequatur es un trámite que se efectúa ante la Corte Suprema la que atenderá a los siguientes elementos para determinar si aplicar o no en Chile una sentencia extranjera (Arts 242, 243, 244 y 245 CPC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Los Tratados Interna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 Reciprocidad Interna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Principios de regularidad internacio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ceptada la eficacia de una Sentencia Extranjera en Chile produce el efecto de cosa juzgada, pudiendo exigirse su cumplimiento al tribunal a quien  habría correspondido conocer del negocio en primera o única instancia, si el juicio se hubiera promovido en Chile. Art. 251 CPC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. Sentencias penales extranjeras condenatorias, Art. 3 inc. 2 CPP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1.- No se ejecutan en Chile. 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- Las sentencias penales extranjeras condenatorias respecto de delitos cometidos en el extranjero que queden sometidos a l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risdicción chilena no producen el efecto de cosa juzgada para impedir el juzgamiento por los tribunales chilen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9:29:26Z</dcterms:created>
  <dc:creator>Carola Canelo</dc:creator>
  <dc:description/>
  <dc:language>en-US</dc:language>
  <cp:lastModifiedBy>lucarna21</cp:lastModifiedBy>
  <dcterms:modified xsi:type="dcterms:W3CDTF">2005-09-21T16:39:25Z</dcterms:modified>
  <cp:revision>1</cp:revision>
  <dc:subject/>
  <dc:title>Los Equivalentes Jurisdiccionales</dc:title>
</cp:coreProperties>
</file>