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B3539-F0B9-4FAA-B21B-B25F293F1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70A63-4CD0-49DA-ACC9-310C593BE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9F59B-CA4C-42DB-82C6-A8AE13E03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5235-0B7A-440D-BE3D-2E7880F40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DFB79-EF00-4DC8-B8BF-842CDD66F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98603-6219-4501-868B-F2FCB28E3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2A1E3-3EA6-40FA-8147-9313722DC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AEE8D-E3D5-49D0-B6CA-480BEE3E8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4501B-C3A3-4AFD-8F20-0AA34541E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89B7C-9DB0-42F0-96F1-6CD18F81D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02699-FB4C-4C4E-BFC3-8FFD9973F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C4925-39BF-477E-A063-A021325D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64C8D-A047-4CDA-939F-1DFFBC377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5D59A-3300-43B9-A910-3B81AB00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3A10A-DBDB-40D1-BF09-7AC90FFE1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43B7E-B84F-4C93-8D97-FCAEB7BE8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A386D-AA7C-4516-835D-A5DD4F599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66E70-D24D-408B-A43B-911BD2892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E6E3B-D888-486A-BFDB-6B1E59D5B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6FD8B-D227-49C8-B26F-CF70C58EC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C70FE-0770-427E-9823-C9E55769F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D5FB-3EF2-4F30-9CE4-DD8DB7FEC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8B1A-23D5-440D-B2F2-1CC30AE3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2E1B-41EE-44A2-9C8C-4DB18A3D1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BA22-B1C5-4339-9C59-14046504649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934B-CCF6-45CA-85A2-0F8434404932}"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Momentos Jurisdiccionales, Los Límites de la Jurisdicción y los Conflictos de Jurisdicción </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Jurisdicción de Equidad: </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ordinarios deben aplicarla a falta de ley que resuelva el conflicto. Arts. 73 CPR, 10 inc 2 COT, y 170 N 5 CPC.</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rbitros Arbitradores: Art. 223 COT, Art. 640 N 4 CPC, fallan obedeciendo a lo que su prudencia y la equidad le dictaren. No procede el Recurso de Casación en el Fon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Ejecución</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siste en “</a:t>
            </a:r>
            <a:r>
              <a:rPr b="0" lang="es-CL" sz="3600" spc="-1" strike="noStrike">
                <a:solidFill>
                  <a:srgbClr val="ffffcc"/>
                </a:solidFill>
                <a:latin typeface="Times New Roman"/>
              </a:rPr>
              <a:t>hacer ejecutar lo juzgado”.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Art. 73 CPR.</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Para ello, los tribunales pueden impartir órdenes directas a la fuerza pública para hacer cumplir sus resolucion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Ejecución</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 una Fase esencial en la actividad jurisdiccional, ya que permite la verdadera eficacia del ordenamiento jurídic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s posible que los actos materiales de cumplimiento se efectúen por órganos administrativos, ej. Sentencia privativa de libertad; pero el poder de hacer cumplir lo resuelto pertenece a los tribu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	</a:t>
            </a:r>
            <a:r>
              <a:rPr b="0" lang="es-CL" sz="3200" spc="-1" strike="noStrike">
                <a:solidFill>
                  <a:srgbClr val="ffffcc"/>
                </a:solidFill>
                <a:latin typeface="Times New Roman"/>
              </a:rPr>
              <a:t>Concepto: Los </a:t>
            </a:r>
            <a:r>
              <a:rPr b="0" lang="en-US" sz="3200" spc="-1" strike="noStrike">
                <a:solidFill>
                  <a:srgbClr val="ffffcc"/>
                </a:solidFill>
                <a:latin typeface="Times New Roman"/>
              </a:rPr>
              <a:t>Límites de la Jurisdicción</a:t>
            </a:r>
            <a:r>
              <a:rPr b="0" lang="es-CL" sz="3200" spc="-1" strike="noStrike">
                <a:solidFill>
                  <a:srgbClr val="ffffcc"/>
                </a:solidFill>
                <a:latin typeface="Times New Roman"/>
              </a:rPr>
              <a:t> son los factores que delimitan el ejercicio de la jurisdicci</a:t>
            </a:r>
            <a:r>
              <a:rPr b="0" lang="en-US" sz="3200" spc="-1" strike="noStrike">
                <a:solidFill>
                  <a:srgbClr val="ffffcc"/>
                </a:solidFill>
                <a:latin typeface="Times New Roman"/>
              </a:rPr>
              <a:t>ón.</a:t>
            </a:r>
            <a:endParaRPr b="0" lang="en-US" sz="3200" spc="-1" strike="noStrike">
              <a:solidFill>
                <a:srgbClr val="ffffcc"/>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iempo: En general la Jurisdicción</a:t>
            </a:r>
            <a:r>
              <a:rPr b="0" lang="es-CL" sz="3200" spc="-1" strike="noStrike">
                <a:solidFill>
                  <a:srgbClr val="ffffcc"/>
                </a:solidFill>
                <a:latin typeface="Times New Roman"/>
              </a:rPr>
              <a:t> es perpetua. </a:t>
            </a:r>
            <a:endParaRPr b="0" lang="en-US" sz="3200" spc="-1" strike="noStrike">
              <a:solidFill>
                <a:srgbClr val="ffffcc"/>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rPr>
              <a:t>Límite de edad: Arts. 77 y 8a transitoria CPR. </a:t>
            </a:r>
            <a:endParaRPr b="0" lang="en-US" sz="3200" spc="-1" strike="noStrike">
              <a:solidFill>
                <a:srgbClr val="ffffcc"/>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xcepci</a:t>
            </a:r>
            <a:r>
              <a:rPr b="0" lang="en-US" sz="3200" spc="-1" strike="noStrike">
                <a:solidFill>
                  <a:srgbClr val="ffffcc"/>
                </a:solidFill>
                <a:latin typeface="Times New Roman"/>
              </a:rPr>
              <a:t>ón,  es temporal para los árbitros y los tribunales unipersonales de excepción</a:t>
            </a:r>
            <a:r>
              <a:rPr b="0" lang="en-US" sz="2800" spc="-1" strike="noStrike">
                <a:solidFill>
                  <a:srgbClr val="ffffcc"/>
                </a:solidFill>
                <a:latin typeface="Times New Roman"/>
              </a:rPr>
              <a:t>. </a:t>
            </a: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pacio: </a:t>
            </a:r>
            <a:r>
              <a:rPr b="0" lang="en-US" sz="3200" spc="-1" strike="noStrike">
                <a:solidFill>
                  <a:srgbClr val="ffffcc"/>
                </a:solidFill>
                <a:latin typeface="Times New Roman"/>
              </a:rPr>
              <a:t>Límite interno: la competencia del tribunal.  Límite Externo: la Jurisdicción</a:t>
            </a:r>
            <a:r>
              <a:rPr b="0" lang="es-CL" sz="3200" spc="-1" strike="noStrike">
                <a:solidFill>
                  <a:srgbClr val="ffffcc"/>
                </a:solidFill>
                <a:latin typeface="Times New Roman"/>
              </a:rPr>
              <a:t> de otros Estad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Materia:  conflictos jur</a:t>
            </a:r>
            <a:r>
              <a:rPr b="0" lang="en-US" sz="3200" spc="-1" strike="noStrike">
                <a:solidFill>
                  <a:srgbClr val="ffffcc"/>
                </a:solidFill>
                <a:latin typeface="Times New Roman"/>
              </a:rPr>
              <a:t>ídicos del orden tempor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Persona: la Jurisdicción</a:t>
            </a:r>
            <a:r>
              <a:rPr b="0" lang="es-CL" sz="3200" spc="-1" strike="noStrike">
                <a:solidFill>
                  <a:srgbClr val="ffffcc"/>
                </a:solidFill>
                <a:latin typeface="Times New Roman"/>
              </a:rPr>
              <a:t> sólo puede ser ejercida por el tribunal que señale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Las Atribuciones de otros poderes del Estad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no pueden ejercer </a:t>
            </a:r>
            <a:r>
              <a:rPr b="0" lang="en-US" sz="3200" spc="-1" strike="noStrike">
                <a:solidFill>
                  <a:srgbClr val="ffffcc"/>
                </a:solidFill>
                <a:latin typeface="Times New Roman"/>
              </a:rPr>
              <a:t>Jurisdicción respecto de Estados Extranjeros, mandatarios extranjeros, organismos internacionales y de toda persona que goza de inmunidad de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 un </a:t>
            </a:r>
            <a:r>
              <a:rPr b="0" lang="en-US" sz="3200" spc="-1" strike="noStrike">
                <a:solidFill>
                  <a:srgbClr val="ffffcc"/>
                </a:solidFill>
                <a:latin typeface="Times New Roman"/>
              </a:rPr>
              <a:t>Límite al ejercicio de la Jurisdicción en virtud del cual los tribunales de un Estado no pueden ejercer Jurisdicción respecto de Estados extranjeros, los jefes de Estados Extranjeros, los agentes diplomáticos, los cónsules y las misiones especiales y organizaciones interna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Estados Extranjeros: Principio de igualdad soberana.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2.1 de la Carta de las Naciones Unida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ódigo de Derecho Internacional Privado, Arts. 333 y 334.</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Jefes de Estados Extranjeros: Art. 333 y 334 Código de Derecho Internacional Priv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gentes Diplomáticos: Art. 31 de la Convención de Viena sobre Relaciones Diplomáticas. El Estado acreditante puede renunciar a ella.</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37 aplica la inmunidad a los miembros de la familia del agente diplomático.</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Cónsules: Art. 43, la Convención de Viena sobre Relaciones Consulares y es renunciab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t>
            </a:r>
            <a:r>
              <a:rPr b="0" lang="en-US" sz="3200" spc="-1" strike="noStrike">
                <a:solidFill>
                  <a:srgbClr val="ffffcc"/>
                </a:solidFill>
                <a:latin typeface="Times New Roman"/>
              </a:rPr>
              <a:t>Conflictos de Jurisdicción</a:t>
            </a:r>
            <a:r>
              <a:rPr b="0" lang="es-CL" sz="3200" spc="-1" strike="noStrike">
                <a:solidFill>
                  <a:srgbClr val="ffffcc"/>
                </a:solidFill>
                <a:latin typeface="Times New Roman"/>
              </a:rPr>
              <a:t> Internacional:  conflicto entre un tribunal nacional y un tribunal extranjero por conocer y resolver un asunto determina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gula por las normas de los tratados internacionales y de Derecho Internacional Privado contenidas en el Código de Derecho Internacional Priv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Momentos Jurisdiccionales.</a:t>
            </a:r>
            <a:r>
              <a:rPr b="0" lang="es-CL" sz="4400" spc="-1" strike="noStrike">
                <a:solidFill>
                  <a:srgbClr val="ffcc00"/>
                </a:solidFill>
                <a:latin typeface="Times New Roman"/>
              </a:rPr>
              <a:t> Concepto</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Son las etapas o momentos de desenvolvimiento de la actividad jurisdic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el conocimiento, el juzgamiento y la ejecución de lo juzga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sagración constitucional Art. 73 CPR, Art. 1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t>
            </a:r>
            <a:r>
              <a:rPr b="0" lang="en-US" sz="3200" spc="-1" strike="noStrike">
                <a:solidFill>
                  <a:srgbClr val="ffffcc"/>
                </a:solidFill>
                <a:latin typeface="Times New Roman"/>
              </a:rPr>
              <a:t>Conflictos de Jurisdicción</a:t>
            </a:r>
            <a:r>
              <a:rPr b="0" lang="es-CL" sz="3200" spc="-1" strike="noStrike">
                <a:solidFill>
                  <a:srgbClr val="ffffcc"/>
                </a:solidFill>
                <a:latin typeface="Times New Roman"/>
              </a:rPr>
              <a:t> Nacional: entre tribunales y las autoridades políticas o administrativ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Son resueltos por el Senado los conflictos de </a:t>
            </a:r>
            <a:r>
              <a:rPr b="0" lang="en-US" sz="3200" spc="-1" strike="noStrike">
                <a:solidFill>
                  <a:srgbClr val="ffffcc"/>
                </a:solidFill>
                <a:latin typeface="Times New Roman"/>
              </a:rPr>
              <a:t>Jurisdicción</a:t>
            </a:r>
            <a:r>
              <a:rPr b="0" lang="es-CL" sz="3200" spc="-1" strike="noStrike">
                <a:solidFill>
                  <a:srgbClr val="ffffcc"/>
                </a:solidFill>
                <a:latin typeface="Times New Roman"/>
              </a:rPr>
              <a:t> entre las autoridades políticas o administrativas y los tribunales superiores de justicia. Art. 49 N 3,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200" spc="-1" strike="noStrike">
                <a:solidFill>
                  <a:srgbClr val="ffffcc"/>
                </a:solidFill>
                <a:latin typeface="Times New Roman"/>
              </a:rPr>
              <a:t>Por la Corte Suprema son resueltos los conflictos de </a:t>
            </a:r>
            <a:r>
              <a:rPr b="0" lang="en-US" sz="3200" spc="-1" strike="noStrike">
                <a:solidFill>
                  <a:srgbClr val="ffffcc"/>
                </a:solidFill>
                <a:latin typeface="Times New Roman"/>
              </a:rPr>
              <a:t>Jurisdicción</a:t>
            </a:r>
            <a:r>
              <a:rPr b="0" lang="es-CL" sz="3200" spc="-1" strike="noStrike">
                <a:solidFill>
                  <a:srgbClr val="ffffcc"/>
                </a:solidFill>
                <a:latin typeface="Times New Roman"/>
              </a:rPr>
              <a:t> entre las autoridades políticas o administrativas y los tribunales inferiores de justicia. (Art. 191 inc. 4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200" spc="-1" strike="noStrike">
                <a:solidFill>
                  <a:srgbClr val="ffffcc"/>
                </a:solidFill>
                <a:latin typeface="Times New Roman"/>
              </a:rPr>
              <a:t>Las Contiendas de Competencia: los conflictos entre los tribunales nacionales que se atribuyen competencia para conocer un asunto determin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ara distinguir claramente estas funciones hay que atender a las características de cada función:</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LEGISLATIVA </a:t>
            </a:r>
            <a:r>
              <a:rPr b="0" lang="es-CL" sz="2800" spc="-1" strike="noStrike">
                <a:solidFill>
                  <a:srgbClr val="ffffcc"/>
                </a:solidFill>
                <a:latin typeface="Times New Roman"/>
              </a:rPr>
              <a:t>	</a:t>
            </a:r>
            <a:r>
              <a:rPr b="0" lang="es-CL" sz="2800" spc="-1" strike="noStrike">
                <a:solidFill>
                  <a:srgbClr val="ffffcc"/>
                </a:solidFill>
                <a:latin typeface="Times New Roman"/>
              </a:rPr>
              <a:t>  F.JURISDICCIONAL</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la ley</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plica la ley</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norma general  </a:t>
            </a:r>
            <a:r>
              <a:rPr b="0" lang="es-CL" sz="2800" spc="-1" strike="noStrike">
                <a:solidFill>
                  <a:srgbClr val="ffffcc"/>
                </a:solidFill>
                <a:latin typeface="Times New Roman"/>
              </a:rPr>
              <a:t>	</a:t>
            </a:r>
            <a:r>
              <a:rPr b="0" lang="es-CL" sz="2800" spc="-1" strike="noStrike">
                <a:solidFill>
                  <a:srgbClr val="ffffcc"/>
                </a:solidFill>
                <a:latin typeface="Times New Roman"/>
              </a:rPr>
              <a:t>  Dicta norma particular</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norma abstracta    Dicta norma concreta</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fecto gener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Efecto específico</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Autoridad Legislativa</a:t>
            </a:r>
            <a:r>
              <a:rPr b="0" lang="es-CL" sz="2800" spc="-1" strike="noStrike">
                <a:solidFill>
                  <a:srgbClr val="ffffcc"/>
                </a:solidFill>
                <a:latin typeface="Times New Roman"/>
              </a:rPr>
              <a:t>	</a:t>
            </a:r>
            <a:r>
              <a:rPr b="0" lang="es-CL" sz="2800" spc="-1" strike="noStrike">
                <a:solidFill>
                  <a:srgbClr val="ffffcc"/>
                </a:solidFill>
                <a:latin typeface="Times New Roman"/>
              </a:rPr>
              <a:t>  Tribunal</a:t>
            </a:r>
            <a:r>
              <a:rPr b="0" lang="es-CL" sz="2800" spc="-1" strike="noStrike">
                <a:solidFill>
                  <a:srgbClr val="ffffcc"/>
                </a:solidFill>
                <a:latin typeface="Times New Roman"/>
              </a:rPr>
              <a:t>	</a:t>
            </a: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F. LEGISLATIVA </a:t>
            </a:r>
            <a:r>
              <a:rPr b="0" lang="es-CL" sz="2800" spc="-1" strike="noStrike">
                <a:solidFill>
                  <a:srgbClr val="ffffcc"/>
                </a:solidFill>
                <a:latin typeface="Times New Roman"/>
              </a:rPr>
              <a:t>	</a:t>
            </a:r>
            <a:r>
              <a:rPr b="0" lang="es-CL" sz="2800" spc="-1" strike="noStrike">
                <a:solidFill>
                  <a:srgbClr val="ffffcc"/>
                </a:solidFill>
                <a:latin typeface="Times New Roman"/>
              </a:rPr>
              <a:t>  F.JURISDICCIONAL</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Se dicta luego de una</a:t>
            </a:r>
            <a:r>
              <a:rPr b="0" lang="es-CL" sz="2800" spc="-1" strike="noStrike">
                <a:solidFill>
                  <a:srgbClr val="ffffcc"/>
                </a:solidFill>
                <a:latin typeface="Times New Roman"/>
              </a:rPr>
              <a:t>	</a:t>
            </a:r>
            <a:r>
              <a:rPr b="0" lang="es-CL" sz="2800" spc="-1" strike="noStrike">
                <a:solidFill>
                  <a:srgbClr val="ffffcc"/>
                </a:solidFill>
                <a:latin typeface="Times New Roman"/>
              </a:rPr>
              <a:t> Se dicta en un solo acto</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serie de actos </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La ley es derogable</a:t>
            </a:r>
            <a:r>
              <a:rPr b="0" lang="es-CL" sz="2800" spc="-1" strike="noStrike">
                <a:solidFill>
                  <a:srgbClr val="ffffcc"/>
                </a:solidFill>
                <a:latin typeface="Times New Roman"/>
              </a:rPr>
              <a:t>	</a:t>
            </a:r>
            <a:r>
              <a:rPr b="0" lang="es-CL" sz="2800" spc="-1" strike="noStrike">
                <a:solidFill>
                  <a:srgbClr val="ffffcc"/>
                </a:solidFill>
                <a:latin typeface="Times New Roman"/>
              </a:rPr>
              <a:t> La sentencia es inmutable</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l acto administrativo</a:t>
            </a:r>
            <a:r>
              <a:rPr b="0" lang="es-CL" sz="2800" spc="-1" strike="noStrike">
                <a:solidFill>
                  <a:srgbClr val="ffffcc"/>
                </a:solidFill>
                <a:latin typeface="Times New Roman"/>
              </a:rPr>
              <a:t>	</a:t>
            </a:r>
            <a:r>
              <a:rPr b="0" lang="es-CL" sz="2800" spc="-1" strike="noStrike">
                <a:solidFill>
                  <a:srgbClr val="ffffcc"/>
                </a:solidFill>
                <a:latin typeface="Times New Roman"/>
              </a:rPr>
              <a:t>  La sentencia debe emanar</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mana de un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de un debido proceso</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rocedimient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l acto administrativo      La sentencia no es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s reclamable ante            reclamable frente a la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un tribun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dministració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Control Administrativo    Control por medio de lo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y Jurisdiccional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recursos</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Mutable</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Inmutabl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La administración hace</a:t>
            </a:r>
            <a:r>
              <a:rPr b="0" lang="es-CL" sz="2800" spc="-1" strike="noStrike">
                <a:solidFill>
                  <a:srgbClr val="ffffcc"/>
                </a:solidFill>
                <a:latin typeface="Times New Roman"/>
              </a:rPr>
              <a:t>	</a:t>
            </a:r>
            <a:r>
              <a:rPr b="0" lang="es-CL" sz="2800" spc="-1" strike="noStrike">
                <a:solidFill>
                  <a:srgbClr val="ffffcc"/>
                </a:solidFill>
                <a:latin typeface="Times New Roman"/>
              </a:rPr>
              <a:t>     Los tribunales ordenan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cumplir  sus actos              a las autoridades</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administrativas cumplir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las sentencias.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or regla general no          La sentencia debe ser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requieren ser fundadas       siempre fundada.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rincipio de Legalidad</a:t>
            </a:r>
            <a:r>
              <a:rPr b="0" lang="es-CL" sz="2800" spc="-1" strike="noStrike">
                <a:solidFill>
                  <a:srgbClr val="ffffcc"/>
                </a:solidFill>
                <a:latin typeface="Times New Roman"/>
              </a:rPr>
              <a:t>	</a:t>
            </a:r>
            <a:r>
              <a:rPr b="0" lang="es-CL" sz="2800" spc="-1" strike="noStrike">
                <a:solidFill>
                  <a:srgbClr val="ffffcc"/>
                </a:solidFill>
                <a:latin typeface="Times New Roman"/>
              </a:rPr>
              <a:t>   Legalidad y Equidad.</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s parci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Es impar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inalidad es satisfacer      Resolver conflicto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necesidades pública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 Contencioso Administrativo</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TAREA: Estudiar páginas 143 a 146 de la Separata “Derecho Procesal Orgánico, Introducción. La Jurisdicción. La Competencia”, del Profesor Cristián Maturana. Marzo 2003</a:t>
            </a: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ocer las pretensiones del actor  y las alegaciones, excepciones o defensas del demandado y la realización de la actividad probatoria para acreditar los hechos en los cuales ellas se sustentan. </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Art. 73 CPR, Art. 1 COT, Arts. 108 y sgtes. COT: se refieren a la “facultad de conocer”.</a:t>
            </a:r>
            <a:endParaRPr b="0" lang="en-US" sz="3200" spc="-1" strike="noStrike">
              <a:solidFill>
                <a:srgbClr val="ffffcc"/>
              </a:solidFill>
              <a:latin typeface="Times New Roman"/>
            </a:endParaRPr>
          </a:p>
        </p:txBody>
      </p:sp>
      <p:sp>
        <p:nvSpPr>
          <p:cNvPr id="10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Fase de conocimiento comprend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Etapa de </a:t>
            </a:r>
            <a:r>
              <a:rPr b="0" lang="es-CL" sz="3200" spc="-1" strike="noStrike">
                <a:solidFill>
                  <a:srgbClr val="ffffcc"/>
                </a:solidFill>
                <a:latin typeface="Times New Roman"/>
              </a:rPr>
              <a:t>Discusión, y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Etapa de Prueba y Discusión de la Prueba.</a:t>
            </a:r>
            <a:endParaRPr b="0" lang="en-US" sz="3200" spc="-1" strike="noStrike">
              <a:solidFill>
                <a:srgbClr val="ffffcc"/>
              </a:solidFill>
              <a:latin typeface="Times New Roman"/>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Proceso Civil: La Etapa de discusión está compuesta por la Demanda y la Contesta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Proceso Penal: La Etapa de discusión está compuesta por la Acusación del Fiscal y la acusación particular del querellante si lo hubiere y la Contestación a la acus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Etapa Probatoria consiste en recibir y realizar la prueba de los hechos controvertidos por las part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Proceso gira en torno a los Hechos y el Derech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juez conoce el Derecho. Las partes deben probar los Hech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Fase de conocimiento permite el cumplimiento de los siguientes principios del Debido Proces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Nadie puede ser condenado sin ser oído; 2.- La Bilateralidad de la audienci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Las sentencias deben dictarse conforme al mérito del proces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Fase de Juzgamiento es la que caracteriza la actividad jurisdiccional. Consiste en la reflexión, estudio, análisis de los hechos y el Derecho y en la decisión del conflicto jurídico mediante un acto de voluntad que se denomina sentenci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73 CPR. “facultad de juzga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n nuestro Derecho, prima la Jurisdicción de Derecho y en forma supletoria opera la Jurisdicción de Equida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de Derecho: Art. 170 CPC y 500 CPP. El juez aplica la legislación vigente. Recurso de Casación en el Fon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40:25Z</dcterms:modified>
  <cp:revision>314</cp:revision>
  <dc:subject/>
  <dc:title>Inter-American Convention: Dead or Alive?</dc:title>
</cp:coreProperties>
</file>