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8E6DA-E723-4699-9D9F-2A227CAFC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E2CBB-3916-4F64-BDFE-BF5B53A16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3BD4F-63B3-4A85-89D5-F66351E93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C3F12-4E82-4961-B045-DF9CB4497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07612-524A-4230-8DF8-929D3A048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3DC1E-28BE-4DF2-9005-7884C7002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98A7E-28E9-43A7-8363-DF723ABD9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BA4D9-9CAC-4527-BD03-9FE975F3D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D7970-62F4-4FD5-9F83-B72A836C6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DAAE5-6D41-4376-9BE4-47343529B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9618C-B2FC-46E1-8A12-B5BEBE478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E61B-3ABC-4849-9626-327491535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C3D96-00C4-4DDD-BBC5-2F04EAE36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A9690-25CB-4163-B0DE-CD4069665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CCBBF-D0B9-45F4-9874-B8A5DBBEC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E268B-B7B4-4F93-A299-C1ED025E2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7AC75-9F80-414E-9F25-3D09448CC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51644-A7FA-4399-8427-8F47DC9A3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419D2-F91C-47BF-BF06-91C0C7FDF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48AA4-7017-437F-9D36-332E55A99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7FC4-AAA3-48BF-976B-2AE4D0B28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A3A8B-A06F-4E20-89B7-1BE7CC985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8C043-C7C8-442E-B54B-5A01B169D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2417B-0791-49E0-B2DE-E2E58B2C0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3C85-C7BA-48B3-B58C-CEAF70686EE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63A3-C4F4-48BB-B9E2-36CB792019E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ases del Ejercicio de la  Jurisdicción</a:t>
            </a:r>
            <a:endParaRPr b="0" lang="en-US" sz="4400" spc="-1" strike="noStrike">
              <a:solidFill>
                <a:srgbClr val="ffcc00"/>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Son los principios establecidos por la ley para el adecuado y eficiente funcionamiento de los órganos jurisdiccionales.</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Inamovilidad</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imes New Roman"/>
              </a:rPr>
              <a:t>	</a:t>
            </a:r>
            <a:r>
              <a:rPr b="0" lang="en-US" sz="3200" spc="-1" strike="noStrike">
                <a:solidFill>
                  <a:srgbClr val="ffffcc"/>
                </a:solidFill>
                <a:latin typeface="Arial"/>
                <a:ea typeface="Times New Roman"/>
              </a:rPr>
              <a:t>Calificación.</a:t>
            </a:r>
            <a:endParaRPr b="0" lang="en-US" sz="3200" spc="-1" strike="noStrike">
              <a:solidFill>
                <a:srgbClr val="ffffcc"/>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imes New Roman"/>
              </a:rPr>
              <a:t>	</a:t>
            </a:r>
            <a:r>
              <a:rPr b="0" lang="en-US" sz="3200" spc="-1" strike="noStrike">
                <a:solidFill>
                  <a:srgbClr val="ffffcc"/>
                </a:solidFill>
                <a:latin typeface="Arial"/>
                <a:ea typeface="Times New Roman"/>
              </a:rPr>
              <a:t>Remoción acordada por la CS conforme al artículo 77 CPR.</a:t>
            </a:r>
            <a:endParaRPr b="0" lang="en-US" sz="3200" spc="-1" strike="noStrike">
              <a:solidFill>
                <a:srgbClr val="ffffcc"/>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imes New Roman"/>
              </a:rPr>
              <a:t>	</a:t>
            </a:r>
            <a:r>
              <a:rPr b="0" lang="en-US" sz="3200" spc="-1" strike="noStrike">
                <a:solidFill>
                  <a:srgbClr val="ffffcc"/>
                </a:solidFill>
                <a:latin typeface="Arial"/>
                <a:ea typeface="Times New Roman"/>
              </a:rPr>
              <a:t>Juicio de Amovilidad.</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onsabilidad</a:t>
            </a:r>
            <a:endParaRPr b="0" lang="en-US" sz="4400" spc="-1" strike="noStrike">
              <a:solidFill>
                <a:srgbClr val="ffcc00"/>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	</a:t>
            </a:r>
            <a:r>
              <a:rPr b="0" lang="en-US" sz="3200" spc="-1" strike="noStrike">
                <a:solidFill>
                  <a:srgbClr val="ffffcc"/>
                </a:solidFill>
                <a:latin typeface="Times New Roman"/>
                <a:ea typeface="Times New Roman"/>
              </a:rPr>
              <a:t>a) Responsabilidad Común: civil o penal, considerada para efectos del fuero.</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b)Responsabilidad Disciplinaria: en el uso de sus facultades. </a:t>
            </a: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c) Responsabilidad Política: sólo se hace efectiva respecto de los tribunales superiores de justicia a través de la acusación constitu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onsabilidad</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Responsabilidad Ministerial</a:t>
            </a:r>
            <a:r>
              <a:rPr b="0" lang="en-US" sz="3200" spc="-1" strike="noStrike" u="sng">
                <a:solidFill>
                  <a:srgbClr val="ffffcc"/>
                </a:solidFill>
                <a:uFillTx/>
                <a:latin typeface="Times New Roman"/>
                <a:ea typeface="Times New Roman"/>
              </a:rPr>
              <a:t>:</a:t>
            </a:r>
            <a:r>
              <a:rPr b="0" lang="en-US" sz="3200" spc="-1" strike="noStrike">
                <a:solidFill>
                  <a:srgbClr val="ffffcc"/>
                </a:solidFill>
                <a:latin typeface="Times New Roman"/>
                <a:ea typeface="Times New Roman"/>
              </a:rPr>
              <a:t> proviene del mal ejercicio de la función jurisdiccional.  Se divide en do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Responsabilidad Penal Ministerial: Examen de admisibilidad o calificación previa de procedencia del proceso en contra del juez, a través del desafuero o Querella de Capítulos.</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ependencia</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Responsabilidad Civil: No se señala expresamente como se hace la calificación previa. Para algunos es por vía incidental, y para otros debe tramitarse en procedimiento sumario. De todos modos es necesario cumplir determinados requisitos adicio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onsabilidad</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	</a:t>
            </a:r>
            <a:r>
              <a:rPr b="0" lang="en-US" sz="2800" spc="-1" strike="noStrike">
                <a:solidFill>
                  <a:srgbClr val="ffffcc"/>
                </a:solidFill>
                <a:latin typeface="Arial"/>
                <a:ea typeface="Times New Roman"/>
              </a:rPr>
              <a:t>1.-</a:t>
            </a:r>
            <a:r>
              <a:rPr b="1" i="1" lang="en-US" sz="2800" spc="-1" strike="noStrike">
                <a:solidFill>
                  <a:srgbClr val="ffffcc"/>
                </a:solidFill>
                <a:latin typeface="Arial"/>
                <a:ea typeface="Times New Roman"/>
              </a:rPr>
              <a:t> </a:t>
            </a:r>
            <a:r>
              <a:rPr b="0" lang="en-US" sz="3200" spc="-1" strike="noStrike">
                <a:solidFill>
                  <a:srgbClr val="ffffcc"/>
                </a:solidFill>
                <a:latin typeface="Times New Roman"/>
                <a:ea typeface="Times New Roman"/>
              </a:rPr>
              <a:t>Que el proceso del cual deriva la responsabilidad se encuentre terminado por sentencia ejecutoriada;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2.- Que se hayan entablado dentro del proceso todos los recursos que la ley contempla para la reparación del agravio causado; y,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sponsabilidad</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600" spc="-1" strike="noStrike">
                <a:solidFill>
                  <a:srgbClr val="ffffcc"/>
                </a:solidFill>
                <a:latin typeface="Times New Roman"/>
                <a:ea typeface="Times New Roman"/>
              </a:rPr>
              <a:t>3.-  La demanda para hacer efectiva la responsabilidad, debe deducirse en un plazo de seis meses, desde que se encuentre firme la sentencia de la causa.</a:t>
            </a:r>
            <a:endParaRPr b="0" lang="en-US" sz="3600" spc="-1" strike="noStrike">
              <a:solidFill>
                <a:srgbClr val="ffffcc"/>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erritorialidad</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n-US" sz="3600" spc="-1" strike="noStrike">
                <a:solidFill>
                  <a:srgbClr val="ffffcc"/>
                </a:solidFill>
                <a:latin typeface="Times New Roman"/>
                <a:ea typeface="Times New Roman"/>
              </a:rPr>
              <a:t>El tribunal sólo puede actuar dentro de su territorio. (El hecho de que un juez conozca de un asunto no impide que dicte resoluciones que se ejecutarán en otro territorio a través de exhortos).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erritorialidad</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n-US" sz="3200" spc="-1" strike="noStrike">
                <a:solidFill>
                  <a:srgbClr val="ffffcc"/>
                </a:solidFill>
                <a:latin typeface="Times New Roman"/>
                <a:ea typeface="Times New Roman"/>
              </a:rPr>
              <a:t>Excepcion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Actuaciones de los Jueces del Crimen de Santiago y Chacabuco (artículo 43 CO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Inspección personal del tribunal (puede hacerlo fuera de su territorio).</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Juez del Crimen que conoce de delitos en varias comuna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Jerarquía o Grado</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n-US" sz="3200" spc="-1" strike="noStrike">
                <a:solidFill>
                  <a:srgbClr val="ffffcc"/>
                </a:solidFill>
                <a:latin typeface="Times New Roman"/>
                <a:ea typeface="Times New Roman"/>
              </a:rPr>
              <a:t>En el Poder Judicial se verifica a través de su estructuración piramidal, que reviste especial importancia porque delimita la competencia, consagra el principio de la doble instancia, y permite entender la regla general de la competencia de la jerarquía o grado</a:t>
            </a:r>
            <a:r>
              <a:rPr b="0" lang="en-US" sz="3600" spc="-1" strike="noStrike">
                <a:solidFill>
                  <a:srgbClr val="ffffcc"/>
                </a:solidFill>
                <a:latin typeface="Times New Roman"/>
                <a:ea typeface="Times New Roman"/>
              </a:rPr>
              <a:t>.  </a:t>
            </a:r>
            <a:endParaRPr b="0" lang="en-US" sz="3600" spc="-1" strike="noStrike">
              <a:solidFill>
                <a:srgbClr val="ffffcc"/>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Publicidad</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n-US" sz="3200" spc="-1" strike="noStrike">
                <a:solidFill>
                  <a:srgbClr val="ffffcc"/>
                </a:solidFill>
                <a:latin typeface="Times New Roman"/>
                <a:ea typeface="Times New Roman"/>
              </a:rPr>
              <a:t>Artículo 9 COT Los actos de los tribunales son públicos, salvo excepciones expresamente establecidas en la ley. Las excepciones constituyen lo que se denomina el secreto, el cual puede ser:</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Absoluto: El acto no puede ser dado a conocer ni a las partes ni a los terceros.</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galidad</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n-US" sz="3200" spc="-1" strike="noStrike">
                <a:solidFill>
                  <a:srgbClr val="ffffcc"/>
                </a:solidFill>
                <a:latin typeface="Times New Roman"/>
                <a:ea typeface="Times New Roman"/>
              </a:rPr>
              <a:t>a)      Orgánico: Se traduce en dos principios básicos:</a:t>
            </a:r>
            <a:endParaRPr b="0" lang="en-US" sz="3200" spc="-1" strike="noStrike">
              <a:solidFill>
                <a:srgbClr val="ffffcc"/>
              </a:solidFill>
              <a:latin typeface="Times New Roman"/>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Sólo en virtud de una ley se pueden crear tribunales.</a:t>
            </a:r>
            <a:endParaRPr b="0" lang="en-US" sz="3200" spc="-1" strike="noStrike">
              <a:solidFill>
                <a:srgbClr val="ffffcc"/>
              </a:solidFill>
              <a:latin typeface="Times New Roman"/>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La organización y atribuciones de los tribunales son materia de ley orgánica constitucional, que en definitiva no es otra que el COT (artículo 5 Transitorio CPR).</a:t>
            </a:r>
            <a:endParaRPr b="0" lang="en-US" sz="3200" spc="-1" strike="noStrike">
              <a:solidFill>
                <a:srgbClr val="ffffcc"/>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Publicidad</a:t>
            </a:r>
            <a:endParaRPr b="0" lang="en-US" sz="4400" spc="-1" strike="noStrike">
              <a:solidFill>
                <a:srgbClr val="ffcc00"/>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Relativo: Pueden tener conocimiento del acto una o ambas partes, pero no los terceros.</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Sedentariedad</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n-US" sz="3200" spc="-1" strike="noStrike">
                <a:solidFill>
                  <a:srgbClr val="ffffcc"/>
                </a:solidFill>
                <a:latin typeface="Times New Roman"/>
                <a:ea typeface="Times New Roman"/>
              </a:rPr>
              <a:t>Los tribunales deben tener un asiento dentro del cual ejercen su jurisdicción.</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Pasividad </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Artículo 10 COT: Los tribunales actúan a petición de parte, salvo que la ley los faculte expresamente para actuar de oficio. La gran excepción es el Procedimiento por Crimen o Simple Delito de Acción Penal Pública, en que no sólo lo puede iniciar de oficio el juez, sino que además también investiga de oficio durante toda la fase del sumario crimin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imes New Roman"/>
                <a:ea typeface="Times New Roman"/>
              </a:rPr>
              <a:t>  </a:t>
            </a:r>
            <a:r>
              <a:rPr b="0" lang="en-US" sz="4400" spc="-1" strike="noStrike">
                <a:solidFill>
                  <a:srgbClr val="ffcc00"/>
                </a:solidFill>
                <a:latin typeface="Times New Roman"/>
                <a:ea typeface="Times New Roman"/>
              </a:rPr>
              <a:t>Competencia Común</a:t>
            </a:r>
            <a:endParaRPr b="0" lang="en-US" sz="4400" spc="-1" strike="noStrike">
              <a:solidFill>
                <a:srgbClr val="ffcc00"/>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En Chile la regla general es la competencia común, esto es, que los tribunales son competentes para conocer toda clase de asuntos. Sin embargo, existen algunas manifestaciones de especialida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Competencia Común</a:t>
            </a:r>
            <a:endParaRPr b="0" lang="en-US" sz="4400" spc="-1" strike="noStrike">
              <a:solidFill>
                <a:srgbClr val="ffcc00"/>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a)      Tribunales Especial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b)      Jueces de Letras de Comunas Principales: Se divide la competencia civil y penal.</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c)      Corte Suprema: A partir de la Ley N°19.374 funciona en salas especializadas, tanto en funcionamiento ordinario como extraordinario.</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galidad</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n-US" sz="3200" spc="-1" strike="noStrike">
                <a:solidFill>
                  <a:srgbClr val="ffffcc"/>
                </a:solidFill>
                <a:latin typeface="Times New Roman"/>
                <a:ea typeface="Times New Roman"/>
              </a:rPr>
              <a:t>Funcional: Los tribunales deben actuar dentro del marco que les fija la ley (artículos 6 y 7 CPR). </a:t>
            </a:r>
            <a:endParaRPr b="0" lang="en-US" sz="3200" spc="-1" strike="noStrike">
              <a:solidFill>
                <a:srgbClr val="ffffcc"/>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Normas de la competencia: la nulidad procesal. </a:t>
            </a:r>
            <a:endParaRPr b="0" lang="en-US" sz="3200" spc="-1" strike="noStrike">
              <a:solidFill>
                <a:srgbClr val="ffffcc"/>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Los tribunales deben resolver los conflictos dando plena aplicación a la ley: el recurso de casación en el fondo.</a:t>
            </a:r>
            <a:endParaRPr b="0" lang="en-US" sz="3200" spc="-1" strike="noStrike">
              <a:solidFill>
                <a:srgbClr val="ffffcc"/>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galida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n-US" sz="3200" spc="-1" strike="noStrike">
                <a:solidFill>
                  <a:srgbClr val="ffffcc"/>
                </a:solidFill>
                <a:latin typeface="Times New Roman"/>
                <a:ea typeface="Times New Roman"/>
              </a:rPr>
              <a:t>Excepcion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Cuando no hay ley para la resolución del conflicto en materia civil,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árbitros arbitradores.</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galidad</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Garantía Constitucional: Se traduce en el principio de igual protección de los derechos de la persona dentro de la actividad jurisdiccional</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ependencia</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1" lang="en-US" sz="2800" spc="-1" strike="noStrike">
                <a:solidFill>
                  <a:srgbClr val="ffffcc"/>
                </a:solidFill>
                <a:latin typeface="Arial"/>
                <a:ea typeface="Times New Roman"/>
              </a:rPr>
              <a:t>a</a:t>
            </a:r>
            <a:r>
              <a:rPr b="0" lang="en-US" sz="3200" spc="-1" strike="noStrike">
                <a:solidFill>
                  <a:srgbClr val="ffffcc"/>
                </a:solidFill>
                <a:latin typeface="Times New Roman"/>
                <a:ea typeface="Times New Roman"/>
              </a:rPr>
              <a:t>)    </a:t>
            </a:r>
            <a:r>
              <a:rPr b="0" lang="en-US" sz="3200" spc="-1" strike="noStrike" u="sng">
                <a:solidFill>
                  <a:srgbClr val="ffffcc"/>
                </a:solidFill>
                <a:uFillTx/>
                <a:latin typeface="Times New Roman"/>
                <a:ea typeface="Times New Roman"/>
              </a:rPr>
              <a:t>Independencia Orgánica o Política:</a:t>
            </a:r>
            <a:r>
              <a:rPr b="0" lang="en-US" sz="3200" spc="-1" strike="noStrike">
                <a:solidFill>
                  <a:srgbClr val="ffffcc"/>
                </a:solidFill>
                <a:latin typeface="Times New Roman"/>
                <a:ea typeface="Times New Roman"/>
              </a:rPr>
              <a:t> Tiene que existir un poder judicial autónomo respecto de los demás poderes del Estado. La autonomía se refleja en el artículo 73 CPR y en los artículos 4 y 12 CO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ependencia</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b)  </a:t>
            </a:r>
            <a:r>
              <a:rPr b="0" lang="en-US" sz="3200" spc="-1" strike="noStrike" u="sng">
                <a:solidFill>
                  <a:srgbClr val="ffffcc"/>
                </a:solidFill>
                <a:uFillTx/>
                <a:latin typeface="Times New Roman"/>
                <a:ea typeface="Times New Roman"/>
              </a:rPr>
              <a:t>Independencia Funcional:</a:t>
            </a:r>
            <a:r>
              <a:rPr b="0" lang="en-US" sz="3200" spc="-1" strike="noStrike">
                <a:solidFill>
                  <a:srgbClr val="ffffcc"/>
                </a:solidFill>
                <a:latin typeface="Times New Roman"/>
                <a:ea typeface="Times New Roman"/>
              </a:rPr>
              <a:t> Se manifiesta en que el poder judicial ejerce su función sin que los otros poderes del Estado puedan inmiscuirse de cualquier forma en el ejercicio de la jurisdicció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ndependencia</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ea typeface="Times New Roman"/>
              </a:rPr>
              <a:t>c)  </a:t>
            </a:r>
            <a:r>
              <a:rPr b="0" lang="en-US" sz="3200" spc="-1" strike="noStrike" u="sng">
                <a:solidFill>
                  <a:srgbClr val="ffffcc"/>
                </a:solidFill>
                <a:uFillTx/>
                <a:latin typeface="Times New Roman"/>
                <a:ea typeface="Times New Roman"/>
              </a:rPr>
              <a:t>Independencia personal:</a:t>
            </a:r>
            <a:r>
              <a:rPr b="0" lang="en-US" sz="3200" spc="-1" strike="noStrike">
                <a:solidFill>
                  <a:srgbClr val="ffffcc"/>
                </a:solidFill>
                <a:latin typeface="Times New Roman"/>
                <a:ea typeface="Times New Roman"/>
              </a:rPr>
              <a:t> Existe cuando el juez solo está sometido a su conciencia y a la ley para la resolución de un conflicto, es decir, cuando no está presionado por nada ni nadie. Esta independencia no es total pues si hay contacto con los otros poderes del Estado, los poderes se controlan entre sí.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Times New Roman"/>
              </a:rPr>
              <a:t>Inamovilidad</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n-US" sz="3200" spc="-1" strike="noStrike">
                <a:solidFill>
                  <a:srgbClr val="ffffcc"/>
                </a:solidFill>
                <a:latin typeface="Times New Roman"/>
                <a:ea typeface="Times New Roman"/>
              </a:rPr>
              <a:t>Los jueces duran en sus funciones mientras dure su buen comportamiento ( y hasta que cumplan 75 años de edad, según la Constitución). Esta garantía no es absoluta, sino que tiene un cortapisa, que es el buen comportamiento, concepto a partir del cual derivan una serie de mecanismos para ponerle términ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41:22Z</dcterms:modified>
  <cp:revision>381</cp:revision>
  <dc:subject/>
  <dc:title>Inter-American Convention: Dead or Alive?</dc:title>
</cp:coreProperties>
</file>