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197-3E8B-46F3-9F29-75FDF3D5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B52-209A-4DDE-9B6C-644EE390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A1E-883C-4FA7-980D-DE57C5DE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45F-0A30-46EF-9345-7057B862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21D6-2243-429B-B7AD-8B212A15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4C48-6436-44A7-AAA0-14B2CB9B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9500-33C4-4262-A72F-71AE72E8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BD07-E6E3-4DF2-B0AC-21504D9D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2219-43CA-4F72-8B9A-0B9EE76E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2DCB-76B2-40E7-B5E8-33B545A5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CEA-4B39-4077-AD22-99E375E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79B-AEF7-4CDB-AEDA-78704F4B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B37B-7C38-41B1-A91B-C2BD4B99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092F-7D8F-4198-B5CA-3D02B60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CDF1-C997-4DF9-A277-7CB1C042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A396-45DC-4A28-B414-CEFF369B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72DC-B36E-4B87-B882-AF49A974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CEB-57B8-4372-89BB-85477137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9E6-EEED-4135-A482-5DDECEF8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97A-F7A3-48B2-94A6-DC99AF27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9CC-EFA9-460F-A184-7904CC4C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4D0-BF3A-4134-BCA3-32376EF0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47C-EBEE-4EB5-AA89-98C5B478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AF9-7AA5-4E37-B05D-B20647AD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48C6-1542-476E-93B9-0C82485E371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E9B1-D4C2-4B44-BA0D-6F7DA82DE9E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untes de Clases preparados por la profesora Carola Canelo para el Curso Derecho Procesal I utilizando como base bibliográfica  los Apuntes del profesor Cristián Maturana M. “Derecho Procesal Orgánico”, de fecha Marzo de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Los Tratados Internacionales como fuentes del Derecho Procesa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blemas de interpret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flicto entre derechos consagrados en los Tratados sobre DDHH y la CP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ben ser resueltos por el tribunal del fon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ros trat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de Derecho Internacional Privado, o Código de Bustamante, publicado en el D. Oficial el 25 de Abril de 193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242 CPC, los tratados son la primera fuente a aplicar para la aplicación de las sentencias extranjeras en Chi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Concepto Tratado Internacion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n acuerdos o pactos entre Estados para regular sus relaciones entre sí, tanto políticas como económ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Pacta Sunt Servanda opera a su respe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ejercicio de la soberanía reconoce como limitación el respeto a los derechos esenciales que emanan de la persona humana. Es deber de los órganos del Estado respetar y promover tales derechos, garantizados por esta Constitución, así como los tratados internacionales ratificados por Chile y que se encuentren vigentes”. Inc 2 Art. 5 CPR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Rango Constitucional: los que se refieren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 los derechos esenciales que emanan de la persona humana. Art. 5 CP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go legal: los que se refieran a otras materias.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sitos para que produzca efecto un Tratado en Chi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uscrito y ratificado por Chile; 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Que se encuentre vigen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demás, según la jurisprudencia de la C.Suprema se requiere que el tratado haya sido publicado en el Diario Ofici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to Internacional sobre Derechos Civiles y Políticos, publicado en el D. Oficial el 29 de Abril de 1989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Protocolo Facultativo del Pacto Internacional de Derechos Civiles y Políticos, publicado en el D. Oficial el 20 de Agosto de 1992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vención Americana de Derechos Humanos o Pacto de San José de Costa Rica, publicada en el D.Oficial el 5 de Ener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contra la Tortura, publicada en el D.Oficial el 13 de marz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Interamericana  contra la Tortura, publicada en el D.Oficial el 26 de Noviembre de 1988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retiro de reservas fue publicado en el D. Oficial el 13 de enero de 1991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La Convención sobre Eliminación de todas las Formas de Discriminación contra la Mujer, publicado en el D. Oficial el 9 de diciembre de 1989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sobre los Derechos del Niño publicada en el D. Oficial el 27 de Septiembre de 199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37:51Z</dcterms:modified>
  <cp:revision>198</cp:revision>
  <dc:subject/>
  <dc:title>Inter-American Convention: Dead or Alive?</dc:title>
</cp:coreProperties>
</file>