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488-3C5B-4925-B094-3B6209E9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1B7-F855-482F-B2C4-61F05E7C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A4B-3506-4E47-A0F2-ABDF00BB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93E-9D1F-4FA2-B3F2-99F8D189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751A-A980-4DDD-A2B3-24F7AD47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0A76-154F-4D47-B7D8-B198FD95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7842-7242-4F57-836D-54956659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1950-812A-498A-83F0-2ECABFF2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65B-7A33-424E-B688-43BF176C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A37F-2AE3-4AE3-9585-9DA1C9A6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09F0-C72B-4D28-99DD-A3A886C7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DB9-C4AD-4FE1-A7F2-A7C53A0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D6C6-16E8-466E-9740-25D9F7F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346F-8B50-4497-AB88-2253D7C0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3D3F-FD56-482A-BD05-AA0A446D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6282-1A55-45AF-8B3A-140C5F81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6515-F9E1-4313-BAB5-72F316BA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B9A-7795-40B3-97BC-5B79F037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E51-6A00-41B4-ADF9-ED6502DB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DA3-078D-41F5-93BE-1AEDCDE9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F7D-AE01-498E-A2EB-2ACE7948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741-3872-452F-91F5-D4C35927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B24-4A1D-4611-A15A-9C849619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D21-7EEA-4220-AFB6-3D0477F0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AFFC-E69E-4F15-83F9-096CB325B05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F188-6BBF-4F81-81FB-9DA9ABD0574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untes de Clases preparados por la profesora Carola Canelo para el Curso Derecho Procesal I utilizando como base bibliográfica  los Apuntes del profesor Cristián Maturana M. “Derecho Procesal Orgánico”, de fecha Marzo de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Los Tratados Internacionales como fuentes del Derecho Procesa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blemas de interpret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flicto entre derechos consagrados en los Tratados sobre DDHH y la CP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ben ser resueltos por el tribunal del fon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ros trat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de Derecho Internacional Privado, o Código de Bustamante, publicado en el D. Oficial el 25 de Abril de 193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242 CPC, los tratados son la primera fuente a aplicar para la aplicación de las sentencias extranjeras en Chi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Concepto Tratado Internacion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n acuerdos o pactos entre Estados para regular sus relaciones entre sí, tanto políticas como económ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Pacta Sunt Servanda opera a su respe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ejercicio de la soberanía reconoce como limitación el respeto a los derechos esenciales que emanan de la persona humana. Es deber de los órganos del Estado respetar y promover tales derechos, garantizados por esta Constitución, así como los tratados internacionales ratificados por Chile y que se encuentren vigentes”. Inc 2 Art. 5 CPR.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erarquía de los Tratados Interna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erarquía de los Tratados Interna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Rango Constitucional: los que se refieren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 los derechos esenciales que emanan de la persona humana. Art. 5 CP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go legal: los que se refieran a otras materias.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sitos para que produzca efecto un Tratado en Chi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uscrito y ratificado por Chile; 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Que se encuentre vigen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demás, según la jurisprudencia de la C.Suprema se requiere que el tratado haya sido publicado en el Diario Ofici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to Internacional sobre Derechos Civiles y Políticos, publicado en el D. Oficial el 29 de Abril de 1989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Protocolo Facultativo del Pacto Internacional de Derechos Civiles y Políticos, publicado en el D. Oficial el 20 de Agosto de 1992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vención Americana de Derechos Humanos o Pacto de San José de Costa Rica, publicada en el D.Oficial el 5 de Enero de 199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contra la Tortura, publicada en el D.Oficial el 13 de marzo de 199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Interamericana  contra la Tortura, publicada en el D.Oficial el 26 de Noviembre de 1988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retiro de reservas fue publicado en el D. Oficial el 13 de enero de 1991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La Convención sobre Eliminación de todas las Formas de Discriminación contra la Mujer, publicado en el D. Oficial el 9 de diciembre de 1989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sobre los Derechos del Niño publicada en el D. Oficial el 27 de Septiembre de 199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37:51Z</dcterms:modified>
  <cp:revision>198</cp:revision>
  <dc:subject/>
  <dc:title>Inter-American Convention: Dead or Alive?</dc:title>
</cp:coreProperties>
</file>