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6B3BF-686F-48B2-AE1A-8041A5754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0521F-008A-44AF-AB4D-F64DE236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00AF2-B8D2-4DD8-9CC0-B0B9EABF9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6C6E4-7854-4AC7-9743-75FC70B0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40CAE-B4D1-48F2-8B1A-5315AAA52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04F3C-7332-4958-9588-6435CE4C3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859EE-639E-4A82-A70B-85713277D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4D4CD-9B00-45B1-81B1-4CC83A3BC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E257C-4289-4D09-89F3-0D4459412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31801-245A-45EC-A93A-11C4AAD82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9EBF6-97B9-4659-ABB4-B30E0187B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061D-6F1C-4364-A3A5-61ACF74EA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9B572-175F-4D53-8B81-7C450304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D1DAB-95D9-4CB4-B112-6877DE61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72F6C-B0D0-485D-9792-F594371EA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96859-188B-4E2E-B5AE-875760895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2B19E-792E-48F1-852F-A2F18C637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F587-0F7D-42FA-A914-AD4E0EECE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DF43D-6549-4123-9911-38401DB9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98AD5-B9AD-4552-9A4E-63E3063C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90B6-5B50-4EA3-B030-A5C87F13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621B-A85B-4430-9A5A-773495F8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EC944-2ADF-4E91-B532-FB09FE1D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4031-A934-4956-A0D2-DDC490120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A3CA-A696-4085-AC0C-B3D8B9BC45D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260C-8EED-4A71-AD37-38CBF1F22A6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Autos Acordados</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 forma de las sentencias definitivas de 1920 dictado por mandato de la ley N 339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el procedimiento del recurso de protección , dictado por la C. Suprema en virtud del artículo 2 del  Acta Constitucional N 3.   Este Auto Acordado se encuentra actualmente derogado. El recurso de protección está actualmente regulado en el Art. 20 de la CPR y por el Auto Acordado de 27 de Junio de 199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s materias que deberán ser conocidas por las salas de la Corte Suprema en su funcionamiento ordinario como extraordinario, en virtud del mandato del Art. 99 del COT. Auto Acordado del 1 de abril de 1998, publicado en el D. Oficial el 9 de abril de 1998.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698400" indent="-2685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meramente internos: tienen por objeto señalar los modos de actuar a los funcionarios del orden judicial y cuyas materias son solo de administración, destinados a lograr la mejor atención de los asuntos judiciales. Son instruc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xternos: aquellas disposiciones que afectan no sólo a los funcionarios judiciales sino a terceros ajenos en sus relaciones entre ellos y con el Poder Judicial. Son normas de procedimiento. Ej.:</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uto Acordado sobre tramitación y fallo del recurso de amparo de 19 de diciembre de 1932;</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sustanciación del recurso de inaplicabilidad de las leyes de 22 de marzo de 193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 Suprema sobre la vista de la causa de 2 de septiembre de 1994, publicado en el D. Oficial el 16 de Septiembre de 1994.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manados de la C. Suprema: cuya aplicación abarca normalmente todo el territorio nacional.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lcanza al territorio jurisdiccional de cada Corte de Apelacion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orte de Apelaciones de Stgo. sobre distribución de trabajo entre sus fiscales.</a:t>
            </a:r>
            <a:endParaRPr b="0" lang="en-US" sz="3200" spc="-1" strike="noStrike">
              <a:solidFill>
                <a:srgbClr val="ffffcc"/>
              </a:solidFill>
              <a:latin typeface="Times New Roman"/>
            </a:endParaRPr>
          </a:p>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A. de Stgo. de 19 de diciembre de 1988 y sus modificaciones sobre las menciones que deben contener las demandas y gestiones judiciales que se presenten a la Corte para su distribución a los juzgados civiles y del trabajo de su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 que los Autos Acordados tienen fuerza obligatoria porque son dictados dentro de la esfera de competencia de los tribunales superiores de justicia y su fundamentación se encuentra radicada en las facultades económicas que la CPR le otorga a la Corte Supre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Autos Acordados</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rmas jurídicas dictadas por los tribunales superiores de justicia en el ejercicio de sus facultades económicas, para regular ciertas materias que no han sido suficientemente reguladas por la ley o cuya regulación es necesaria para velar por el cumplimiento y el buen funcionamiento del servicio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internos, el funcionario judicial puede reclamar de su ilegalidad mediante un recurso de gracia ante el mismo tribunal que dictó el AA.</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externos, los terceros pueden reclamar ante el mismo tribunal o bien mediante acusación constitucional por notable abandono de deberes de los integrantes de la C.A o C.Supre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ublicidad de los </a:t>
            </a:r>
            <a:br>
              <a:rPr sz="4400"/>
            </a:br>
            <a:r>
              <a:rPr b="0" lang="en-US" sz="4400" spc="-1" strike="noStrike">
                <a:solidFill>
                  <a:srgbClr val="ffcc00"/>
                </a:solidFill>
                <a:latin typeface="Times New Roman"/>
              </a:rPr>
              <a:t>AA</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or los medios más apropiado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trata de AA de carácter y aplicación general dictados por la Corte Suprema deben ser publicados en el Diario Oficial. Art. 96 CO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forma de las sentencias de 1920:  Art. 170 y 785 del CPC.</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ajustes de cuantías.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recurso de protecció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s materias que deberán ser conocidas por las salas de la C.Suprema en su funcionamiento ordinario y extraordinari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vista de la causa. 199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organización jerárquica de los tribunales ordinarios de justicia en cuyo grado inferior se encuentran los jueces de letras y en la cúspide la Corte Suprema la que además de sus facultades jurisdiccionales, tiene la superintendencia directiva, correcional y económica sobre todos los tribunales de la nación. Art. 79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xma. Corte Suprema debe velar por el adecuado desempeño de los tribunales de justicia que forman parte del Poder Judici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fundamento de los Autos Acordados, son las facultades económicas que deben cumplir los tribunales superiores bajo el principio de la economí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ormas destinadas a señalar normas de comporta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eralmente son obligatori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lmente son de aplicación general, dirigido a todos o a toda una categoría de funcionarios del propio Poder Judicial o a personas extrañas a é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cc"/>
                </a:solidFill>
                <a:latin typeface="Times New Roman"/>
              </a:rPr>
              <a:t>Emanan de los tribunales superiores de justicia. La Corte Suprema puede dictarlos para tener vigencia en todo el territorio nacional y las Cortes de Apelaciones dentro de su respectivo territorio jurisdiccion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manifestación de la potestad reglamentaria de la Corte Suprema y las Cortes de Apela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án sujetos a la CPR y a la Ley. No puede ir más allá de la ley. Ej. de ilegalidad: sanciones que se encontraban en el Auto Acordado sobre el recurso de quej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meramente interno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extern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 C. Suprem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5:07Z</dcterms:modified>
  <cp:revision>196</cp:revision>
  <dc:subject/>
  <dc:title>Inter-American Convention: Dead or Alive?</dc:title>
</cp:coreProperties>
</file>