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A7E5-AFD0-4903-B9C0-FD4DD221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7CEC-1D67-4228-B7BA-6779F419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A0F0-20F6-427A-94DA-B4E8EA5B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F49A-19DD-4842-9F6A-AC1B8B46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FE0F-565C-4608-A488-88FB2C4A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425A-D051-4FCA-81CB-7C2E4428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6B3B-03FD-452C-80B8-FE65415C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FE2C-58AE-46D7-885B-B344255D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15D1-00D2-44E5-9E90-9BFF98E0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C4BE-3C91-42A8-943A-86CCF592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3C35-07A7-48B2-8047-217F63E1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FD39-FE81-444B-B3E3-1EB07BCF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4FBA-E993-4B85-881C-E08ABEFC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F3E9-C0DF-4309-A1CB-FF40AF43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1CE2-28C3-44D9-9298-70E0B830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C2C3-0AB2-4406-BC2C-0091DF70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BF8E-8A91-4647-87F8-36F7D889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E28D-2A9E-4FFE-9A89-4A679EA3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10A3-0521-43D8-80BC-24368C78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CA28-7E96-4914-BD1D-57769E28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6CD1-EE97-45DA-A27E-9A7B31D9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724C-E6DD-405B-9F34-F46C95CC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0E7E-9EFF-4C73-BAB7-77F3E712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A846-371C-4AB6-8B5A-3ADF5BFC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B85B-3F01-4535-9680-02786CE3402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3C0D-191F-4DBD-A3FB-13E47C5DF50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puntes de Clases preparados por la profesora Carola Canelo para el Curso Derecho Procesal I utilizando como base bibliográfica  los Apuntes del profesor Cristián Maturana M. “Derecho Procesal Orgánico”, de fecha Marzo de 200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EL CONFLICTO JURIDICO Y SUS FORMAS DE SOLUCION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Autotutela o Autodefen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aquella forma de solución del conflicto en que el sujeto por sus propios medios decide defenserse, autocuidarse y poner término al conflicto, mediante la imposición a la otra parte de su propia decision, incluso mediante el uso de la fuerza, sin acudir a un tercero imparcial para dirimir el asunto. Consiste en hacerse justicia por su propia man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Autotutela o Autodefen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a más primitiva de solución de conflict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pera la ley del más fuerte por sobre quien tiene necesariamente la raz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medida que progresa la humanidad se va restringiendo el uso de la autotutela, en algunos casos se prohibe y en otros se restringe su aplicac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gulación de la Autotutela o Autodefen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Ley del Talión, regulación de la guerra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Derecho Chileno, prohibe la autotutela y la sanciona civil y penalm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PR art 1, las personas nacen libres e iguales en dignidad y derechos, lo cual excluye implícitamente el uso de la fuerza como forma de solución del conflict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Autotutela o Autodefen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t. 19 N 1, 2 y 3 de la Constitución Política de la República (CPR), reconoce y garantiza la igualdad ante la ley y ante la justicia, y la igual protección de la ley en el ejercicio de los derechos , y el derecho a un debido proce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t. 73 de la CPR, todo conflicto debe ser resuelto a través de un proceso del cual conocerá un tribunal establecido por la le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Autotutela o Autodefen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ts. 73 de la CPR y art. 1 del COT: l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acultad de conocer de las causas civiles y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iminales, de resolverlas,y de hacer ejecut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 juzgado, pertenece exclusivamente a l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ribunales establecidos por la le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Autotutela o Autodefen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t. 1 del Nuevo Código Procesal Penal (NCPP): Ninguna persona podrá ser condenada o penada, ni sometida a una de las medidas de seguridad establecidas en este Código sino en virtud de una sentencia fundada dictada por un tribunal imparcial. Toda persona tiene derecho a un juicio previo, oral y público, desarrollado en conformidad a las normas de este cuerpo lega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Autotutela o Autodefen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ódigo Penal sanciona como delito el uso de la fuerza desde los delitos patrimoniales hasta el homicidi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Ley civil sanciona la fuerza como vicio de la voluntad con la nulidad de aquellos actos que se realizan bajo dicho vicio. Art. 1456 Código Civil (CC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Autotutela o Autodefen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ley procesal exige que la confesión sea libre y espontánea, de manera que si se obtiene mediante la fuerza o coacción no produce efecto como medio de prueb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asificacio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ícita o Autorizada ( ej. Legítima defensa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lerada (ej. Guerra defensiva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hibida (ej. Usurpación, amenazas, pacto comisorio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asificacio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o reacción a un agresión: legítima defensa del Art. 10, N 4 Cod. Pen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o acción que importa el ejercicio de un derecho subjetivo: la autoridad paterna, el corte directo de raices de arboles plantados en suelo ajeno, derecho de retencion  respecto del arrendatario, del comodatario, depositario, del acreedor prendari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conflicto de intereses surge cuand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a persona siente una necesidad y n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uede satisfacerla plenam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conflicto puede ser interno o extern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Qué es el conflicto de intereses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asificacio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o imperativo ante situaciones de excepción: el estado de necesidad, Art. 10 N 7 Cód. Penal, la obediencia debida y el cumplimiento de un deber, Art. 10 N 10 Cód. Penal y de Cód Justicia Milita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o recurso convencional de fuerza: la guerra defensiva según la Carta de la ONU y de la OE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asificacio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o coacción unilateral: la huelga, el lock out, regulados en el Cód. del Trabajo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utodefensa homologada: aquella que con posterioridad a ser ejercida extraprocesalmente, requiere ser convalidada dentro de un determinado proceso respecto del cumplimiento de sus requisitos condicionant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Autocomposi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la solución del conflicto por obra de los partícipes de éste, sea por mutuo acuerdo o por la decision reflexiva, renunciativa o altruista de una de las par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Autocomposi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a forma de solución de conflictos, sea que se haya llevado o no al proceso para su decis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a forma de solución de conflictos en que las partes en forma directa, sea con la asistencia o no de de terceros, determinan las condiciones en que se debe solucionar el conflict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Autocomposi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lo pueden autocomponer quienes tienen capacidad o facultades suficientes para adoptar un acuerdo, según las normas del Cód. Civil y si es dentro del proceso, el mandatario judicial requiere facultades especiales, inciso segundo Art. 7 CPC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a pacífica de solución de conflictos que emana de una decisión voluntaria de las par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utocomposi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ndencia a promover el uso de esta forma de solución de conflictos, como alternativo al uso del proceso, (ADR : Alternative Dispute Resolution), sistemas alternativos de solucion de conflict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ntaj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ormas Autocompositivas Unilater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renunc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desistimien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allanamien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Renun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el acto unilateral del titular de un derecho consistente en la decisión de no ejercer su derecho, y que ocurre antes de hacerlo valer en el proce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t. 12 Cod. Civil, pueden renunciarse los derechos conferidos por las leyes con tal que miren al solo interés individual del renunciante y no esté prohibida su renuncia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Renun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t. 28 Cód. de Procedimiento Penal y Art. 56 del NCPP, la persona ofendida puede renunciar la acción penal pública, sin embargo esta renuncia no extingue la acción penal pública.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renuncia opera sólo respecto del ofendido y sus sucesor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Renun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incipio de Legalidad, Art. 23 CPP, los oficiales del Ministerio Público tienen la obligación de ejercer la acción penal pública con respecto de todo delito que deba perseguirse de ofici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incipio de Oportunidad, los fiscales del Ministerio Público pueden no iniciar o abandonar la persecución penal cuando se trate de un hecho que no comprometiere gravemente el interés públic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flicto Interno de Intere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Aquel que se produce cuando es el propio sujeto el que debe ponderar las diversas alternativas tendientes a satisfacer algunas de sus necesidades ilimitadas y es por lo tanto resuelto por el propio sujeto mediante el sacrificio del interés que él determina menor en beneficio del interés que el estima mayor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Renun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e puede renunciar a la acción penal privada y a la acción civil. Esto produce la extinción de la acció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 Desist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s la renuncia que efectúa el demandante de la pretensión hecha valer en su demanda o  el demandado de la pretensión hecha valer en su reconvención dentro del proceso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ramitación incidental y se resuelve por sentencia interlocutoria que pone término al proceso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 Desist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l querellante puede desistirse de la acción penal pública. Efecto: el querellante deja de ser parte activa del proceso, pero no se extingue la acció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. de Legalidad sistema antigu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. De Oportunidad sistema nuev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 Desist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l querellante puede desistirse de la acción penal privada, lo que produce l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xtinción de la pretensión penal y la dictación del sobreseimiento definitivo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 Allana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la manifestación de voluntad por parte del demandado por el cual reconoce y se somete a la satisfacción de la pretensión hecha valer en su contra por el act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fecto: se elimina la fase probatoria del procedimiento civil, se cita a las partes a oír sentencia. Salvo en casos en que exista un interés públic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 Allana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Antiguo proceso penal: no opera el allanamiento del demandado para efectos de obviar la prueba, ya que la contestación de la acusación es un trámite esencial y el allanamiento sólo sirve para acreditar la participación pero no permite por sí solo acreditar el hecho punible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 Allana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Nuevo proceso penal: no es posible en el juicio oral, ya que en tal caso correspondería aplicar el procedimiento abreviado o la suspensión condicional del procedimiento o los acuerdos reparatorio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ormas Autocompositivas Bilater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transac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mediació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avenimien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conciliació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suspensión condicional del procedimien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s acuerdos reparatori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Transac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dio autocompositivo de carácter extrajudicial, bilateral y no asistido, destinado a precaver un litigio eventual o a poner término a un litigio pendiente, haciéndose las partes concesiones recíproc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Transac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teria Civil: Arts. 2446 y sgutes Cod. Civi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teria Penal: en los juicios de acción penal privada es posib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 el nuevo juicio penal también es posib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flicto Externo de Intere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Es el que surge de la presencia de intere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discrepantes de dos o más personas que s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manifiestan mediante una acción u omi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que produce un cambio en el mundo extern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Puede surgir en diversos ámbitos,con respec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a un sujeto, a la familia, a un grupo social, al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Estado, a otros países, etc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Transac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étodo autocompositivo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étodo autocompositivo directo: no existe la asistencia de un tercero que asesore a las partes en su celebrac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o acto jurídico bilater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procesal: destinado a producir efectos en el proce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Transac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s partes hacen concesiones recíproc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extrajudici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regulado en la ley, sólo puede ser celebrado en los casos que ella señal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mandatario judicial requiere de facultades especiales (comprende la de avenir y conciliar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Transac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a excepción perentoria, mixta, y anómal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consensual, sin embargo cuando se celebra por escritura pública constituye título ejecutiv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duce el efecto de cosa juzgada en última instancia. Art. 2460 Cód. Civi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Med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 de carácter extrajudicial, bilateral y asistido, destinado a precaver un litigio eventual o a poner término a un litigio pendi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Med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se encuentra regulada orgánicamente en nuestra legislación. Es facultativa en la negociación coletiva labor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étodo autocompositiv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 negociación asistid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tercero que asiste a la partes no tiene poder de decis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confidenci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Med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proceso de informalidad relativa y flexib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proceso creativo en cuanto a la adopción de la solución del conflict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 Aven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 de carácter extrajudicial, bilateral y no asistido, destinado a poner término a un litigio pendi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l Aven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étodo autocompositivo para poner término a un litigio pendi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 direct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o acto jurídico bilater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proces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judicial, ya que si bien se celebra fuera del proceso, se debe poner en conocimiento del tribunal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l Aven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no regulado sistemáticamente en la le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título ejecutivo el acta de avenimiento pasada ante tribunal competente y autorizada por un ministro de fe o por dos testigos de actuación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l Aven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s interpretaciones respecto al requisito: “Pasada ante tribunal competente”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f. Mario Mosquera: debe existir constancia de la agregación material del avenimiento en el expediente. No se requiere la aprobación del tribunal, basta una resolución “téngase presente”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f. Colombo: se requiere aprobación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flicto Externo de Intere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onflicto externo de intereses de relevancia juríd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onflicto externo de intereses sin relevancia jurídic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l Aven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mandatario judicial requiere facultades especia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avenimiento pasado ante tribunal competente pone término al proceso y produce el efecto de cosa juzgad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Concil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 de carácter judicial, bilateral y asistido, destinado a poner término a un litigio pendi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Concil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étodo autocompositivo, pero se critica que no lo es puramente ya que supone la existencia de un proceso y de la actividad del juez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 asistido. El juez propone bases de arreglo. Sus opiniones no lo inhabilitan para seguir conociendo y resolver el conflict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Concil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partir de la Ley 19.334 del 7 de Octubre de 1994, en los juicios civiles, salvo las excepciones legales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juez está obligado a llamar a las partes a conciliación, después del período de discusión y antes de la recepción de la causa a prueba. El juez puede además llamar a conciliación en cualquier estado del juicio, evacuada la contestación de la demand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Concil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cede en forma obligatoria en el juicio labor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cede respecto de las acciones civiles ante los juzgados de policía loc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 los delitos de injuria y calumn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 los delitos de acción penal privada, art. 404 del NCPP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Concil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o acto jurídico bilater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procesal. Restricciones: solo versa respecto de las pretensiones y contrapretensiones hechas valer en el proce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judicial: se celebra ante el juez en un acta que deberán suscribir las partes que lo deseen, el juez y el secretario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Concil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regulado en la ley. Título II del Libro II del CP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llamado a conciliación es un trámite o diligencia esencial en la primera instancia, cuya omisión hace procedente el recurso de casación en la forma en contra de la sentencia que se dicte. Arts 795 N 2 y 768 N 9 CP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Concil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mandatario judicial requiere de facultades especiales para concilia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acta de conciliación se considera como una sentencia ejecutoriada para todos los efectos legales (Art. 267 CPC) y produce el efecto de cosa juzgada (Art. 175 CPC) y constituye un título ejecutivo perfecto (Art. 434 N 1 CPC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Suspensión Condicional del Proced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 de carácter judicial, bilateral y no asistido, celebrado entre el fiscal y el imputado dentro del nuevo proceso penal; que requiere ser homologado por el juez de garantía y que se celebra con el fin de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spender el procedimiento 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Suspensión Condicional del Proced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ducir al término del litigio penal pendiente respecto de un delito de acción penal pública en caso de cumplirse los requisitos establecidos en la resolución que concede el benefici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flicto externo de intereses de relevancia jurídic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quellos que se generan cuando un sujeto, con su acción u omision, produce como resultado el quebrantamiento del ordenamiento jurídico (sea una norma jurídica imperativa, prohibitiva o permisiva).  Sinónimo de litigi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Suspensión Condicional del Proced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homologado, es el juez quien basado en el acuerdo fija las condicion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o acto jurídico bilater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procesal destinado a suspender el procedimiento penal para luego una vez cumplidas las condiciones ponerle términ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Suspensión Condicional del Proced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judicial: el juez de garantía puede decretar la suspensión sólo si se acuerda en una audiencia celebrada ante el juez por el fiscal y el imputa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regulado en la ley: en cuanto a su procedencia, el procedimiento que debe llevarse a cabo, las medidas de seguridad que se pueden disponer y su durac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Acuerdos Reparatori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 de carácter judicial, bilateral y no asistido, celebrado entre el imputado y la víctima dentro del nuevo sistema procesal penal, que requiere ser homologado por el juez de garantía y se celebra con el fin de convenir la reparación de las consecuencias por el delito y poner término al litigio penal pendiente respecto.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Acuerdos Reparatori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 un delito que afectare bienes jurídicos disponibles de carácter patrimonial, consistiere en lesiones menos graves o en delitos culposo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os Acuerdos Reparatori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dio autocompositivo: acuerdo entre l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íctima y el imputado que requiere ser aprobado por el juez de garantí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 homologado, que debe ser aprobado por el juez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o acto jurídico bilateral entre la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íctima y el imputado . Solo se debe oír al fiscal, pero su presencia no es necesar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os Acuerdos Reparatori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procesal: destinado a poner término al proceso penal, mediante un sobreseimiento definitivo. Art. 242 NCPP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ingue las acciones civi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judicial: requiere ser aprobado por el juez de garantí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regulado en la ley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Heterocomposición: el Proces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aquel medio de solución de conflicto en el cual las partes acuden a un tercero, ya sea una persona individual o colegiada, quien se compromete o está obligada en razón de su oficio, luego de la tramitación de un proceso, a emitir una decisión para la solución de un conflicto, cuyo cumplimiento deberán acatar las par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flicto externo de intereses sin relevancia jurídica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quellos que se generan cuando un sujeto, con su accion u omision, produce como resultado el quebrantamiento de normas que no constituyen normas jurídicas, sino que normas de orden moral o social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ITIGI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el conflicto de intereses externos de relevancia jurídica que requiere ser compuesto o resuelto para la mantención de la paz soci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 el conflicto de intereses caracterizado por la existencia de la pretension de uno de los interesados y la resistencia de otro u otros a satisfacerl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ORMAS DE SOLUCION DE LOS CONFLICT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Autotutela o Autodefen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Autocomposic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Heterecomposic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1T06:10:07Z</dcterms:created>
  <dc:creator>Alvaro Orellana Torres</dc:creator>
  <dc:description/>
  <dc:language>en-US</dc:language>
  <cp:lastModifiedBy>lucarna21</cp:lastModifiedBy>
  <dcterms:modified xsi:type="dcterms:W3CDTF">2005-09-21T16:34:18Z</dcterms:modified>
  <cp:revision>100</cp:revision>
  <dc:subject/>
  <dc:title>Inter-American Convention: Dead or Alive?</dc:title>
</cp:coreProperties>
</file>